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A0AA-F275-48ED-B902-93636F67071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ach der Auswertung der Bedingung Zahlungsart = ‘bar’ werden die Datensätze nach Kunden zu Gruppen zusammengefasst. Für jede Gruppe wird die Zahl der Datensätze bestimmt und zusammen mit dem Namen des Kunden in einer Tabelle ausgege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igentlich erfolgt die Auswahl der Datensätze erst im letzten Schritt. Aus Gründen der Übersichtlichkeit werden hier bereits in den Gruppierungen nicht alle Spalten dargestel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443-7E95-4700-8498-6AD3A552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A34A-817C-41AD-8A7F-2FBC39D6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4A9-4169-4470-962D-C6E1B865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115-496F-4CB9-8944-4F383FC7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CA0-070E-47DB-90BD-6E5C8897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65E-63B7-4BA4-AD9C-30F595DE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345-DF17-47D5-A988-F54E6A25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6B0-428E-48DA-8086-A8316433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1F07-62DD-4A67-B307-B96CE93F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543-800E-465F-A2AB-9999015A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5DE-0127-47C3-B70E-AC12492E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496-5087-412B-A50E-EEB26785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37BB-4D94-4B1C-B3EF-0DC61252B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881360"/>
            <a:ext cx="8388360" cy="1992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79640" y="1522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QL Aggregatfunkti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5335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SELECT MAX(P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FROM einkau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3280" y="4041720"/>
            <a:ext cx="2590920" cy="868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932360" y="2889360"/>
            <a:ext cx="719280" cy="33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479640" y="1522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QL Aggregatfunkti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33520"/>
            <a:ext cx="692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ELECT COUNT(Kunde) AS Anzah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FROM einkau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WHERE Zahlungsart = ’Karte’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5759280" cy="295740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826920" y="3645000"/>
            <a:ext cx="5573880" cy="1800000"/>
            <a:chOff x="826920" y="3645000"/>
            <a:chExt cx="5573880" cy="180000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826920" y="3645000"/>
              <a:ext cx="5573880" cy="179856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58" name=""/>
            <p:cNvSpPr/>
            <p:nvPr/>
          </p:nvSpPr>
          <p:spPr>
            <a:xfrm>
              <a:off x="4211640" y="3645000"/>
              <a:ext cx="503280" cy="18000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156360" y="4941720"/>
            <a:ext cx="2628720" cy="714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977080" y="1052640"/>
            <a:ext cx="1152360" cy="417672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9" dur="indefinite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851800" cy="300492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792000" y="3465360"/>
            <a:ext cx="6743880" cy="1836720"/>
            <a:chOff x="792000" y="3465360"/>
            <a:chExt cx="6743880" cy="183672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792000" y="3465360"/>
              <a:ext cx="6743880" cy="181188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64" name=""/>
            <p:cNvSpPr/>
            <p:nvPr/>
          </p:nvSpPr>
          <p:spPr>
            <a:xfrm>
              <a:off x="4860720" y="3465360"/>
              <a:ext cx="684360" cy="1836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479640" y="1522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QL Aggregatfunkti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33520"/>
            <a:ext cx="822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ELECT Kunde, COUNT(*) AS Anzah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FROM einkau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WHERE Zahlungsart = </a:t>
            </a: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’</a:t>
            </a:r>
            <a:r>
              <a:rPr b="0" lang="de-DE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bar</a:t>
            </a:r>
            <a:r>
              <a:rPr b="0" lang="de-DE" sz="2800" spc="-1" strike="noStrike">
                <a:solidFill>
                  <a:srgbClr val="ffff99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GROUP BY Kun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804000" y="4437000"/>
            <a:ext cx="2138400" cy="128916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6227640" y="4257720"/>
            <a:ext cx="792360" cy="1490400"/>
            <a:chOff x="6227640" y="4257720"/>
            <a:chExt cx="792360" cy="1490400"/>
          </a:xfrm>
        </p:grpSpPr>
        <p:sp>
          <p:nvSpPr>
            <p:cNvPr id="69" name=""/>
            <p:cNvSpPr/>
            <p:nvPr/>
          </p:nvSpPr>
          <p:spPr>
            <a:xfrm>
              <a:off x="6227640" y="4257720"/>
              <a:ext cx="79236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00720" y="4905720"/>
              <a:ext cx="666720" cy="36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6300720" y="5505120"/>
              <a:ext cx="611280" cy="2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032360" y="3573360"/>
            <a:ext cx="2280960" cy="2746440"/>
            <a:chOff x="4032360" y="3573360"/>
            <a:chExt cx="2280960" cy="2746440"/>
          </a:xfrm>
        </p:grpSpPr>
        <p:grpSp>
          <p:nvGrpSpPr>
            <p:cNvPr id="73" name=""/>
            <p:cNvGrpSpPr/>
            <p:nvPr/>
          </p:nvGrpSpPr>
          <p:grpSpPr>
            <a:xfrm>
              <a:off x="4032360" y="3573360"/>
              <a:ext cx="2280960" cy="2746440"/>
              <a:chOff x="4032360" y="3573360"/>
              <a:chExt cx="2280960" cy="2746440"/>
            </a:xfrm>
          </p:grpSpPr>
          <p:sp>
            <p:nvSpPr>
              <p:cNvPr id="74" name=""/>
              <p:cNvSpPr/>
              <p:nvPr/>
            </p:nvSpPr>
            <p:spPr>
              <a:xfrm>
                <a:off x="4032360" y="3573360"/>
                <a:ext cx="2280960" cy="27464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5" name=""/>
              <p:cNvGraphicFramePr/>
              <p:nvPr/>
            </p:nvGraphicFramePr>
            <p:xfrm>
              <a:off x="4105080" y="3718080"/>
              <a:ext cx="2158560" cy="6760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76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105080" y="3718080"/>
                        <a:ext cx="2158560" cy="676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7" name=""/>
              <p:cNvGraphicFramePr/>
              <p:nvPr/>
            </p:nvGraphicFramePr>
            <p:xfrm>
              <a:off x="4105080" y="5230800"/>
              <a:ext cx="2158560" cy="8478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78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105080" y="5230800"/>
                        <a:ext cx="2158560" cy="847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9" name=""/>
            <p:cNvGraphicFramePr/>
            <p:nvPr/>
          </p:nvGraphicFramePr>
          <p:xfrm>
            <a:off x="4105080" y="4581720"/>
            <a:ext cx="2160000" cy="504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105080" y="4581720"/>
                      <a:ext cx="2160000" cy="5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2" dur="indefinite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4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5" dur="indefinite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indefinite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16" dur="indefinite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17" dur="indefinite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5851440" cy="3004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479640" y="1522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QL Aggregatfunkti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33520"/>
            <a:ext cx="7162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ELECT Sparte, SUM(Preis) AS Su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FROM einkau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WHERE Kaufdatum = #8/26/2007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GROUP BY Sp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ORDER BY SUM(Preis) DES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19280" y="3897360"/>
            <a:ext cx="6011640" cy="1224000"/>
            <a:chOff x="719280" y="3897360"/>
            <a:chExt cx="6011640" cy="122400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719280" y="3897360"/>
              <a:ext cx="6010200" cy="1200240"/>
            </a:xfrm>
            <a:prstGeom prst="rect">
              <a:avLst/>
            </a:prstGeom>
            <a:ln w="25560">
              <a:solidFill>
                <a:srgbClr val="ff0000"/>
              </a:solidFill>
              <a:miter/>
            </a:ln>
          </p:spPr>
        </p:pic>
        <p:sp>
          <p:nvSpPr>
            <p:cNvPr id="86" name=""/>
            <p:cNvSpPr/>
            <p:nvPr/>
          </p:nvSpPr>
          <p:spPr>
            <a:xfrm>
              <a:off x="6048360" y="3897360"/>
              <a:ext cx="682560" cy="12240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472000" y="4552920"/>
            <a:ext cx="1905120" cy="68580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408720" y="5084640"/>
            <a:ext cx="233208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2" dur="indefinite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3" dur="indefinite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indefinite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4" dur="indefinite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5" dur="indefinite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6" dur="indefinite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7" dur="indefinite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indefinite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2" dur="indefinite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3" dur="indefinite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indefinite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4" dur="indefinite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5" dur="indefinite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6:18:49Z</dcterms:created>
  <dc:creator/>
  <dc:description/>
  <dc:language>en-US</dc:language>
  <cp:lastModifiedBy>Scheungrab</cp:lastModifiedBy>
  <dcterms:modified xsi:type="dcterms:W3CDTF">2007-01-08T16:50:01Z</dcterms:modified>
  <cp:revision>13</cp:revision>
  <dc:subject/>
  <dc:title/>
</cp:coreProperties>
</file>