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7D2-647A-4738-9C09-690B6F5F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6EC-3D1B-4911-9169-8BBF6AC0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0C7-27E0-4772-81FA-C0B89B22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C63-9056-4F29-895E-4715E8A1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2E0-AD70-4189-8737-09558745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99-5F04-4F30-BB8E-125A5128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CD9-F1EB-4D43-9B3D-ED65CE1D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028-6A7C-4ED4-9BCF-49FBF174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C05-ECB5-4284-B335-D8F1942D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43F-C898-43DB-9ACF-9F99718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43D-13B3-4C8E-AF12-7968D80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D35-956A-40F5-84FC-8E05AD1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0D74-1BC1-404A-AE4F-93AA9B784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63960" y="3716280"/>
            <a:ext cx="644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Ziel: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ste aller CD-Titel mit dem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til der jeweiligen B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68360" y="836640"/>
            <a:ext cx="7791120" cy="2736720"/>
            <a:chOff x="468360" y="836640"/>
            <a:chExt cx="7791120" cy="2736720"/>
          </a:xfrm>
        </p:grpSpPr>
        <p:grpSp>
          <p:nvGrpSpPr>
            <p:cNvPr id="44" name=""/>
            <p:cNvGrpSpPr/>
            <p:nvPr/>
          </p:nvGrpSpPr>
          <p:grpSpPr>
            <a:xfrm>
              <a:off x="5364000" y="1268280"/>
              <a:ext cx="2895480" cy="2301480"/>
              <a:chOff x="5364000" y="1268280"/>
              <a:chExt cx="2895480" cy="2301480"/>
            </a:xfrm>
          </p:grpSpPr>
          <p:sp>
            <p:nvSpPr>
              <p:cNvPr id="45" name=""/>
              <p:cNvSpPr/>
              <p:nvPr/>
            </p:nvSpPr>
            <p:spPr>
              <a:xfrm>
                <a:off x="5364000" y="1339560"/>
                <a:ext cx="2895480" cy="22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06840" y="126828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92720" y="307800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580000" y="307800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92720" y="2641320"/>
                <a:ext cx="935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580000" y="2641320"/>
                <a:ext cx="15127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92720" y="220644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580000" y="220644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92720" y="1771200"/>
                <a:ext cx="93528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80000" y="1771200"/>
                <a:ext cx="151272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580000" y="177120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580000" y="264132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80000" y="307800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80000" y="351288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580000" y="220644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028000" y="220644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580000" y="264132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028000" y="264132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580000" y="177120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92720" y="1771200"/>
                <a:ext cx="0" cy="174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28000" y="177120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580000" y="220644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68360" y="836640"/>
              <a:ext cx="4178160" cy="2736720"/>
              <a:chOff x="468360" y="836640"/>
              <a:chExt cx="4178160" cy="2736720"/>
            </a:xfrm>
          </p:grpSpPr>
          <p:sp>
            <p:nvSpPr>
              <p:cNvPr id="68" name=""/>
              <p:cNvSpPr/>
              <p:nvPr/>
            </p:nvSpPr>
            <p:spPr>
              <a:xfrm>
                <a:off x="468360" y="836640"/>
                <a:ext cx="4178160" cy="27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541440" y="1341000"/>
                <a:ext cx="4032360" cy="2176200"/>
                <a:chOff x="541440" y="1341000"/>
                <a:chExt cx="4032360" cy="21762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060720" y="308232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41440" y="308232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060720" y="264744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41440" y="264744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60720" y="2210760"/>
                  <a:ext cx="1513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1440" y="2210760"/>
                  <a:ext cx="25192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060720" y="177588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41440" y="177588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60720" y="1341000"/>
                  <a:ext cx="15130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41440" y="1341000"/>
                  <a:ext cx="25192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41440" y="134100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41440" y="221076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1440" y="264744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41440" y="308232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41440" y="351720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541440" y="177588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573800" y="177588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41440" y="221076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3800" y="221076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41440" y="134100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60720" y="1341000"/>
                  <a:ext cx="0" cy="21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73800" y="134100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41440" y="177588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197080" y="836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68360" y="836640"/>
            <a:ext cx="7791120" cy="2736720"/>
            <a:chOff x="468360" y="836640"/>
            <a:chExt cx="7791120" cy="2736720"/>
          </a:xfrm>
        </p:grpSpPr>
        <p:grpSp>
          <p:nvGrpSpPr>
            <p:cNvPr id="95" name=""/>
            <p:cNvGrpSpPr/>
            <p:nvPr/>
          </p:nvGrpSpPr>
          <p:grpSpPr>
            <a:xfrm>
              <a:off x="5364000" y="1268280"/>
              <a:ext cx="2895480" cy="2301480"/>
              <a:chOff x="5364000" y="1268280"/>
              <a:chExt cx="2895480" cy="2301480"/>
            </a:xfrm>
          </p:grpSpPr>
          <p:sp>
            <p:nvSpPr>
              <p:cNvPr id="96" name=""/>
              <p:cNvSpPr/>
              <p:nvPr/>
            </p:nvSpPr>
            <p:spPr>
              <a:xfrm>
                <a:off x="5364000" y="1339560"/>
                <a:ext cx="2895480" cy="22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406840" y="126828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092720" y="307800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580000" y="307800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92720" y="2641320"/>
                <a:ext cx="935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80000" y="2641320"/>
                <a:ext cx="15127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92720" y="220644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580000" y="220644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92720" y="1771200"/>
                <a:ext cx="93528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80000" y="1771200"/>
                <a:ext cx="151272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80000" y="177120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0000" y="264132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80000" y="307800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80000" y="351288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80000" y="220644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028000" y="220644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80000" y="264132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028000" y="264132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580000" y="177120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92720" y="1771200"/>
                <a:ext cx="0" cy="174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28000" y="177120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0000" y="220644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68360" y="836640"/>
              <a:ext cx="4178160" cy="2736720"/>
              <a:chOff x="468360" y="836640"/>
              <a:chExt cx="4178160" cy="2736720"/>
            </a:xfrm>
          </p:grpSpPr>
          <p:sp>
            <p:nvSpPr>
              <p:cNvPr id="119" name=""/>
              <p:cNvSpPr/>
              <p:nvPr/>
            </p:nvSpPr>
            <p:spPr>
              <a:xfrm>
                <a:off x="468360" y="836640"/>
                <a:ext cx="4178160" cy="27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541440" y="1341000"/>
                <a:ext cx="4032360" cy="2176200"/>
                <a:chOff x="541440" y="1341000"/>
                <a:chExt cx="4032360" cy="2176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60720" y="308232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1440" y="308232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060720" y="264744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41440" y="264744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60720" y="2210760"/>
                  <a:ext cx="1513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41440" y="2210760"/>
                  <a:ext cx="25192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60720" y="177588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41440" y="177588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60720" y="1341000"/>
                  <a:ext cx="15130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41440" y="1341000"/>
                  <a:ext cx="25192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41440" y="134100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41440" y="221076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41440" y="264744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41440" y="308232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1440" y="351720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1440" y="177588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573800" y="177588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41440" y="221076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73800" y="221076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1440" y="134100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060720" y="1341000"/>
                  <a:ext cx="0" cy="21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3800" y="134100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1440" y="177588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197080" y="836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7440" y="4027320"/>
            <a:ext cx="4132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00"/>
                </a:solidFill>
                <a:uFillTx/>
                <a:latin typeface="Arial"/>
              </a:rPr>
              <a:t>1. Lösungsversu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ELECT CDTitel, S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ROM cd, band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276720"/>
            <a:ext cx="4478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9900"/>
                </a:solidFill>
                <a:uFillTx/>
                <a:latin typeface="Arial"/>
              </a:rPr>
              <a:t>1. Ergebn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Man erhält alle mögli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chen Kombination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der (ausgewählte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Arial"/>
              </a:rPr>
              <a:t>Daten der beteiligten Tabell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95280" y="260280"/>
            <a:ext cx="7791120" cy="2736720"/>
            <a:chOff x="395280" y="260280"/>
            <a:chExt cx="7791120" cy="2736720"/>
          </a:xfrm>
        </p:grpSpPr>
        <p:grpSp>
          <p:nvGrpSpPr>
            <p:cNvPr id="150" name=""/>
            <p:cNvGrpSpPr/>
            <p:nvPr/>
          </p:nvGrpSpPr>
          <p:grpSpPr>
            <a:xfrm>
              <a:off x="5290920" y="691920"/>
              <a:ext cx="2895480" cy="2301480"/>
              <a:chOff x="5290920" y="691920"/>
              <a:chExt cx="2895480" cy="2301480"/>
            </a:xfrm>
          </p:grpSpPr>
          <p:sp>
            <p:nvSpPr>
              <p:cNvPr id="151" name=""/>
              <p:cNvSpPr/>
              <p:nvPr/>
            </p:nvSpPr>
            <p:spPr>
              <a:xfrm>
                <a:off x="5290920" y="763200"/>
                <a:ext cx="2895480" cy="22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3760" y="6919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19640" y="250164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06920" y="250164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19640" y="2064960"/>
                <a:ext cx="935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06920" y="2064960"/>
                <a:ext cx="15127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19640" y="163008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06920" y="163008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19640" y="1194840"/>
                <a:ext cx="93528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06920" y="1194840"/>
                <a:ext cx="151272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506920" y="119484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06920" y="206496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06920" y="250164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06920" y="293652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506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54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06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54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06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19640" y="1194840"/>
                <a:ext cx="0" cy="174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54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06920" y="163008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95280" y="260280"/>
              <a:ext cx="4178160" cy="2736720"/>
              <a:chOff x="395280" y="260280"/>
              <a:chExt cx="4178160" cy="2736720"/>
            </a:xfrm>
          </p:grpSpPr>
          <p:sp>
            <p:nvSpPr>
              <p:cNvPr id="174" name=""/>
              <p:cNvSpPr/>
              <p:nvPr/>
            </p:nvSpPr>
            <p:spPr>
              <a:xfrm>
                <a:off x="395280" y="260280"/>
                <a:ext cx="4178160" cy="27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68360" y="764640"/>
                <a:ext cx="4032360" cy="2176200"/>
                <a:chOff x="468360" y="764640"/>
                <a:chExt cx="4032360" cy="2176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987640" y="250596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68360" y="250596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87640" y="207108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68360" y="207108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987640" y="1634400"/>
                  <a:ext cx="1513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68360" y="1634400"/>
                  <a:ext cx="25192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87640" y="119952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360" y="119952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987640" y="764640"/>
                  <a:ext cx="15130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8360" y="764640"/>
                  <a:ext cx="25192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68360" y="7646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8360" y="163440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8360" y="207108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68360" y="250596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8360" y="29408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836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0072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836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0072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836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987640" y="764640"/>
                  <a:ext cx="0" cy="21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0072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8360" y="119952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124000" y="260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4452840" y="3067200"/>
            <a:ext cx="4500360" cy="3657600"/>
            <a:chOff x="4452840" y="3067200"/>
            <a:chExt cx="4500360" cy="3657600"/>
          </a:xfrm>
        </p:grpSpPr>
        <p:sp>
          <p:nvSpPr>
            <p:cNvPr id="201" name=""/>
            <p:cNvSpPr/>
            <p:nvPr/>
          </p:nvSpPr>
          <p:spPr>
            <a:xfrm>
              <a:off x="4452840" y="3067200"/>
              <a:ext cx="4500360" cy="3657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557240" y="3110040"/>
              <a:ext cx="4299480" cy="3578400"/>
              <a:chOff x="4557240" y="3110040"/>
              <a:chExt cx="4299480" cy="35784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562640" y="3113280"/>
                <a:ext cx="4287240" cy="3571920"/>
                <a:chOff x="4562640" y="3113280"/>
                <a:chExt cx="4287240" cy="3571920"/>
              </a:xfrm>
            </p:grpSpPr>
            <p:grpSp>
              <p:nvGrpSpPr>
                <p:cNvPr id="204" name=""/>
                <p:cNvGrpSpPr/>
                <p:nvPr/>
              </p:nvGrpSpPr>
              <p:grpSpPr>
                <a:xfrm>
                  <a:off x="4562640" y="3113280"/>
                  <a:ext cx="2476800" cy="396720"/>
                  <a:chOff x="4562640" y="3113280"/>
                  <a:chExt cx="2476800" cy="396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4562640" y="3113280"/>
                    <a:ext cx="2476800" cy="396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562640" y="3113280"/>
                    <a:ext cx="2476440" cy="396720"/>
                    <a:chOff x="4562640" y="3113280"/>
                    <a:chExt cx="2476440" cy="39672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562640" y="3113280"/>
                      <a:ext cx="2476440" cy="396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Tit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562640" y="3113280"/>
                      <a:ext cx="2476440" cy="3967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39800" y="3113280"/>
                  <a:ext cx="1810080" cy="396720"/>
                  <a:chOff x="7039800" y="3113280"/>
                  <a:chExt cx="1810080" cy="3967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39800" y="3113280"/>
                    <a:ext cx="1810080" cy="396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7039800" y="3113280"/>
                    <a:ext cx="1809720" cy="396720"/>
                    <a:chOff x="7039800" y="3113280"/>
                    <a:chExt cx="1809720" cy="39672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039800" y="3113280"/>
                      <a:ext cx="1809720" cy="39672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7039800" y="3113280"/>
                      <a:ext cx="1809720" cy="3967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4562640" y="3510000"/>
                  <a:ext cx="2476800" cy="397080"/>
                  <a:chOff x="4562640" y="3510000"/>
                  <a:chExt cx="2476800" cy="3970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562640" y="3510000"/>
                    <a:ext cx="24768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r Blinddar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562640" y="3510000"/>
                    <a:ext cx="247680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39800" y="3510000"/>
                  <a:ext cx="1810080" cy="397080"/>
                  <a:chOff x="7039800" y="3510000"/>
                  <a:chExt cx="1810080" cy="3970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7039800" y="3510000"/>
                    <a:ext cx="18100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op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39800" y="3510000"/>
                    <a:ext cx="181008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4562640" y="3907080"/>
                  <a:ext cx="2476800" cy="396720"/>
                  <a:chOff x="4562640" y="3907080"/>
                  <a:chExt cx="2476800" cy="396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4562640" y="3907080"/>
                    <a:ext cx="247680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r Blinddar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562640" y="3907080"/>
                    <a:ext cx="247680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039800" y="3907080"/>
                  <a:ext cx="1810080" cy="396720"/>
                  <a:chOff x="7039800" y="3907080"/>
                  <a:chExt cx="1810080" cy="396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7039800" y="3907080"/>
                    <a:ext cx="181008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un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039800" y="3907080"/>
                    <a:ext cx="181008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4562640" y="4303800"/>
                  <a:ext cx="2476800" cy="397080"/>
                  <a:chOff x="4562640" y="4303800"/>
                  <a:chExt cx="2476800" cy="397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4562640" y="4303800"/>
                    <a:ext cx="24768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r Blinddar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562640" y="4303800"/>
                    <a:ext cx="247680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039800" y="4303800"/>
                  <a:ext cx="1810080" cy="397080"/>
                  <a:chOff x="7039800" y="4303800"/>
                  <a:chExt cx="1810080" cy="3970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7039800" y="4303800"/>
                    <a:ext cx="18100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thi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039800" y="4303800"/>
                    <a:ext cx="181008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4562640" y="4700880"/>
                  <a:ext cx="2476800" cy="396720"/>
                  <a:chOff x="4562640" y="4700880"/>
                  <a:chExt cx="2476800" cy="3967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4562640" y="4700880"/>
                    <a:ext cx="247680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ell out of i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562640" y="4700880"/>
                    <a:ext cx="247680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039800" y="4700880"/>
                  <a:ext cx="1810080" cy="396720"/>
                  <a:chOff x="7039800" y="4700880"/>
                  <a:chExt cx="1810080" cy="3967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039800" y="4700880"/>
                    <a:ext cx="181008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op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039800" y="4700880"/>
                    <a:ext cx="181008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4562640" y="5097600"/>
                  <a:ext cx="2476800" cy="397080"/>
                  <a:chOff x="4562640" y="5097600"/>
                  <a:chExt cx="2476800" cy="3970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4562640" y="5097600"/>
                    <a:ext cx="24768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ell out of i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562640" y="5097600"/>
                    <a:ext cx="247680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039800" y="5097600"/>
                  <a:ext cx="1810080" cy="397080"/>
                  <a:chOff x="7039800" y="5097600"/>
                  <a:chExt cx="1810080" cy="3970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7039800" y="5097600"/>
                    <a:ext cx="18100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un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039800" y="5097600"/>
                    <a:ext cx="181008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4562640" y="5494680"/>
                  <a:ext cx="2476800" cy="396720"/>
                  <a:chOff x="4562640" y="5494680"/>
                  <a:chExt cx="2476800" cy="396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4562640" y="5494680"/>
                    <a:ext cx="247680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ell out of i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562640" y="5494680"/>
                    <a:ext cx="247680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7039800" y="5494680"/>
                  <a:ext cx="1810080" cy="396720"/>
                  <a:chOff x="7039800" y="5494680"/>
                  <a:chExt cx="1810080" cy="3967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039800" y="5494680"/>
                    <a:ext cx="181008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Gothi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039800" y="5494680"/>
                    <a:ext cx="181008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4562640" y="5891400"/>
                  <a:ext cx="2476800" cy="396720"/>
                  <a:chOff x="4562640" y="5891400"/>
                  <a:chExt cx="2476800" cy="39672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4562640" y="5891400"/>
                    <a:ext cx="247680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untai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562640" y="5891400"/>
                    <a:ext cx="247680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7039800" y="5891400"/>
                  <a:ext cx="1810080" cy="396720"/>
                  <a:chOff x="7039800" y="5891400"/>
                  <a:chExt cx="1810080" cy="3967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7039800" y="5891400"/>
                    <a:ext cx="181008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op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039800" y="5891400"/>
                    <a:ext cx="1810080" cy="39672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4562640" y="6288120"/>
                  <a:ext cx="2476800" cy="397080"/>
                  <a:chOff x="4562640" y="6288120"/>
                  <a:chExt cx="2476800" cy="3970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4562640" y="6288120"/>
                    <a:ext cx="247680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4562640" y="6288120"/>
                    <a:ext cx="247680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7039800" y="6288120"/>
                  <a:ext cx="1810080" cy="397080"/>
                  <a:chOff x="7039800" y="6288120"/>
                  <a:chExt cx="1810080" cy="39708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7039800" y="6288120"/>
                    <a:ext cx="18100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…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7039800" y="6288120"/>
                    <a:ext cx="1810080" cy="397080"/>
                  </a:xfrm>
                  <a:prstGeom prst="rect">
                    <a:avLst/>
                  </a:prstGeom>
                  <a:noFill/>
                  <a:ln w="0">
                    <a:solidFill>
                      <a:srgbClr val="c0c0c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2" name=""/>
              <p:cNvSpPr/>
              <p:nvPr/>
            </p:nvSpPr>
            <p:spPr>
              <a:xfrm>
                <a:off x="4557240" y="3110040"/>
                <a:ext cx="4299480" cy="3578400"/>
              </a:xfrm>
              <a:prstGeom prst="rect">
                <a:avLst/>
              </a:prstGeom>
              <a:noFill/>
              <a:ln w="648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525760" y="549360"/>
            <a:ext cx="6293880" cy="1438920"/>
            <a:chOff x="2525760" y="549360"/>
            <a:chExt cx="6293880" cy="1438920"/>
          </a:xfrm>
        </p:grpSpPr>
        <p:grpSp>
          <p:nvGrpSpPr>
            <p:cNvPr id="265" name=""/>
            <p:cNvGrpSpPr/>
            <p:nvPr/>
          </p:nvGrpSpPr>
          <p:grpSpPr>
            <a:xfrm>
              <a:off x="6645240" y="779760"/>
              <a:ext cx="2174400" cy="1208520"/>
              <a:chOff x="6645240" y="779760"/>
              <a:chExt cx="2174400" cy="1208520"/>
            </a:xfrm>
          </p:grpSpPr>
          <p:sp>
            <p:nvSpPr>
              <p:cNvPr id="266" name=""/>
              <p:cNvSpPr/>
              <p:nvPr/>
            </p:nvSpPr>
            <p:spPr>
              <a:xfrm>
                <a:off x="6645240" y="817200"/>
                <a:ext cx="2174400" cy="1171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77280" y="779760"/>
                <a:ext cx="200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43400" y="1730160"/>
                <a:ext cx="7023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07240" y="1730160"/>
                <a:ext cx="11358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43400" y="1500840"/>
                <a:ext cx="70236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07240" y="1500840"/>
                <a:ext cx="1135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43400" y="1272600"/>
                <a:ext cx="70236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07240" y="1272600"/>
                <a:ext cx="11358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43400" y="1044000"/>
                <a:ext cx="702360" cy="228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07240" y="1044000"/>
                <a:ext cx="1135800" cy="228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07240" y="1044000"/>
                <a:ext cx="1838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07240" y="1500840"/>
                <a:ext cx="18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07240" y="1730160"/>
                <a:ext cx="18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07240" y="1958400"/>
                <a:ext cx="1838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07240" y="12726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645760" y="127260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07240" y="1500840"/>
                <a:ext cx="0" cy="457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645760" y="1500840"/>
                <a:ext cx="0" cy="4575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07240" y="1044000"/>
                <a:ext cx="0" cy="2282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943400" y="10440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645760" y="1044000"/>
                <a:ext cx="0" cy="2282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07240" y="1272600"/>
                <a:ext cx="1838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525760" y="549360"/>
              <a:ext cx="3138120" cy="1437120"/>
              <a:chOff x="2525760" y="549360"/>
              <a:chExt cx="3138120" cy="1437120"/>
            </a:xfrm>
          </p:grpSpPr>
          <p:sp>
            <p:nvSpPr>
              <p:cNvPr id="289" name=""/>
              <p:cNvSpPr/>
              <p:nvPr/>
            </p:nvSpPr>
            <p:spPr>
              <a:xfrm>
                <a:off x="2525760" y="549360"/>
                <a:ext cx="3138120" cy="143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2580480" y="814320"/>
                <a:ext cx="3028680" cy="1142640"/>
                <a:chOff x="2580480" y="814320"/>
                <a:chExt cx="3028680" cy="11426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472640" y="1728720"/>
                  <a:ext cx="1136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80480" y="1728720"/>
                  <a:ext cx="1892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472640" y="1500120"/>
                  <a:ext cx="1136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80480" y="1500120"/>
                  <a:ext cx="1892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72640" y="1271160"/>
                  <a:ext cx="1136160" cy="22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80480" y="1271160"/>
                  <a:ext cx="1892160" cy="22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72640" y="1042560"/>
                  <a:ext cx="1136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80480" y="1042560"/>
                  <a:ext cx="18921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72640" y="814320"/>
                  <a:ext cx="1136160" cy="228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580480" y="814320"/>
                  <a:ext cx="1892160" cy="2282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63000"/>
                </a:bodyPr>
                <a:p>
                  <a:pPr algn="ctr"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580480" y="814320"/>
                  <a:ext cx="3028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580480" y="1271160"/>
                  <a:ext cx="302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80480" y="1500120"/>
                  <a:ext cx="302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80480" y="1728720"/>
                  <a:ext cx="302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80480" y="1956960"/>
                  <a:ext cx="3028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580480" y="10425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609160" y="104256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580480" y="1271160"/>
                  <a:ext cx="0" cy="6858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609160" y="1271160"/>
                  <a:ext cx="0" cy="6858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80480" y="814320"/>
                  <a:ext cx="0" cy="2282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72640" y="814320"/>
                  <a:ext cx="0" cy="114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09160" y="814320"/>
                  <a:ext cx="0" cy="2282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80480" y="1042560"/>
                  <a:ext cx="30286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3823920" y="549360"/>
                <a:ext cx="54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850360" y="1123200"/>
              <a:ext cx="64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Verdana"/>
                </a:rPr>
                <a:t>x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240" y="955800"/>
            <a:ext cx="26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SELECT CDTitel, St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FROM cd, ban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2917800"/>
            <a:ext cx="2462400" cy="2533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Kreuzproduk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weier Tabellen ist die Kombination aller Datensätze der einen Tabelle mit allen Datensätzen der anderen Tabel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411280"/>
            <a:ext cx="2922480" cy="4331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SELECT CDTitel, Sti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FROM cd, b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WHERE cd.Bandname = band.Bandname</a:t>
            </a: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843280" y="2492280"/>
            <a:ext cx="6203520" cy="4105440"/>
            <a:chOff x="2843280" y="2492280"/>
            <a:chExt cx="6203520" cy="4105440"/>
          </a:xfrm>
        </p:grpSpPr>
        <p:sp>
          <p:nvSpPr>
            <p:cNvPr id="320" name=""/>
            <p:cNvSpPr/>
            <p:nvPr/>
          </p:nvSpPr>
          <p:spPr>
            <a:xfrm>
              <a:off x="2843280" y="2492280"/>
              <a:ext cx="6203520" cy="41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31280" y="2637000"/>
              <a:ext cx="1875600" cy="3960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64280" y="2637000"/>
              <a:ext cx="793440" cy="3960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23" name=""/>
          <p:cNvGraphicFramePr/>
          <p:nvPr/>
        </p:nvGraphicFramePr>
        <p:xfrm>
          <a:off x="3135240" y="2646360"/>
          <a:ext cx="5616360" cy="3941640"/>
        </p:xfrm>
        <a:graphic>
          <a:graphicData uri="http://schemas.openxmlformats.org/drawingml/2006/table">
            <a:tbl>
              <a:tblPr/>
              <a:tblGrid>
                <a:gridCol w="1871640"/>
                <a:gridCol w="1439640"/>
                <a:gridCol w="1513080"/>
                <a:gridCol w="79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Tit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.Band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.Bandna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linda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linda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linda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 out of 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 out of 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 out of 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devils r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devils r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to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devils ri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4" name=""/>
          <p:cNvGrpSpPr/>
          <p:nvPr/>
        </p:nvGrpSpPr>
        <p:grpSpPr>
          <a:xfrm>
            <a:off x="3106800" y="3251160"/>
            <a:ext cx="5635440" cy="2732040"/>
            <a:chOff x="3106800" y="3251160"/>
            <a:chExt cx="5635440" cy="2732040"/>
          </a:xfrm>
        </p:grpSpPr>
        <p:sp>
          <p:nvSpPr>
            <p:cNvPr id="325" name=""/>
            <p:cNvSpPr/>
            <p:nvPr/>
          </p:nvSpPr>
          <p:spPr>
            <a:xfrm>
              <a:off x="3106800" y="3251160"/>
              <a:ext cx="5626080" cy="32220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16160" y="5384520"/>
              <a:ext cx="5626080" cy="3034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16160" y="5689440"/>
              <a:ext cx="5626080" cy="29376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06800" y="3865320"/>
              <a:ext cx="5626080" cy="29376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371760"/>
            <a:ext cx="786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00"/>
                </a:solidFill>
                <a:uFillTx/>
                <a:latin typeface="Arial"/>
              </a:rPr>
              <a:t>2. Lösungsversu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ELECT CDTitel, St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FROM cd, b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HERE cd.Bandname = band.Bandnam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95280" y="260280"/>
            <a:ext cx="7791120" cy="2736720"/>
            <a:chOff x="395280" y="260280"/>
            <a:chExt cx="7791120" cy="2736720"/>
          </a:xfrm>
        </p:grpSpPr>
        <p:grpSp>
          <p:nvGrpSpPr>
            <p:cNvPr id="332" name=""/>
            <p:cNvGrpSpPr/>
            <p:nvPr/>
          </p:nvGrpSpPr>
          <p:grpSpPr>
            <a:xfrm>
              <a:off x="5290920" y="691920"/>
              <a:ext cx="2895480" cy="2301480"/>
              <a:chOff x="5290920" y="691920"/>
              <a:chExt cx="2895480" cy="2301480"/>
            </a:xfrm>
          </p:grpSpPr>
          <p:sp>
            <p:nvSpPr>
              <p:cNvPr id="333" name=""/>
              <p:cNvSpPr/>
              <p:nvPr/>
            </p:nvSpPr>
            <p:spPr>
              <a:xfrm>
                <a:off x="5290920" y="763200"/>
                <a:ext cx="2895480" cy="22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333760" y="6919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019640" y="250164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506920" y="250164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19640" y="2064960"/>
                <a:ext cx="935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06920" y="2064960"/>
                <a:ext cx="15127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19640" y="163008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06920" y="163008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9640" y="1194840"/>
                <a:ext cx="93528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06920" y="1194840"/>
                <a:ext cx="151272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06920" y="119484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06920" y="206496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06920" y="250164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506920" y="293652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06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54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06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54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506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19640" y="1194840"/>
                <a:ext cx="0" cy="174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954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06920" y="163008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5280" y="260280"/>
              <a:ext cx="4178160" cy="2736720"/>
              <a:chOff x="395280" y="260280"/>
              <a:chExt cx="4178160" cy="2736720"/>
            </a:xfrm>
          </p:grpSpPr>
          <p:sp>
            <p:nvSpPr>
              <p:cNvPr id="356" name=""/>
              <p:cNvSpPr/>
              <p:nvPr/>
            </p:nvSpPr>
            <p:spPr>
              <a:xfrm>
                <a:off x="395280" y="260280"/>
                <a:ext cx="4178160" cy="27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68360" y="764640"/>
                <a:ext cx="4032360" cy="2176200"/>
                <a:chOff x="468360" y="764640"/>
                <a:chExt cx="4032360" cy="21762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987640" y="250596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68360" y="250596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87640" y="207108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68360" y="207108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987640" y="1634400"/>
                  <a:ext cx="1513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68360" y="1634400"/>
                  <a:ext cx="25192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987640" y="119952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68360" y="119952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987640" y="764640"/>
                  <a:ext cx="15130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8360" y="764640"/>
                  <a:ext cx="25192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68360" y="7646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68360" y="163440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68360" y="207108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8360" y="250596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68360" y="29408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836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50072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836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50072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6836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987640" y="764640"/>
                  <a:ext cx="0" cy="21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50072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68360" y="119952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2124000" y="260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4716360" y="3284640"/>
            <a:ext cx="4319640" cy="1368360"/>
          </a:xfrm>
          <a:prstGeom prst="wedgeRoundRectCallout">
            <a:avLst>
              <a:gd name="adj1" fmla="val -44268"/>
              <a:gd name="adj2" fmla="val 75986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Tabellen müssen genannt werden, wei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dn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beiden Tabellen vorkomm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0972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reuzprodukt und Jo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3357720"/>
            <a:ext cx="592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00"/>
                </a:solidFill>
                <a:uFillTx/>
                <a:latin typeface="Arial"/>
              </a:rPr>
              <a:t>2. Ergebn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Mit Hilfe der </a:t>
            </a:r>
            <a:r>
              <a:rPr b="1" lang="de-DE" sz="2800" spc="-1" strike="noStrike">
                <a:solidFill>
                  <a:srgbClr val="ffff00"/>
                </a:solidFill>
                <a:latin typeface="Arial"/>
              </a:rPr>
              <a:t>Joinbeding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cd.Bandname = band.Band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erhält man das gewünschte Ergebn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95280" y="260280"/>
            <a:ext cx="7791120" cy="2736720"/>
            <a:chOff x="395280" y="260280"/>
            <a:chExt cx="7791120" cy="2736720"/>
          </a:xfrm>
        </p:grpSpPr>
        <p:grpSp>
          <p:nvGrpSpPr>
            <p:cNvPr id="386" name=""/>
            <p:cNvGrpSpPr/>
            <p:nvPr/>
          </p:nvGrpSpPr>
          <p:grpSpPr>
            <a:xfrm>
              <a:off x="5290920" y="691920"/>
              <a:ext cx="2895480" cy="2301480"/>
              <a:chOff x="5290920" y="691920"/>
              <a:chExt cx="2895480" cy="2301480"/>
            </a:xfrm>
          </p:grpSpPr>
          <p:sp>
            <p:nvSpPr>
              <p:cNvPr id="387" name=""/>
              <p:cNvSpPr/>
              <p:nvPr/>
            </p:nvSpPr>
            <p:spPr>
              <a:xfrm>
                <a:off x="5290920" y="763200"/>
                <a:ext cx="2895480" cy="22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333760" y="69192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and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19640" y="250164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Gothi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06920" y="250164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Tear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19640" y="2064960"/>
                <a:ext cx="93528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un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506920" y="2064960"/>
                <a:ext cx="1512720" cy="43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oktor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9640" y="1630080"/>
                <a:ext cx="93528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P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506920" y="1630080"/>
                <a:ext cx="1512720" cy="43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Devil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19640" y="1194840"/>
                <a:ext cx="93528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ti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06920" y="1194840"/>
                <a:ext cx="1512720" cy="434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andnam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06920" y="119484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506920" y="206496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506920" y="2501640"/>
                <a:ext cx="244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506920" y="293652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506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954920" y="1630080"/>
                <a:ext cx="0" cy="43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06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954920" y="2064960"/>
                <a:ext cx="0" cy="871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06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19640" y="1194840"/>
                <a:ext cx="0" cy="174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54920" y="1194840"/>
                <a:ext cx="0" cy="4348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506920" y="1630080"/>
                <a:ext cx="24480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95280" y="260280"/>
              <a:ext cx="4178160" cy="2736720"/>
              <a:chOff x="395280" y="260280"/>
              <a:chExt cx="4178160" cy="2736720"/>
            </a:xfrm>
          </p:grpSpPr>
          <p:sp>
            <p:nvSpPr>
              <p:cNvPr id="410" name=""/>
              <p:cNvSpPr/>
              <p:nvPr/>
            </p:nvSpPr>
            <p:spPr>
              <a:xfrm>
                <a:off x="395280" y="260280"/>
                <a:ext cx="4178160" cy="273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68360" y="764640"/>
                <a:ext cx="4032360" cy="2176200"/>
                <a:chOff x="468360" y="764640"/>
                <a:chExt cx="4032360" cy="217620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987640" y="250596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68360" y="250596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When the devils rid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987640" y="207108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Tear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8360" y="207108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Mountain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87640" y="1634400"/>
                  <a:ext cx="1513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evil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68360" y="1634400"/>
                  <a:ext cx="25192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Hell out of 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1199520"/>
                  <a:ext cx="15130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Dokore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8360" y="1199520"/>
                  <a:ext cx="251928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er Blinddar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987640" y="764640"/>
                  <a:ext cx="15130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Bandnam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8360" y="764640"/>
                  <a:ext cx="2519280" cy="4348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CDTitel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8360" y="7646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68360" y="163440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68360" y="207108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68360" y="2505960"/>
                  <a:ext cx="4032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68360" y="294084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836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00720" y="1199520"/>
                  <a:ext cx="0" cy="434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6836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500720" y="1634400"/>
                  <a:ext cx="0" cy="13060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6836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987640" y="764640"/>
                  <a:ext cx="0" cy="217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500720" y="764640"/>
                  <a:ext cx="0" cy="43488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68360" y="1199520"/>
                  <a:ext cx="40323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124000" y="26028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5724360" y="3645000"/>
            <a:ext cx="331164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796000" y="4005360"/>
          <a:ext cx="3168720" cy="1882800"/>
        </p:xfrm>
        <a:graphic>
          <a:graphicData uri="http://schemas.openxmlformats.org/drawingml/2006/table">
            <a:tbl>
              <a:tblPr/>
              <a:tblGrid>
                <a:gridCol w="2268360"/>
                <a:gridCol w="9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T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lindda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 out of 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th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devils r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18:29Z</dcterms:created>
  <dc:creator/>
  <dc:description/>
  <dc:language>en-US</dc:language>
  <cp:lastModifiedBy>Scheungrab</cp:lastModifiedBy>
  <dcterms:modified xsi:type="dcterms:W3CDTF">2007-01-12T10:43:56Z</dcterms:modified>
  <cp:revision>14</cp:revision>
  <dc:subject/>
  <dc:title/>
</cp:coreProperties>
</file>