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F585-2A44-4D44-AD81-C7F9DFCA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AF6-FD1B-4D09-89F5-A60A0B0B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D57-2408-4F8F-A182-6F3563FB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E274-BBD6-422F-B752-129383DB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11C-3044-4287-A363-DEB4FBA2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5BF3-EE40-4B51-8E1D-1F19A7F8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DB8-435F-4855-AADE-4F44F759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E1F-8789-4E5A-AB56-347593C9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7EC-C31C-4A4F-87C0-88A74F0D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C17-1C20-4795-94B8-D140BB8A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B4F-6508-4963-9277-883F89DD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078-6004-4CDC-9101-54965E17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6E4E-D851-4C08-9341-E4684DD4E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486400" y="1295280"/>
            <a:ext cx="2818800" cy="1295280"/>
            <a:chOff x="5486400" y="1295280"/>
            <a:chExt cx="2818800" cy="1295280"/>
          </a:xfrm>
        </p:grpSpPr>
        <p:grpSp>
          <p:nvGrpSpPr>
            <p:cNvPr id="44" name=""/>
            <p:cNvGrpSpPr/>
            <p:nvPr/>
          </p:nvGrpSpPr>
          <p:grpSpPr>
            <a:xfrm>
              <a:off x="5486400" y="1295280"/>
              <a:ext cx="1324080" cy="323640"/>
              <a:chOff x="5486400" y="1295280"/>
              <a:chExt cx="1324080" cy="323640"/>
            </a:xfrm>
          </p:grpSpPr>
          <p:sp>
            <p:nvSpPr>
              <p:cNvPr id="45" name=""/>
              <p:cNvSpPr/>
              <p:nvPr/>
            </p:nvSpPr>
            <p:spPr>
              <a:xfrm>
                <a:off x="5486400" y="1295280"/>
                <a:ext cx="1324080" cy="323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" name=""/>
              <p:cNvGrpSpPr/>
              <p:nvPr/>
            </p:nvGrpSpPr>
            <p:grpSpPr>
              <a:xfrm>
                <a:off x="5486400" y="1295280"/>
                <a:ext cx="1323720" cy="323640"/>
                <a:chOff x="5486400" y="1295280"/>
                <a:chExt cx="1323720" cy="32364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5526000" y="1295280"/>
                  <a:ext cx="1244880" cy="323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portar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5486400" y="1295280"/>
                  <a:ext cx="13237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" name=""/>
            <p:cNvGrpSpPr/>
            <p:nvPr/>
          </p:nvGrpSpPr>
          <p:grpSpPr>
            <a:xfrm>
              <a:off x="6810840" y="1295280"/>
              <a:ext cx="1494360" cy="323640"/>
              <a:chOff x="6810840" y="1295280"/>
              <a:chExt cx="1494360" cy="323640"/>
            </a:xfrm>
          </p:grpSpPr>
          <p:sp>
            <p:nvSpPr>
              <p:cNvPr id="50" name=""/>
              <p:cNvSpPr/>
              <p:nvPr/>
            </p:nvSpPr>
            <p:spPr>
              <a:xfrm>
                <a:off x="6810840" y="1295280"/>
                <a:ext cx="1494360" cy="323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6810840" y="1295280"/>
                <a:ext cx="1494000" cy="323640"/>
                <a:chOff x="6810840" y="1295280"/>
                <a:chExt cx="1494000" cy="3236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6850440" y="1295280"/>
                  <a:ext cx="1415160" cy="323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eitra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810840" y="1295280"/>
                  <a:ext cx="14940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" name=""/>
            <p:cNvGrpSpPr/>
            <p:nvPr/>
          </p:nvGrpSpPr>
          <p:grpSpPr>
            <a:xfrm>
              <a:off x="5486400" y="1618920"/>
              <a:ext cx="1324080" cy="324000"/>
              <a:chOff x="5486400" y="1618920"/>
              <a:chExt cx="1324080" cy="324000"/>
            </a:xfrm>
          </p:grpSpPr>
          <p:sp>
            <p:nvSpPr>
              <p:cNvPr id="55" name=""/>
              <p:cNvSpPr/>
              <p:nvPr/>
            </p:nvSpPr>
            <p:spPr>
              <a:xfrm>
                <a:off x="5486400" y="1618920"/>
                <a:ext cx="1324080" cy="3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" name=""/>
              <p:cNvGrpSpPr/>
              <p:nvPr/>
            </p:nvGrpSpPr>
            <p:grpSpPr>
              <a:xfrm>
                <a:off x="5486400" y="1618920"/>
                <a:ext cx="1323720" cy="324000"/>
                <a:chOff x="5486400" y="1618920"/>
                <a:chExt cx="1323720" cy="32400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5526000" y="1618920"/>
                  <a:ext cx="1244880" cy="32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ußbal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5486400" y="1618920"/>
                  <a:ext cx="1323720" cy="32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" name=""/>
            <p:cNvGrpSpPr/>
            <p:nvPr/>
          </p:nvGrpSpPr>
          <p:grpSpPr>
            <a:xfrm>
              <a:off x="6810840" y="1618920"/>
              <a:ext cx="1494360" cy="324000"/>
              <a:chOff x="6810840" y="1618920"/>
              <a:chExt cx="1494360" cy="324000"/>
            </a:xfrm>
          </p:grpSpPr>
          <p:sp>
            <p:nvSpPr>
              <p:cNvPr id="60" name=""/>
              <p:cNvSpPr/>
              <p:nvPr/>
            </p:nvSpPr>
            <p:spPr>
              <a:xfrm>
                <a:off x="6810840" y="1618920"/>
                <a:ext cx="1494360" cy="3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6810840" y="1618920"/>
                <a:ext cx="1494000" cy="324000"/>
                <a:chOff x="6810840" y="1618920"/>
                <a:chExt cx="1494000" cy="32400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6850440" y="1618920"/>
                  <a:ext cx="1415160" cy="32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5,00 €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6810840" y="1618920"/>
                  <a:ext cx="1494000" cy="32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5486400" y="1943280"/>
              <a:ext cx="1324080" cy="323640"/>
              <a:chOff x="5486400" y="1943280"/>
              <a:chExt cx="1324080" cy="323640"/>
            </a:xfrm>
          </p:grpSpPr>
          <p:sp>
            <p:nvSpPr>
              <p:cNvPr id="65" name=""/>
              <p:cNvSpPr/>
              <p:nvPr/>
            </p:nvSpPr>
            <p:spPr>
              <a:xfrm>
                <a:off x="5486400" y="1943280"/>
                <a:ext cx="1324080" cy="32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5486400" y="1943280"/>
                <a:ext cx="1323720" cy="323640"/>
                <a:chOff x="5486400" y="1943280"/>
                <a:chExt cx="1323720" cy="3236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526000" y="1943280"/>
                  <a:ext cx="1244880" cy="32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ol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486400" y="1943280"/>
                  <a:ext cx="13237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" name=""/>
            <p:cNvGrpSpPr/>
            <p:nvPr/>
          </p:nvGrpSpPr>
          <p:grpSpPr>
            <a:xfrm>
              <a:off x="6810840" y="1943280"/>
              <a:ext cx="1494360" cy="323640"/>
              <a:chOff x="6810840" y="1943280"/>
              <a:chExt cx="1494360" cy="323640"/>
            </a:xfrm>
          </p:grpSpPr>
          <p:sp>
            <p:nvSpPr>
              <p:cNvPr id="70" name=""/>
              <p:cNvSpPr/>
              <p:nvPr/>
            </p:nvSpPr>
            <p:spPr>
              <a:xfrm>
                <a:off x="6810840" y="1943280"/>
                <a:ext cx="1494360" cy="32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810840" y="1943280"/>
                <a:ext cx="1494000" cy="323640"/>
                <a:chOff x="6810840" y="1943280"/>
                <a:chExt cx="1494000" cy="32364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6850440" y="1943280"/>
                  <a:ext cx="1415160" cy="32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0,00 €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6810840" y="1943280"/>
                  <a:ext cx="14940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" name=""/>
            <p:cNvGrpSpPr/>
            <p:nvPr/>
          </p:nvGrpSpPr>
          <p:grpSpPr>
            <a:xfrm>
              <a:off x="5486400" y="2266920"/>
              <a:ext cx="1324080" cy="323640"/>
              <a:chOff x="5486400" y="2266920"/>
              <a:chExt cx="1324080" cy="323640"/>
            </a:xfrm>
          </p:grpSpPr>
          <p:sp>
            <p:nvSpPr>
              <p:cNvPr id="75" name=""/>
              <p:cNvSpPr/>
              <p:nvPr/>
            </p:nvSpPr>
            <p:spPr>
              <a:xfrm>
                <a:off x="5486400" y="2266920"/>
                <a:ext cx="1324080" cy="32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5486400" y="2266920"/>
                <a:ext cx="1323720" cy="323640"/>
                <a:chOff x="5486400" y="2266920"/>
                <a:chExt cx="1323720" cy="32364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526000" y="2266920"/>
                  <a:ext cx="1244880" cy="32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ymnasti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486400" y="2266920"/>
                  <a:ext cx="13237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6810840" y="2266920"/>
              <a:ext cx="1494360" cy="323640"/>
              <a:chOff x="6810840" y="2266920"/>
              <a:chExt cx="1494360" cy="323640"/>
            </a:xfrm>
          </p:grpSpPr>
          <p:sp>
            <p:nvSpPr>
              <p:cNvPr id="80" name=""/>
              <p:cNvSpPr/>
              <p:nvPr/>
            </p:nvSpPr>
            <p:spPr>
              <a:xfrm>
                <a:off x="6810840" y="2266920"/>
                <a:ext cx="1494360" cy="32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6810840" y="2266920"/>
                <a:ext cx="1494000" cy="323640"/>
                <a:chOff x="6810840" y="2266920"/>
                <a:chExt cx="1494000" cy="3236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6850440" y="2266920"/>
                  <a:ext cx="1415160" cy="32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0,00 €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810840" y="2266920"/>
                  <a:ext cx="14940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4" name=""/>
          <p:cNvGrpSpPr/>
          <p:nvPr/>
        </p:nvGrpSpPr>
        <p:grpSpPr>
          <a:xfrm>
            <a:off x="1066680" y="1295280"/>
            <a:ext cx="2250360" cy="1447560"/>
            <a:chOff x="1066680" y="1295280"/>
            <a:chExt cx="2250360" cy="1447560"/>
          </a:xfrm>
        </p:grpSpPr>
        <p:grpSp>
          <p:nvGrpSpPr>
            <p:cNvPr id="85" name=""/>
            <p:cNvGrpSpPr/>
            <p:nvPr/>
          </p:nvGrpSpPr>
          <p:grpSpPr>
            <a:xfrm>
              <a:off x="1066680" y="1295280"/>
              <a:ext cx="1049760" cy="361800"/>
              <a:chOff x="1066680" y="1295280"/>
              <a:chExt cx="1049760" cy="361800"/>
            </a:xfrm>
          </p:grpSpPr>
          <p:sp>
            <p:nvSpPr>
              <p:cNvPr id="86" name=""/>
              <p:cNvSpPr/>
              <p:nvPr/>
            </p:nvSpPr>
            <p:spPr>
              <a:xfrm>
                <a:off x="1066680" y="1295280"/>
                <a:ext cx="1049760" cy="361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1066680" y="1295280"/>
                <a:ext cx="1049400" cy="361800"/>
                <a:chOff x="1066680" y="1295280"/>
                <a:chExt cx="1049400" cy="3618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1094400" y="1295280"/>
                  <a:ext cx="993960" cy="361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066680" y="1295280"/>
                  <a:ext cx="104940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" name=""/>
            <p:cNvGrpSpPr/>
            <p:nvPr/>
          </p:nvGrpSpPr>
          <p:grpSpPr>
            <a:xfrm>
              <a:off x="2116800" y="1295280"/>
              <a:ext cx="1200240" cy="361800"/>
              <a:chOff x="2116800" y="1295280"/>
              <a:chExt cx="1200240" cy="361800"/>
            </a:xfrm>
          </p:grpSpPr>
          <p:sp>
            <p:nvSpPr>
              <p:cNvPr id="91" name=""/>
              <p:cNvSpPr/>
              <p:nvPr/>
            </p:nvSpPr>
            <p:spPr>
              <a:xfrm>
                <a:off x="2116800" y="1295280"/>
                <a:ext cx="1200240" cy="361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2116800" y="1295280"/>
                <a:ext cx="1199880" cy="361800"/>
                <a:chOff x="2116800" y="1295280"/>
                <a:chExt cx="1199880" cy="3618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144160" y="1295280"/>
                  <a:ext cx="1144800" cy="361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rtsnam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116800" y="1295280"/>
                  <a:ext cx="119988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" name=""/>
            <p:cNvGrpSpPr/>
            <p:nvPr/>
          </p:nvGrpSpPr>
          <p:grpSpPr>
            <a:xfrm>
              <a:off x="1066680" y="1657080"/>
              <a:ext cx="1049760" cy="362160"/>
              <a:chOff x="1066680" y="1657080"/>
              <a:chExt cx="1049760" cy="362160"/>
            </a:xfrm>
          </p:grpSpPr>
          <p:sp>
            <p:nvSpPr>
              <p:cNvPr id="96" name=""/>
              <p:cNvSpPr/>
              <p:nvPr/>
            </p:nvSpPr>
            <p:spPr>
              <a:xfrm>
                <a:off x="1066680" y="1657080"/>
                <a:ext cx="1049760" cy="36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1066680" y="1657080"/>
                <a:ext cx="1049400" cy="362160"/>
                <a:chOff x="1066680" y="1657080"/>
                <a:chExt cx="1049400" cy="3621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094400" y="1657080"/>
                  <a:ext cx="993960" cy="362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05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066680" y="1657080"/>
                  <a:ext cx="10494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" name=""/>
            <p:cNvGrpSpPr/>
            <p:nvPr/>
          </p:nvGrpSpPr>
          <p:grpSpPr>
            <a:xfrm>
              <a:off x="2116800" y="1657080"/>
              <a:ext cx="1200240" cy="362160"/>
              <a:chOff x="2116800" y="1657080"/>
              <a:chExt cx="1200240" cy="362160"/>
            </a:xfrm>
          </p:grpSpPr>
          <p:sp>
            <p:nvSpPr>
              <p:cNvPr id="101" name=""/>
              <p:cNvSpPr/>
              <p:nvPr/>
            </p:nvSpPr>
            <p:spPr>
              <a:xfrm>
                <a:off x="2116800" y="1657080"/>
                <a:ext cx="1200240" cy="36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2116800" y="1657080"/>
                <a:ext cx="1199880" cy="362160"/>
                <a:chOff x="2116800" y="1657080"/>
                <a:chExt cx="1199880" cy="3621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144160" y="1657080"/>
                  <a:ext cx="1144800" cy="362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rlang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116800" y="1657080"/>
                  <a:ext cx="119988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1066680" y="2019240"/>
              <a:ext cx="1049760" cy="361800"/>
              <a:chOff x="1066680" y="2019240"/>
              <a:chExt cx="1049760" cy="361800"/>
            </a:xfrm>
          </p:grpSpPr>
          <p:sp>
            <p:nvSpPr>
              <p:cNvPr id="106" name=""/>
              <p:cNvSpPr/>
              <p:nvPr/>
            </p:nvSpPr>
            <p:spPr>
              <a:xfrm>
                <a:off x="1066680" y="2019240"/>
                <a:ext cx="1049760" cy="36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1066680" y="2019240"/>
                <a:ext cx="1049400" cy="361800"/>
                <a:chOff x="1066680" y="2019240"/>
                <a:chExt cx="1049400" cy="3618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094400" y="2019240"/>
                  <a:ext cx="993960" cy="36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05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066680" y="2019240"/>
                  <a:ext cx="104940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" name=""/>
            <p:cNvGrpSpPr/>
            <p:nvPr/>
          </p:nvGrpSpPr>
          <p:grpSpPr>
            <a:xfrm>
              <a:off x="2116800" y="2019240"/>
              <a:ext cx="1200240" cy="361800"/>
              <a:chOff x="2116800" y="2019240"/>
              <a:chExt cx="1200240" cy="361800"/>
            </a:xfrm>
          </p:grpSpPr>
          <p:sp>
            <p:nvSpPr>
              <p:cNvPr id="111" name=""/>
              <p:cNvSpPr/>
              <p:nvPr/>
            </p:nvSpPr>
            <p:spPr>
              <a:xfrm>
                <a:off x="2116800" y="2019240"/>
                <a:ext cx="1200240" cy="36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2116800" y="2019240"/>
                <a:ext cx="1199880" cy="361800"/>
                <a:chOff x="2116800" y="2019240"/>
                <a:chExt cx="1199880" cy="3618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144160" y="2019240"/>
                  <a:ext cx="1144800" cy="36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rlang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116800" y="2019240"/>
                  <a:ext cx="119988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" name=""/>
            <p:cNvGrpSpPr/>
            <p:nvPr/>
          </p:nvGrpSpPr>
          <p:grpSpPr>
            <a:xfrm>
              <a:off x="1066680" y="2381040"/>
              <a:ext cx="1049760" cy="361800"/>
              <a:chOff x="1066680" y="2381040"/>
              <a:chExt cx="1049760" cy="361800"/>
            </a:xfrm>
          </p:grpSpPr>
          <p:sp>
            <p:nvSpPr>
              <p:cNvPr id="116" name=""/>
              <p:cNvSpPr/>
              <p:nvPr/>
            </p:nvSpPr>
            <p:spPr>
              <a:xfrm>
                <a:off x="1066680" y="2381040"/>
                <a:ext cx="1049760" cy="36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1066680" y="2381040"/>
                <a:ext cx="1049400" cy="361800"/>
                <a:chOff x="1066680" y="2381040"/>
                <a:chExt cx="1049400" cy="3618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094400" y="2381040"/>
                  <a:ext cx="993960" cy="36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3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066680" y="2381040"/>
                  <a:ext cx="104940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" name=""/>
            <p:cNvGrpSpPr/>
            <p:nvPr/>
          </p:nvGrpSpPr>
          <p:grpSpPr>
            <a:xfrm>
              <a:off x="2116800" y="2381040"/>
              <a:ext cx="1200240" cy="361800"/>
              <a:chOff x="2116800" y="2381040"/>
              <a:chExt cx="1200240" cy="361800"/>
            </a:xfrm>
          </p:grpSpPr>
          <p:sp>
            <p:nvSpPr>
              <p:cNvPr id="121" name=""/>
              <p:cNvSpPr/>
              <p:nvPr/>
            </p:nvSpPr>
            <p:spPr>
              <a:xfrm>
                <a:off x="2116800" y="2381040"/>
                <a:ext cx="1200240" cy="36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2116800" y="2381040"/>
                <a:ext cx="1199880" cy="361800"/>
                <a:chOff x="2116800" y="2381040"/>
                <a:chExt cx="1199880" cy="3618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144160" y="2381040"/>
                  <a:ext cx="1144800" cy="36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umark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116800" y="2381040"/>
                  <a:ext cx="119988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5" name=""/>
          <p:cNvGrpSpPr/>
          <p:nvPr/>
        </p:nvGrpSpPr>
        <p:grpSpPr>
          <a:xfrm>
            <a:off x="0" y="3500280"/>
            <a:ext cx="9143640" cy="2372040"/>
            <a:chOff x="0" y="3500280"/>
            <a:chExt cx="9143640" cy="2372040"/>
          </a:xfrm>
        </p:grpSpPr>
        <p:grpSp>
          <p:nvGrpSpPr>
            <p:cNvPr id="126" name=""/>
            <p:cNvGrpSpPr/>
            <p:nvPr/>
          </p:nvGrpSpPr>
          <p:grpSpPr>
            <a:xfrm>
              <a:off x="0" y="3500280"/>
              <a:ext cx="512280" cy="395280"/>
              <a:chOff x="0" y="3500280"/>
              <a:chExt cx="512280" cy="39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3500280"/>
                <a:ext cx="51228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0" y="3500280"/>
                <a:ext cx="511920" cy="395280"/>
                <a:chOff x="0" y="3500280"/>
                <a:chExt cx="511920" cy="395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30600" y="3500280"/>
                  <a:ext cx="45036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_I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500280"/>
                  <a:ext cx="511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512640" y="3500280"/>
              <a:ext cx="1163160" cy="395280"/>
              <a:chOff x="512640" y="3500280"/>
              <a:chExt cx="1163160" cy="395280"/>
            </a:xfrm>
          </p:grpSpPr>
          <p:sp>
            <p:nvSpPr>
              <p:cNvPr id="132" name=""/>
              <p:cNvSpPr/>
              <p:nvPr/>
            </p:nvSpPr>
            <p:spPr>
              <a:xfrm>
                <a:off x="512640" y="3500280"/>
                <a:ext cx="116316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512640" y="3500280"/>
                <a:ext cx="1162800" cy="395280"/>
                <a:chOff x="512640" y="3500280"/>
                <a:chExt cx="1162800" cy="395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42880" y="3500280"/>
                  <a:ext cx="110196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rna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12640" y="3500280"/>
                  <a:ext cx="11628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" name=""/>
            <p:cNvGrpSpPr/>
            <p:nvPr/>
          </p:nvGrpSpPr>
          <p:grpSpPr>
            <a:xfrm>
              <a:off x="1676160" y="3500280"/>
              <a:ext cx="1244520" cy="395280"/>
              <a:chOff x="1676160" y="3500280"/>
              <a:chExt cx="1244520" cy="395280"/>
            </a:xfrm>
          </p:grpSpPr>
          <p:sp>
            <p:nvSpPr>
              <p:cNvPr id="137" name=""/>
              <p:cNvSpPr/>
              <p:nvPr/>
            </p:nvSpPr>
            <p:spPr>
              <a:xfrm>
                <a:off x="1676160" y="3500280"/>
                <a:ext cx="124452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1676160" y="3500280"/>
                <a:ext cx="1244160" cy="395280"/>
                <a:chOff x="1676160" y="3500280"/>
                <a:chExt cx="1244160" cy="395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706400" y="3500280"/>
                  <a:ext cx="118332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achna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676160" y="3500280"/>
                  <a:ext cx="12441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" name=""/>
            <p:cNvGrpSpPr/>
            <p:nvPr/>
          </p:nvGrpSpPr>
          <p:grpSpPr>
            <a:xfrm>
              <a:off x="2921400" y="3500280"/>
              <a:ext cx="1160280" cy="395280"/>
              <a:chOff x="2921400" y="3500280"/>
              <a:chExt cx="1160280" cy="395280"/>
            </a:xfrm>
          </p:grpSpPr>
          <p:sp>
            <p:nvSpPr>
              <p:cNvPr id="142" name=""/>
              <p:cNvSpPr/>
              <p:nvPr/>
            </p:nvSpPr>
            <p:spPr>
              <a:xfrm>
                <a:off x="2921400" y="3500280"/>
                <a:ext cx="116028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2921400" y="3500280"/>
                <a:ext cx="1159920" cy="395280"/>
                <a:chOff x="2921400" y="3500280"/>
                <a:chExt cx="1159920" cy="39528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2951640" y="3500280"/>
                  <a:ext cx="109908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eburtsdatu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921400" y="3500280"/>
                  <a:ext cx="1159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4082400" y="3500280"/>
              <a:ext cx="991800" cy="395280"/>
              <a:chOff x="4082400" y="3500280"/>
              <a:chExt cx="991800" cy="395280"/>
            </a:xfrm>
          </p:grpSpPr>
          <p:sp>
            <p:nvSpPr>
              <p:cNvPr id="147" name=""/>
              <p:cNvSpPr/>
              <p:nvPr/>
            </p:nvSpPr>
            <p:spPr>
              <a:xfrm>
                <a:off x="4082400" y="3500280"/>
                <a:ext cx="99180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4082400" y="3500280"/>
                <a:ext cx="991440" cy="395280"/>
                <a:chOff x="4082400" y="3500280"/>
                <a:chExt cx="991440" cy="3952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112640" y="3500280"/>
                  <a:ext cx="93060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eschlech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082400" y="3500280"/>
                  <a:ext cx="99144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" name=""/>
            <p:cNvGrpSpPr/>
            <p:nvPr/>
          </p:nvGrpSpPr>
          <p:grpSpPr>
            <a:xfrm>
              <a:off x="5074560" y="3500280"/>
              <a:ext cx="1159920" cy="395280"/>
              <a:chOff x="5074560" y="3500280"/>
              <a:chExt cx="1159920" cy="395280"/>
            </a:xfrm>
          </p:grpSpPr>
          <p:sp>
            <p:nvSpPr>
              <p:cNvPr id="152" name=""/>
              <p:cNvSpPr/>
              <p:nvPr/>
            </p:nvSpPr>
            <p:spPr>
              <a:xfrm>
                <a:off x="5074560" y="3500280"/>
                <a:ext cx="115992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5074560" y="3500280"/>
                <a:ext cx="1159560" cy="395280"/>
                <a:chOff x="5074560" y="3500280"/>
                <a:chExt cx="1159560" cy="3952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5104800" y="3500280"/>
                  <a:ext cx="109908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z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074560" y="3500280"/>
                  <a:ext cx="11595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" name=""/>
            <p:cNvGrpSpPr/>
            <p:nvPr/>
          </p:nvGrpSpPr>
          <p:grpSpPr>
            <a:xfrm>
              <a:off x="6235200" y="3500280"/>
              <a:ext cx="1692360" cy="395280"/>
              <a:chOff x="6235200" y="3500280"/>
              <a:chExt cx="1692360" cy="395280"/>
            </a:xfrm>
          </p:grpSpPr>
          <p:sp>
            <p:nvSpPr>
              <p:cNvPr id="157" name=""/>
              <p:cNvSpPr/>
              <p:nvPr/>
            </p:nvSpPr>
            <p:spPr>
              <a:xfrm>
                <a:off x="6235200" y="3500280"/>
                <a:ext cx="169236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6235200" y="3500280"/>
                <a:ext cx="1692000" cy="395280"/>
                <a:chOff x="6235200" y="3500280"/>
                <a:chExt cx="1692000" cy="395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265800" y="3500280"/>
                  <a:ext cx="163116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tras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235200" y="3500280"/>
                  <a:ext cx="16920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" name=""/>
            <p:cNvGrpSpPr/>
            <p:nvPr/>
          </p:nvGrpSpPr>
          <p:grpSpPr>
            <a:xfrm>
              <a:off x="7927920" y="3500280"/>
              <a:ext cx="1215720" cy="395280"/>
              <a:chOff x="7927920" y="3500280"/>
              <a:chExt cx="1215720" cy="395280"/>
            </a:xfrm>
          </p:grpSpPr>
          <p:sp>
            <p:nvSpPr>
              <p:cNvPr id="162" name=""/>
              <p:cNvSpPr/>
              <p:nvPr/>
            </p:nvSpPr>
            <p:spPr>
              <a:xfrm>
                <a:off x="7927920" y="3500280"/>
                <a:ext cx="121572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7927920" y="3500280"/>
                <a:ext cx="1215720" cy="395280"/>
                <a:chOff x="7927920" y="3500280"/>
                <a:chExt cx="1215720" cy="3952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7953120" y="3500280"/>
                  <a:ext cx="116496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lef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7920" y="3500280"/>
                  <a:ext cx="12157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0" y="3895560"/>
              <a:ext cx="512280" cy="395280"/>
              <a:chOff x="0" y="3895560"/>
              <a:chExt cx="512280" cy="39528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3895560"/>
                <a:ext cx="512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0" y="3895560"/>
                <a:ext cx="511920" cy="395280"/>
                <a:chOff x="0" y="3895560"/>
                <a:chExt cx="511920" cy="395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0600" y="3895560"/>
                  <a:ext cx="4503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0" y="3895560"/>
                  <a:ext cx="511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" name=""/>
            <p:cNvGrpSpPr/>
            <p:nvPr/>
          </p:nvGrpSpPr>
          <p:grpSpPr>
            <a:xfrm>
              <a:off x="512640" y="3895560"/>
              <a:ext cx="1163160" cy="395280"/>
              <a:chOff x="512640" y="3895560"/>
              <a:chExt cx="1163160" cy="395280"/>
            </a:xfrm>
          </p:grpSpPr>
          <p:sp>
            <p:nvSpPr>
              <p:cNvPr id="172" name=""/>
              <p:cNvSpPr/>
              <p:nvPr/>
            </p:nvSpPr>
            <p:spPr>
              <a:xfrm>
                <a:off x="512640" y="3895560"/>
                <a:ext cx="11631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512640" y="3895560"/>
                <a:ext cx="1162800" cy="395280"/>
                <a:chOff x="512640" y="3895560"/>
                <a:chExt cx="1162800" cy="3952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42880" y="3895560"/>
                  <a:ext cx="1101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hristi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12640" y="3895560"/>
                  <a:ext cx="11628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1676160" y="3895560"/>
              <a:ext cx="1244520" cy="395280"/>
              <a:chOff x="1676160" y="3895560"/>
              <a:chExt cx="1244520" cy="395280"/>
            </a:xfrm>
          </p:grpSpPr>
          <p:sp>
            <p:nvSpPr>
              <p:cNvPr id="177" name=""/>
              <p:cNvSpPr/>
              <p:nvPr/>
            </p:nvSpPr>
            <p:spPr>
              <a:xfrm>
                <a:off x="1676160" y="3895560"/>
                <a:ext cx="12445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1676160" y="3895560"/>
                <a:ext cx="1244160" cy="395280"/>
                <a:chOff x="1676160" y="3895560"/>
                <a:chExt cx="1244160" cy="3952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706400" y="3895560"/>
                  <a:ext cx="118332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eidric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676160" y="3895560"/>
                  <a:ext cx="12441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21400" y="3895560"/>
              <a:ext cx="1160280" cy="395280"/>
              <a:chOff x="2921400" y="3895560"/>
              <a:chExt cx="1160280" cy="395280"/>
            </a:xfrm>
          </p:grpSpPr>
          <p:sp>
            <p:nvSpPr>
              <p:cNvPr id="182" name=""/>
              <p:cNvSpPr/>
              <p:nvPr/>
            </p:nvSpPr>
            <p:spPr>
              <a:xfrm>
                <a:off x="2921400" y="3895560"/>
                <a:ext cx="1160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2921400" y="3895560"/>
                <a:ext cx="1159920" cy="395280"/>
                <a:chOff x="2921400" y="3895560"/>
                <a:chExt cx="1159920" cy="3952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951640" y="389556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.11.19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921400" y="3895560"/>
                  <a:ext cx="1159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6" name=""/>
            <p:cNvGrpSpPr/>
            <p:nvPr/>
          </p:nvGrpSpPr>
          <p:grpSpPr>
            <a:xfrm>
              <a:off x="4082400" y="3895560"/>
              <a:ext cx="991800" cy="395280"/>
              <a:chOff x="4082400" y="3895560"/>
              <a:chExt cx="991800" cy="395280"/>
            </a:xfrm>
          </p:grpSpPr>
          <p:sp>
            <p:nvSpPr>
              <p:cNvPr id="187" name=""/>
              <p:cNvSpPr/>
              <p:nvPr/>
            </p:nvSpPr>
            <p:spPr>
              <a:xfrm>
                <a:off x="4082400" y="3895560"/>
                <a:ext cx="99180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4082400" y="3895560"/>
                <a:ext cx="991440" cy="395280"/>
                <a:chOff x="4082400" y="3895560"/>
                <a:chExt cx="991440" cy="3952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4112640" y="3895560"/>
                  <a:ext cx="93060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082400" y="3895560"/>
                  <a:ext cx="99144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5074560" y="3895560"/>
              <a:ext cx="1159920" cy="395280"/>
              <a:chOff x="5074560" y="3895560"/>
              <a:chExt cx="1159920" cy="395280"/>
            </a:xfrm>
          </p:grpSpPr>
          <p:sp>
            <p:nvSpPr>
              <p:cNvPr id="192" name=""/>
              <p:cNvSpPr/>
              <p:nvPr/>
            </p:nvSpPr>
            <p:spPr>
              <a:xfrm>
                <a:off x="5074560" y="3895560"/>
                <a:ext cx="11599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5074560" y="3895560"/>
                <a:ext cx="1159560" cy="395280"/>
                <a:chOff x="5074560" y="3895560"/>
                <a:chExt cx="1159560" cy="3952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104800" y="389556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05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074560" y="3895560"/>
                  <a:ext cx="11595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" name=""/>
            <p:cNvGrpSpPr/>
            <p:nvPr/>
          </p:nvGrpSpPr>
          <p:grpSpPr>
            <a:xfrm>
              <a:off x="6235200" y="3895560"/>
              <a:ext cx="1692360" cy="395280"/>
              <a:chOff x="6235200" y="3895560"/>
              <a:chExt cx="1692360" cy="395280"/>
            </a:xfrm>
          </p:grpSpPr>
          <p:sp>
            <p:nvSpPr>
              <p:cNvPr id="197" name=""/>
              <p:cNvSpPr/>
              <p:nvPr/>
            </p:nvSpPr>
            <p:spPr>
              <a:xfrm>
                <a:off x="6235200" y="3895560"/>
                <a:ext cx="16923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6235200" y="3895560"/>
                <a:ext cx="1692000" cy="395280"/>
                <a:chOff x="6235200" y="3895560"/>
                <a:chExt cx="1692000" cy="3952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6265800" y="3895560"/>
                  <a:ext cx="16311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xxx-Straße 6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235200" y="3895560"/>
                  <a:ext cx="16920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7927920" y="3895560"/>
              <a:ext cx="1215720" cy="395280"/>
              <a:chOff x="7927920" y="3895560"/>
              <a:chExt cx="1215720" cy="395280"/>
            </a:xfrm>
          </p:grpSpPr>
          <p:sp>
            <p:nvSpPr>
              <p:cNvPr id="202" name=""/>
              <p:cNvSpPr/>
              <p:nvPr/>
            </p:nvSpPr>
            <p:spPr>
              <a:xfrm>
                <a:off x="7927920" y="3895560"/>
                <a:ext cx="12157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7927920" y="3895560"/>
                <a:ext cx="1215720" cy="395280"/>
                <a:chOff x="7927920" y="3895560"/>
                <a:chExt cx="1215720" cy="3952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7953120" y="3895560"/>
                  <a:ext cx="1164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9131/999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927920" y="3895560"/>
                  <a:ext cx="12157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0" y="4290840"/>
              <a:ext cx="512280" cy="395640"/>
              <a:chOff x="0" y="4290840"/>
              <a:chExt cx="512280" cy="395640"/>
            </a:xfrm>
          </p:grpSpPr>
          <p:sp>
            <p:nvSpPr>
              <p:cNvPr id="207" name=""/>
              <p:cNvSpPr/>
              <p:nvPr/>
            </p:nvSpPr>
            <p:spPr>
              <a:xfrm>
                <a:off x="0" y="4290840"/>
                <a:ext cx="51228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0" y="4290840"/>
                <a:ext cx="511920" cy="395640"/>
                <a:chOff x="0" y="4290840"/>
                <a:chExt cx="511920" cy="3956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0600" y="4290840"/>
                  <a:ext cx="45036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0" y="4290840"/>
                  <a:ext cx="51192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" name=""/>
            <p:cNvGrpSpPr/>
            <p:nvPr/>
          </p:nvGrpSpPr>
          <p:grpSpPr>
            <a:xfrm>
              <a:off x="512640" y="4290840"/>
              <a:ext cx="1163160" cy="395640"/>
              <a:chOff x="512640" y="4290840"/>
              <a:chExt cx="1163160" cy="395640"/>
            </a:xfrm>
          </p:grpSpPr>
          <p:sp>
            <p:nvSpPr>
              <p:cNvPr id="212" name=""/>
              <p:cNvSpPr/>
              <p:nvPr/>
            </p:nvSpPr>
            <p:spPr>
              <a:xfrm>
                <a:off x="512640" y="4290840"/>
                <a:ext cx="116316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512640" y="4290840"/>
                <a:ext cx="1162800" cy="395640"/>
                <a:chOff x="512640" y="4290840"/>
                <a:chExt cx="1162800" cy="395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42880" y="4290840"/>
                  <a:ext cx="110196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ber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12640" y="4290840"/>
                  <a:ext cx="116280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1676160" y="4290840"/>
              <a:ext cx="1244520" cy="395640"/>
              <a:chOff x="1676160" y="4290840"/>
              <a:chExt cx="1244520" cy="395640"/>
            </a:xfrm>
          </p:grpSpPr>
          <p:sp>
            <p:nvSpPr>
              <p:cNvPr id="217" name=""/>
              <p:cNvSpPr/>
              <p:nvPr/>
            </p:nvSpPr>
            <p:spPr>
              <a:xfrm>
                <a:off x="1676160" y="4290840"/>
                <a:ext cx="124452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1676160" y="4290840"/>
                <a:ext cx="1244160" cy="395640"/>
                <a:chOff x="1676160" y="4290840"/>
                <a:chExt cx="1244160" cy="3956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706400" y="4290840"/>
                  <a:ext cx="118332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676160" y="4290840"/>
                  <a:ext cx="124416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" name=""/>
            <p:cNvGrpSpPr/>
            <p:nvPr/>
          </p:nvGrpSpPr>
          <p:grpSpPr>
            <a:xfrm>
              <a:off x="2921400" y="4290840"/>
              <a:ext cx="1160280" cy="395640"/>
              <a:chOff x="2921400" y="4290840"/>
              <a:chExt cx="1160280" cy="395640"/>
            </a:xfrm>
          </p:grpSpPr>
          <p:sp>
            <p:nvSpPr>
              <p:cNvPr id="222" name=""/>
              <p:cNvSpPr/>
              <p:nvPr/>
            </p:nvSpPr>
            <p:spPr>
              <a:xfrm>
                <a:off x="2921400" y="4290840"/>
                <a:ext cx="116028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921400" y="4290840"/>
                <a:ext cx="1159920" cy="395640"/>
                <a:chOff x="2921400" y="4290840"/>
                <a:chExt cx="1159920" cy="3956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951640" y="4290840"/>
                  <a:ext cx="109908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.03.187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921400" y="4290840"/>
                  <a:ext cx="115992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4082400" y="4290840"/>
              <a:ext cx="991800" cy="395640"/>
              <a:chOff x="4082400" y="4290840"/>
              <a:chExt cx="991800" cy="395640"/>
            </a:xfrm>
          </p:grpSpPr>
          <p:sp>
            <p:nvSpPr>
              <p:cNvPr id="227" name=""/>
              <p:cNvSpPr/>
              <p:nvPr/>
            </p:nvSpPr>
            <p:spPr>
              <a:xfrm>
                <a:off x="4082400" y="4290840"/>
                <a:ext cx="99180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4082400" y="4290840"/>
                <a:ext cx="991440" cy="395640"/>
                <a:chOff x="4082400" y="4290840"/>
                <a:chExt cx="991440" cy="395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112640" y="4290840"/>
                  <a:ext cx="93060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082400" y="4290840"/>
                  <a:ext cx="99144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" name=""/>
            <p:cNvGrpSpPr/>
            <p:nvPr/>
          </p:nvGrpSpPr>
          <p:grpSpPr>
            <a:xfrm>
              <a:off x="5074560" y="4290840"/>
              <a:ext cx="1159920" cy="395640"/>
              <a:chOff x="5074560" y="4290840"/>
              <a:chExt cx="1159920" cy="395640"/>
            </a:xfrm>
          </p:grpSpPr>
          <p:sp>
            <p:nvSpPr>
              <p:cNvPr id="232" name=""/>
              <p:cNvSpPr/>
              <p:nvPr/>
            </p:nvSpPr>
            <p:spPr>
              <a:xfrm>
                <a:off x="5074560" y="4290840"/>
                <a:ext cx="115992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5074560" y="4290840"/>
                <a:ext cx="1159560" cy="395640"/>
                <a:chOff x="5074560" y="4290840"/>
                <a:chExt cx="1159560" cy="3956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104800" y="4290840"/>
                  <a:ext cx="109908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3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074560" y="4290840"/>
                  <a:ext cx="115956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6" name=""/>
            <p:cNvGrpSpPr/>
            <p:nvPr/>
          </p:nvGrpSpPr>
          <p:grpSpPr>
            <a:xfrm>
              <a:off x="6235200" y="4290840"/>
              <a:ext cx="1692360" cy="395640"/>
              <a:chOff x="6235200" y="4290840"/>
              <a:chExt cx="1692360" cy="395640"/>
            </a:xfrm>
          </p:grpSpPr>
          <p:sp>
            <p:nvSpPr>
              <p:cNvPr id="237" name=""/>
              <p:cNvSpPr/>
              <p:nvPr/>
            </p:nvSpPr>
            <p:spPr>
              <a:xfrm>
                <a:off x="6235200" y="4290840"/>
                <a:ext cx="169236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6235200" y="4290840"/>
                <a:ext cx="1692000" cy="395640"/>
                <a:chOff x="6235200" y="4290840"/>
                <a:chExt cx="1692000" cy="39564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6265800" y="4290840"/>
                  <a:ext cx="163116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instraße 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235200" y="4290840"/>
                  <a:ext cx="169200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1" name=""/>
            <p:cNvGrpSpPr/>
            <p:nvPr/>
          </p:nvGrpSpPr>
          <p:grpSpPr>
            <a:xfrm>
              <a:off x="7927920" y="4290840"/>
              <a:ext cx="1215720" cy="395640"/>
              <a:chOff x="7927920" y="4290840"/>
              <a:chExt cx="1215720" cy="395640"/>
            </a:xfrm>
          </p:grpSpPr>
          <p:sp>
            <p:nvSpPr>
              <p:cNvPr id="242" name=""/>
              <p:cNvSpPr/>
              <p:nvPr/>
            </p:nvSpPr>
            <p:spPr>
              <a:xfrm>
                <a:off x="7927920" y="4290840"/>
                <a:ext cx="121572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7927920" y="4290840"/>
                <a:ext cx="1215720" cy="395640"/>
                <a:chOff x="7927920" y="4290840"/>
                <a:chExt cx="1215720" cy="3956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953120" y="4290840"/>
                  <a:ext cx="116496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9181/1234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927920" y="4290840"/>
                  <a:ext cx="121572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6" name=""/>
            <p:cNvGrpSpPr/>
            <p:nvPr/>
          </p:nvGrpSpPr>
          <p:grpSpPr>
            <a:xfrm>
              <a:off x="0" y="4686480"/>
              <a:ext cx="512280" cy="395280"/>
              <a:chOff x="0" y="4686480"/>
              <a:chExt cx="512280" cy="39528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4686480"/>
                <a:ext cx="512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0" y="4686480"/>
                <a:ext cx="511920" cy="395280"/>
                <a:chOff x="0" y="4686480"/>
                <a:chExt cx="511920" cy="3952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30600" y="4686480"/>
                  <a:ext cx="4503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0" y="4686480"/>
                  <a:ext cx="511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512640" y="4686480"/>
              <a:ext cx="1163160" cy="395280"/>
              <a:chOff x="512640" y="4686480"/>
              <a:chExt cx="1163160" cy="395280"/>
            </a:xfrm>
          </p:grpSpPr>
          <p:sp>
            <p:nvSpPr>
              <p:cNvPr id="252" name=""/>
              <p:cNvSpPr/>
              <p:nvPr/>
            </p:nvSpPr>
            <p:spPr>
              <a:xfrm>
                <a:off x="512640" y="4686480"/>
                <a:ext cx="11631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3" name=""/>
              <p:cNvGrpSpPr/>
              <p:nvPr/>
            </p:nvGrpSpPr>
            <p:grpSpPr>
              <a:xfrm>
                <a:off x="512640" y="4686480"/>
                <a:ext cx="1162800" cy="395280"/>
                <a:chOff x="512640" y="4686480"/>
                <a:chExt cx="1162800" cy="39528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542880" y="4686480"/>
                  <a:ext cx="1101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eid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2640" y="4686480"/>
                  <a:ext cx="11628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6" name=""/>
            <p:cNvGrpSpPr/>
            <p:nvPr/>
          </p:nvGrpSpPr>
          <p:grpSpPr>
            <a:xfrm>
              <a:off x="1676160" y="4686480"/>
              <a:ext cx="1244520" cy="395280"/>
              <a:chOff x="1676160" y="4686480"/>
              <a:chExt cx="1244520" cy="395280"/>
            </a:xfrm>
          </p:grpSpPr>
          <p:sp>
            <p:nvSpPr>
              <p:cNvPr id="257" name=""/>
              <p:cNvSpPr/>
              <p:nvPr/>
            </p:nvSpPr>
            <p:spPr>
              <a:xfrm>
                <a:off x="1676160" y="4686480"/>
                <a:ext cx="12445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1676160" y="4686480"/>
                <a:ext cx="1244160" cy="395280"/>
                <a:chOff x="1676160" y="4686480"/>
                <a:chExt cx="1244160" cy="3952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706400" y="4686480"/>
                  <a:ext cx="118332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ofman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676160" y="4686480"/>
                  <a:ext cx="12441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1" name=""/>
            <p:cNvGrpSpPr/>
            <p:nvPr/>
          </p:nvGrpSpPr>
          <p:grpSpPr>
            <a:xfrm>
              <a:off x="2921400" y="4686480"/>
              <a:ext cx="1160280" cy="395280"/>
              <a:chOff x="2921400" y="4686480"/>
              <a:chExt cx="1160280" cy="395280"/>
            </a:xfrm>
          </p:grpSpPr>
          <p:sp>
            <p:nvSpPr>
              <p:cNvPr id="262" name=""/>
              <p:cNvSpPr/>
              <p:nvPr/>
            </p:nvSpPr>
            <p:spPr>
              <a:xfrm>
                <a:off x="2921400" y="4686480"/>
                <a:ext cx="1160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2921400" y="4686480"/>
                <a:ext cx="1159920" cy="395280"/>
                <a:chOff x="2921400" y="4686480"/>
                <a:chExt cx="1159920" cy="3952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951640" y="468648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.01.196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921400" y="4686480"/>
                  <a:ext cx="1159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" name=""/>
            <p:cNvGrpSpPr/>
            <p:nvPr/>
          </p:nvGrpSpPr>
          <p:grpSpPr>
            <a:xfrm>
              <a:off x="4082400" y="4686480"/>
              <a:ext cx="991800" cy="395280"/>
              <a:chOff x="4082400" y="4686480"/>
              <a:chExt cx="991800" cy="395280"/>
            </a:xfrm>
          </p:grpSpPr>
          <p:sp>
            <p:nvSpPr>
              <p:cNvPr id="267" name=""/>
              <p:cNvSpPr/>
              <p:nvPr/>
            </p:nvSpPr>
            <p:spPr>
              <a:xfrm>
                <a:off x="4082400" y="4686480"/>
                <a:ext cx="99180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4082400" y="4686480"/>
                <a:ext cx="991440" cy="395280"/>
                <a:chOff x="4082400" y="4686480"/>
                <a:chExt cx="991440" cy="3952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4112640" y="4686480"/>
                  <a:ext cx="93060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082400" y="4686480"/>
                  <a:ext cx="99144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5074560" y="4686480"/>
              <a:ext cx="1159920" cy="395280"/>
              <a:chOff x="5074560" y="4686480"/>
              <a:chExt cx="1159920" cy="395280"/>
            </a:xfrm>
          </p:grpSpPr>
          <p:sp>
            <p:nvSpPr>
              <p:cNvPr id="272" name=""/>
              <p:cNvSpPr/>
              <p:nvPr/>
            </p:nvSpPr>
            <p:spPr>
              <a:xfrm>
                <a:off x="5074560" y="4686480"/>
                <a:ext cx="11599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5074560" y="4686480"/>
                <a:ext cx="1159560" cy="395280"/>
                <a:chOff x="5074560" y="4686480"/>
                <a:chExt cx="1159560" cy="3952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104800" y="468648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3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074560" y="4686480"/>
                  <a:ext cx="11595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6235200" y="4686480"/>
              <a:ext cx="1692360" cy="395280"/>
              <a:chOff x="6235200" y="4686480"/>
              <a:chExt cx="1692360" cy="395280"/>
            </a:xfrm>
          </p:grpSpPr>
          <p:sp>
            <p:nvSpPr>
              <p:cNvPr id="277" name=""/>
              <p:cNvSpPr/>
              <p:nvPr/>
            </p:nvSpPr>
            <p:spPr>
              <a:xfrm>
                <a:off x="6235200" y="4686480"/>
                <a:ext cx="16923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6235200" y="4686480"/>
                <a:ext cx="1692000" cy="395280"/>
                <a:chOff x="6235200" y="4686480"/>
                <a:chExt cx="1692000" cy="3952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6265800" y="4686480"/>
                  <a:ext cx="16311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ofmannstraße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235200" y="4686480"/>
                  <a:ext cx="16920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1" name=""/>
            <p:cNvGrpSpPr/>
            <p:nvPr/>
          </p:nvGrpSpPr>
          <p:grpSpPr>
            <a:xfrm>
              <a:off x="7927920" y="4686480"/>
              <a:ext cx="1215720" cy="395280"/>
              <a:chOff x="7927920" y="4686480"/>
              <a:chExt cx="1215720" cy="395280"/>
            </a:xfrm>
          </p:grpSpPr>
          <p:sp>
            <p:nvSpPr>
              <p:cNvPr id="282" name=""/>
              <p:cNvSpPr/>
              <p:nvPr/>
            </p:nvSpPr>
            <p:spPr>
              <a:xfrm>
                <a:off x="7927920" y="4686480"/>
                <a:ext cx="12157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7927920" y="4686480"/>
                <a:ext cx="1215720" cy="395280"/>
                <a:chOff x="7927920" y="4686480"/>
                <a:chExt cx="1215720" cy="3952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7953120" y="4686480"/>
                  <a:ext cx="1164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927920" y="4686480"/>
                  <a:ext cx="12157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6" name=""/>
            <p:cNvGrpSpPr/>
            <p:nvPr/>
          </p:nvGrpSpPr>
          <p:grpSpPr>
            <a:xfrm>
              <a:off x="0" y="5081760"/>
              <a:ext cx="512280" cy="395280"/>
              <a:chOff x="0" y="5081760"/>
              <a:chExt cx="512280" cy="39528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5081760"/>
                <a:ext cx="512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0" y="5081760"/>
                <a:ext cx="511920" cy="395280"/>
                <a:chOff x="0" y="5081760"/>
                <a:chExt cx="511920" cy="3952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0600" y="5081760"/>
                  <a:ext cx="4503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0" y="5081760"/>
                  <a:ext cx="511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1" name=""/>
            <p:cNvGrpSpPr/>
            <p:nvPr/>
          </p:nvGrpSpPr>
          <p:grpSpPr>
            <a:xfrm>
              <a:off x="512640" y="5081760"/>
              <a:ext cx="1163160" cy="395280"/>
              <a:chOff x="512640" y="5081760"/>
              <a:chExt cx="1163160" cy="395280"/>
            </a:xfrm>
          </p:grpSpPr>
          <p:sp>
            <p:nvSpPr>
              <p:cNvPr id="292" name=""/>
              <p:cNvSpPr/>
              <p:nvPr/>
            </p:nvSpPr>
            <p:spPr>
              <a:xfrm>
                <a:off x="512640" y="5081760"/>
                <a:ext cx="11631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512640" y="5081760"/>
                <a:ext cx="1162800" cy="395280"/>
                <a:chOff x="512640" y="5081760"/>
                <a:chExt cx="1162800" cy="3952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42880" y="5081760"/>
                  <a:ext cx="1101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12640" y="5081760"/>
                  <a:ext cx="11628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"/>
            <p:cNvGrpSpPr/>
            <p:nvPr/>
          </p:nvGrpSpPr>
          <p:grpSpPr>
            <a:xfrm>
              <a:off x="1676160" y="5081760"/>
              <a:ext cx="1244520" cy="395280"/>
              <a:chOff x="1676160" y="5081760"/>
              <a:chExt cx="1244520" cy="39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160" y="5081760"/>
                <a:ext cx="12445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1676160" y="5081760"/>
                <a:ext cx="1244160" cy="395280"/>
                <a:chOff x="1676160" y="5081760"/>
                <a:chExt cx="1244160" cy="3952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706400" y="5081760"/>
                  <a:ext cx="118332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llman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676160" y="5081760"/>
                  <a:ext cx="12441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1" name=""/>
            <p:cNvGrpSpPr/>
            <p:nvPr/>
          </p:nvGrpSpPr>
          <p:grpSpPr>
            <a:xfrm>
              <a:off x="2921400" y="5081760"/>
              <a:ext cx="1160280" cy="395280"/>
              <a:chOff x="2921400" y="5081760"/>
              <a:chExt cx="1160280" cy="395280"/>
            </a:xfrm>
          </p:grpSpPr>
          <p:sp>
            <p:nvSpPr>
              <p:cNvPr id="302" name=""/>
              <p:cNvSpPr/>
              <p:nvPr/>
            </p:nvSpPr>
            <p:spPr>
              <a:xfrm>
                <a:off x="2921400" y="5081760"/>
                <a:ext cx="1160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921400" y="5081760"/>
                <a:ext cx="1159920" cy="395280"/>
                <a:chOff x="2921400" y="5081760"/>
                <a:chExt cx="1159920" cy="395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951640" y="508176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3.05.19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921400" y="5081760"/>
                  <a:ext cx="1159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4082400" y="5081760"/>
              <a:ext cx="991800" cy="395280"/>
              <a:chOff x="4082400" y="5081760"/>
              <a:chExt cx="991800" cy="395280"/>
            </a:xfrm>
          </p:grpSpPr>
          <p:sp>
            <p:nvSpPr>
              <p:cNvPr id="307" name=""/>
              <p:cNvSpPr/>
              <p:nvPr/>
            </p:nvSpPr>
            <p:spPr>
              <a:xfrm>
                <a:off x="4082400" y="5081760"/>
                <a:ext cx="99180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4082400" y="5081760"/>
                <a:ext cx="991440" cy="395280"/>
                <a:chOff x="4082400" y="5081760"/>
                <a:chExt cx="991440" cy="3952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4112640" y="5081760"/>
                  <a:ext cx="93060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082400" y="5081760"/>
                  <a:ext cx="99144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5074560" y="5081760"/>
              <a:ext cx="1159920" cy="395280"/>
              <a:chOff x="5074560" y="5081760"/>
              <a:chExt cx="1159920" cy="395280"/>
            </a:xfrm>
          </p:grpSpPr>
          <p:sp>
            <p:nvSpPr>
              <p:cNvPr id="312" name=""/>
              <p:cNvSpPr/>
              <p:nvPr/>
            </p:nvSpPr>
            <p:spPr>
              <a:xfrm>
                <a:off x="5074560" y="5081760"/>
                <a:ext cx="11599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5074560" y="5081760"/>
                <a:ext cx="1159560" cy="395280"/>
                <a:chOff x="5074560" y="5081760"/>
                <a:chExt cx="1159560" cy="3952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104800" y="508176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3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074560" y="5081760"/>
                  <a:ext cx="11595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6" name=""/>
            <p:cNvGrpSpPr/>
            <p:nvPr/>
          </p:nvGrpSpPr>
          <p:grpSpPr>
            <a:xfrm>
              <a:off x="6235200" y="5081760"/>
              <a:ext cx="1692360" cy="395280"/>
              <a:chOff x="6235200" y="5081760"/>
              <a:chExt cx="1692360" cy="395280"/>
            </a:xfrm>
          </p:grpSpPr>
          <p:sp>
            <p:nvSpPr>
              <p:cNvPr id="317" name=""/>
              <p:cNvSpPr/>
              <p:nvPr/>
            </p:nvSpPr>
            <p:spPr>
              <a:xfrm>
                <a:off x="6235200" y="5081760"/>
                <a:ext cx="16923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" name=""/>
              <p:cNvGrpSpPr/>
              <p:nvPr/>
            </p:nvGrpSpPr>
            <p:grpSpPr>
              <a:xfrm>
                <a:off x="6235200" y="5081760"/>
                <a:ext cx="1692000" cy="395280"/>
                <a:chOff x="6235200" y="5081760"/>
                <a:chExt cx="1692000" cy="3952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265800" y="5081760"/>
                  <a:ext cx="16311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olfsteinstr. 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235200" y="5081760"/>
                  <a:ext cx="16920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7927920" y="5081760"/>
              <a:ext cx="1215720" cy="395280"/>
              <a:chOff x="7927920" y="5081760"/>
              <a:chExt cx="1215720" cy="395280"/>
            </a:xfrm>
          </p:grpSpPr>
          <p:sp>
            <p:nvSpPr>
              <p:cNvPr id="322" name=""/>
              <p:cNvSpPr/>
              <p:nvPr/>
            </p:nvSpPr>
            <p:spPr>
              <a:xfrm>
                <a:off x="7927920" y="5081760"/>
                <a:ext cx="12157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3" name=""/>
              <p:cNvGrpSpPr/>
              <p:nvPr/>
            </p:nvGrpSpPr>
            <p:grpSpPr>
              <a:xfrm>
                <a:off x="7927920" y="5081760"/>
                <a:ext cx="1215720" cy="395280"/>
                <a:chOff x="7927920" y="5081760"/>
                <a:chExt cx="1215720" cy="3952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953120" y="5081760"/>
                  <a:ext cx="1164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927920" y="5081760"/>
                  <a:ext cx="12157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6" name=""/>
            <p:cNvGrpSpPr/>
            <p:nvPr/>
          </p:nvGrpSpPr>
          <p:grpSpPr>
            <a:xfrm>
              <a:off x="0" y="5477040"/>
              <a:ext cx="512280" cy="395280"/>
              <a:chOff x="0" y="5477040"/>
              <a:chExt cx="512280" cy="39528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5477040"/>
                <a:ext cx="512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0" y="5477040"/>
                <a:ext cx="511920" cy="395280"/>
                <a:chOff x="0" y="5477040"/>
                <a:chExt cx="511920" cy="3952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0600" y="5477040"/>
                  <a:ext cx="4503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0" y="5477040"/>
                  <a:ext cx="511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1" name=""/>
            <p:cNvGrpSpPr/>
            <p:nvPr/>
          </p:nvGrpSpPr>
          <p:grpSpPr>
            <a:xfrm>
              <a:off x="512640" y="5477040"/>
              <a:ext cx="1163160" cy="395280"/>
              <a:chOff x="512640" y="5477040"/>
              <a:chExt cx="1163160" cy="395280"/>
            </a:xfrm>
          </p:grpSpPr>
          <p:sp>
            <p:nvSpPr>
              <p:cNvPr id="332" name=""/>
              <p:cNvSpPr/>
              <p:nvPr/>
            </p:nvSpPr>
            <p:spPr>
              <a:xfrm>
                <a:off x="512640" y="5477040"/>
                <a:ext cx="11631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512640" y="5477040"/>
                <a:ext cx="1162800" cy="395280"/>
                <a:chOff x="512640" y="5477040"/>
                <a:chExt cx="1162800" cy="3952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42880" y="5477040"/>
                  <a:ext cx="1101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fr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12640" y="5477040"/>
                  <a:ext cx="11628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6" name=""/>
            <p:cNvGrpSpPr/>
            <p:nvPr/>
          </p:nvGrpSpPr>
          <p:grpSpPr>
            <a:xfrm>
              <a:off x="1676160" y="5477040"/>
              <a:ext cx="1244520" cy="395280"/>
              <a:chOff x="1676160" y="5477040"/>
              <a:chExt cx="1244520" cy="395280"/>
            </a:xfrm>
          </p:grpSpPr>
          <p:sp>
            <p:nvSpPr>
              <p:cNvPr id="337" name=""/>
              <p:cNvSpPr/>
              <p:nvPr/>
            </p:nvSpPr>
            <p:spPr>
              <a:xfrm>
                <a:off x="1676160" y="5477040"/>
                <a:ext cx="12445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1676160" y="5477040"/>
                <a:ext cx="1244160" cy="395280"/>
                <a:chOff x="1676160" y="5477040"/>
                <a:chExt cx="1244160" cy="3952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1706400" y="5477040"/>
                  <a:ext cx="118332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chmid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676160" y="5477040"/>
                  <a:ext cx="12441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1" name=""/>
            <p:cNvGrpSpPr/>
            <p:nvPr/>
          </p:nvGrpSpPr>
          <p:grpSpPr>
            <a:xfrm>
              <a:off x="2921400" y="5477040"/>
              <a:ext cx="1160280" cy="395280"/>
              <a:chOff x="2921400" y="5477040"/>
              <a:chExt cx="1160280" cy="395280"/>
            </a:xfrm>
          </p:grpSpPr>
          <p:sp>
            <p:nvSpPr>
              <p:cNvPr id="342" name=""/>
              <p:cNvSpPr/>
              <p:nvPr/>
            </p:nvSpPr>
            <p:spPr>
              <a:xfrm>
                <a:off x="2921400" y="5477040"/>
                <a:ext cx="1160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2921400" y="5477040"/>
                <a:ext cx="1159920" cy="395280"/>
                <a:chOff x="2921400" y="5477040"/>
                <a:chExt cx="1159920" cy="3952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2951640" y="547704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8.08.18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921400" y="5477040"/>
                  <a:ext cx="1159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4082400" y="5477040"/>
              <a:ext cx="991800" cy="395280"/>
              <a:chOff x="4082400" y="5477040"/>
              <a:chExt cx="991800" cy="395280"/>
            </a:xfrm>
          </p:grpSpPr>
          <p:sp>
            <p:nvSpPr>
              <p:cNvPr id="347" name=""/>
              <p:cNvSpPr/>
              <p:nvPr/>
            </p:nvSpPr>
            <p:spPr>
              <a:xfrm>
                <a:off x="4082400" y="5477040"/>
                <a:ext cx="99180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4082400" y="5477040"/>
                <a:ext cx="991440" cy="395280"/>
                <a:chOff x="4082400" y="5477040"/>
                <a:chExt cx="991440" cy="3952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4112640" y="5477040"/>
                  <a:ext cx="93060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082400" y="5477040"/>
                  <a:ext cx="99144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1" name=""/>
            <p:cNvGrpSpPr/>
            <p:nvPr/>
          </p:nvGrpSpPr>
          <p:grpSpPr>
            <a:xfrm>
              <a:off x="5074560" y="5477040"/>
              <a:ext cx="1159920" cy="395280"/>
              <a:chOff x="5074560" y="5477040"/>
              <a:chExt cx="1159920" cy="395280"/>
            </a:xfrm>
          </p:grpSpPr>
          <p:sp>
            <p:nvSpPr>
              <p:cNvPr id="352" name=""/>
              <p:cNvSpPr/>
              <p:nvPr/>
            </p:nvSpPr>
            <p:spPr>
              <a:xfrm>
                <a:off x="5074560" y="5477040"/>
                <a:ext cx="11599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5074560" y="5477040"/>
                <a:ext cx="1159560" cy="395280"/>
                <a:chOff x="5074560" y="5477040"/>
                <a:chExt cx="1159560" cy="39528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5104800" y="547704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3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074560" y="5477040"/>
                  <a:ext cx="11595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6" name=""/>
            <p:cNvGrpSpPr/>
            <p:nvPr/>
          </p:nvGrpSpPr>
          <p:grpSpPr>
            <a:xfrm>
              <a:off x="6235200" y="5477040"/>
              <a:ext cx="1692360" cy="395280"/>
              <a:chOff x="6235200" y="5477040"/>
              <a:chExt cx="1692360" cy="395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235200" y="5477040"/>
                <a:ext cx="16923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6235200" y="5477040"/>
                <a:ext cx="1692000" cy="395280"/>
                <a:chOff x="6235200" y="5477040"/>
                <a:chExt cx="1692000" cy="3952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265800" y="5477040"/>
                  <a:ext cx="16311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üllerweg 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235200" y="5477040"/>
                  <a:ext cx="16920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1" name=""/>
            <p:cNvGrpSpPr/>
            <p:nvPr/>
          </p:nvGrpSpPr>
          <p:grpSpPr>
            <a:xfrm>
              <a:off x="7927920" y="5477040"/>
              <a:ext cx="1215720" cy="395280"/>
              <a:chOff x="7927920" y="5477040"/>
              <a:chExt cx="1215720" cy="395280"/>
            </a:xfrm>
          </p:grpSpPr>
          <p:sp>
            <p:nvSpPr>
              <p:cNvPr id="362" name=""/>
              <p:cNvSpPr/>
              <p:nvPr/>
            </p:nvSpPr>
            <p:spPr>
              <a:xfrm>
                <a:off x="7927920" y="5477040"/>
                <a:ext cx="12157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3" name=""/>
              <p:cNvGrpSpPr/>
              <p:nvPr/>
            </p:nvGrpSpPr>
            <p:grpSpPr>
              <a:xfrm>
                <a:off x="7927920" y="5477040"/>
                <a:ext cx="1215720" cy="395280"/>
                <a:chOff x="7927920" y="5477040"/>
                <a:chExt cx="1215720" cy="39528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7953120" y="5477040"/>
                  <a:ext cx="1164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927920" y="5477040"/>
                  <a:ext cx="12157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cxnSp>
        <p:nvCxnSpPr>
          <p:cNvPr id="366" name=""/>
          <p:cNvCxnSpPr>
            <a:stCxn id="155" idx="0"/>
            <a:endCxn id="119" idx="2"/>
          </p:cNvCxnSpPr>
          <p:nvPr/>
        </p:nvCxnSpPr>
        <p:spPr>
          <a:xfrm flipV="1" rot="16200000">
            <a:off x="3243960" y="1090080"/>
            <a:ext cx="757800" cy="4063320"/>
          </a:xfrm>
          <a:prstGeom prst="bentConnector3">
            <a:avLst>
              <a:gd name="adj1" fmla="val 50000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971640" y="4292640"/>
            <a:ext cx="669744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e verbindet man die Mitglieder mit den Sportart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478560" y="15228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n:m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3500280"/>
            <a:ext cx="9143640" cy="2372040"/>
            <a:chOff x="0" y="3500280"/>
            <a:chExt cx="9143640" cy="2372040"/>
          </a:xfrm>
        </p:grpSpPr>
        <p:grpSp>
          <p:nvGrpSpPr>
            <p:cNvPr id="372" name=""/>
            <p:cNvGrpSpPr/>
            <p:nvPr/>
          </p:nvGrpSpPr>
          <p:grpSpPr>
            <a:xfrm>
              <a:off x="0" y="3500280"/>
              <a:ext cx="512280" cy="395280"/>
              <a:chOff x="0" y="3500280"/>
              <a:chExt cx="512280" cy="39528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3500280"/>
                <a:ext cx="51228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0" y="3500280"/>
                <a:ext cx="511920" cy="395280"/>
                <a:chOff x="0" y="3500280"/>
                <a:chExt cx="511920" cy="39528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30600" y="3500280"/>
                  <a:ext cx="45036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_I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0" y="3500280"/>
                  <a:ext cx="511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7" name=""/>
            <p:cNvGrpSpPr/>
            <p:nvPr/>
          </p:nvGrpSpPr>
          <p:grpSpPr>
            <a:xfrm>
              <a:off x="512640" y="3500280"/>
              <a:ext cx="1163160" cy="395280"/>
              <a:chOff x="512640" y="3500280"/>
              <a:chExt cx="1163160" cy="395280"/>
            </a:xfrm>
          </p:grpSpPr>
          <p:sp>
            <p:nvSpPr>
              <p:cNvPr id="378" name=""/>
              <p:cNvSpPr/>
              <p:nvPr/>
            </p:nvSpPr>
            <p:spPr>
              <a:xfrm>
                <a:off x="512640" y="3500280"/>
                <a:ext cx="116316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512640" y="3500280"/>
                <a:ext cx="1162800" cy="395280"/>
                <a:chOff x="512640" y="3500280"/>
                <a:chExt cx="1162800" cy="3952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542880" y="3500280"/>
                  <a:ext cx="110196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rna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12640" y="3500280"/>
                  <a:ext cx="11628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1676160" y="3500280"/>
              <a:ext cx="1244520" cy="395280"/>
              <a:chOff x="1676160" y="3500280"/>
              <a:chExt cx="1244520" cy="395280"/>
            </a:xfrm>
          </p:grpSpPr>
          <p:sp>
            <p:nvSpPr>
              <p:cNvPr id="383" name=""/>
              <p:cNvSpPr/>
              <p:nvPr/>
            </p:nvSpPr>
            <p:spPr>
              <a:xfrm>
                <a:off x="1676160" y="3500280"/>
                <a:ext cx="124452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1676160" y="3500280"/>
                <a:ext cx="1244160" cy="395280"/>
                <a:chOff x="1676160" y="3500280"/>
                <a:chExt cx="1244160" cy="3952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1706400" y="3500280"/>
                  <a:ext cx="118332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achna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676160" y="3500280"/>
                  <a:ext cx="12441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7" name=""/>
            <p:cNvGrpSpPr/>
            <p:nvPr/>
          </p:nvGrpSpPr>
          <p:grpSpPr>
            <a:xfrm>
              <a:off x="2921400" y="3500280"/>
              <a:ext cx="1160280" cy="395280"/>
              <a:chOff x="2921400" y="3500280"/>
              <a:chExt cx="1160280" cy="395280"/>
            </a:xfrm>
          </p:grpSpPr>
          <p:sp>
            <p:nvSpPr>
              <p:cNvPr id="388" name=""/>
              <p:cNvSpPr/>
              <p:nvPr/>
            </p:nvSpPr>
            <p:spPr>
              <a:xfrm>
                <a:off x="2921400" y="3500280"/>
                <a:ext cx="116028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2921400" y="3500280"/>
                <a:ext cx="1159920" cy="395280"/>
                <a:chOff x="2921400" y="3500280"/>
                <a:chExt cx="1159920" cy="3952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2951640" y="3500280"/>
                  <a:ext cx="109908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eburtsdatu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921400" y="3500280"/>
                  <a:ext cx="1159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2" name=""/>
            <p:cNvGrpSpPr/>
            <p:nvPr/>
          </p:nvGrpSpPr>
          <p:grpSpPr>
            <a:xfrm>
              <a:off x="4082400" y="3500280"/>
              <a:ext cx="991800" cy="395280"/>
              <a:chOff x="4082400" y="3500280"/>
              <a:chExt cx="991800" cy="395280"/>
            </a:xfrm>
          </p:grpSpPr>
          <p:sp>
            <p:nvSpPr>
              <p:cNvPr id="393" name=""/>
              <p:cNvSpPr/>
              <p:nvPr/>
            </p:nvSpPr>
            <p:spPr>
              <a:xfrm>
                <a:off x="4082400" y="3500280"/>
                <a:ext cx="99180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4082400" y="3500280"/>
                <a:ext cx="991440" cy="395280"/>
                <a:chOff x="4082400" y="3500280"/>
                <a:chExt cx="991440" cy="39528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112640" y="3500280"/>
                  <a:ext cx="93060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eschlech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082400" y="3500280"/>
                  <a:ext cx="99144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7" name=""/>
            <p:cNvGrpSpPr/>
            <p:nvPr/>
          </p:nvGrpSpPr>
          <p:grpSpPr>
            <a:xfrm>
              <a:off x="5074560" y="3500280"/>
              <a:ext cx="1159920" cy="395280"/>
              <a:chOff x="5074560" y="3500280"/>
              <a:chExt cx="1159920" cy="395280"/>
            </a:xfrm>
          </p:grpSpPr>
          <p:sp>
            <p:nvSpPr>
              <p:cNvPr id="398" name=""/>
              <p:cNvSpPr/>
              <p:nvPr/>
            </p:nvSpPr>
            <p:spPr>
              <a:xfrm>
                <a:off x="5074560" y="3500280"/>
                <a:ext cx="115992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5074560" y="3500280"/>
                <a:ext cx="1159560" cy="395280"/>
                <a:chOff x="5074560" y="3500280"/>
                <a:chExt cx="1159560" cy="3952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104800" y="3500280"/>
                  <a:ext cx="109908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z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074560" y="3500280"/>
                  <a:ext cx="11595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2" name=""/>
            <p:cNvGrpSpPr/>
            <p:nvPr/>
          </p:nvGrpSpPr>
          <p:grpSpPr>
            <a:xfrm>
              <a:off x="6235200" y="3500280"/>
              <a:ext cx="1692360" cy="395280"/>
              <a:chOff x="6235200" y="3500280"/>
              <a:chExt cx="1692360" cy="395280"/>
            </a:xfrm>
          </p:grpSpPr>
          <p:sp>
            <p:nvSpPr>
              <p:cNvPr id="403" name=""/>
              <p:cNvSpPr/>
              <p:nvPr/>
            </p:nvSpPr>
            <p:spPr>
              <a:xfrm>
                <a:off x="6235200" y="3500280"/>
                <a:ext cx="169236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6235200" y="3500280"/>
                <a:ext cx="1692000" cy="395280"/>
                <a:chOff x="6235200" y="3500280"/>
                <a:chExt cx="1692000" cy="39528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6265800" y="3500280"/>
                  <a:ext cx="163116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tras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235200" y="3500280"/>
                  <a:ext cx="16920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7" name=""/>
            <p:cNvGrpSpPr/>
            <p:nvPr/>
          </p:nvGrpSpPr>
          <p:grpSpPr>
            <a:xfrm>
              <a:off x="7927920" y="3500280"/>
              <a:ext cx="1215720" cy="395280"/>
              <a:chOff x="7927920" y="3500280"/>
              <a:chExt cx="1215720" cy="395280"/>
            </a:xfrm>
          </p:grpSpPr>
          <p:sp>
            <p:nvSpPr>
              <p:cNvPr id="408" name=""/>
              <p:cNvSpPr/>
              <p:nvPr/>
            </p:nvSpPr>
            <p:spPr>
              <a:xfrm>
                <a:off x="7927920" y="3500280"/>
                <a:ext cx="121572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7927920" y="3500280"/>
                <a:ext cx="1215720" cy="395280"/>
                <a:chOff x="7927920" y="3500280"/>
                <a:chExt cx="1215720" cy="3952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953120" y="3500280"/>
                  <a:ext cx="116496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lef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927920" y="3500280"/>
                  <a:ext cx="12157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0" y="3895560"/>
              <a:ext cx="512280" cy="395280"/>
              <a:chOff x="0" y="3895560"/>
              <a:chExt cx="512280" cy="395280"/>
            </a:xfrm>
          </p:grpSpPr>
          <p:sp>
            <p:nvSpPr>
              <p:cNvPr id="413" name=""/>
              <p:cNvSpPr/>
              <p:nvPr/>
            </p:nvSpPr>
            <p:spPr>
              <a:xfrm>
                <a:off x="0" y="3895560"/>
                <a:ext cx="512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0" y="3895560"/>
                <a:ext cx="511920" cy="395280"/>
                <a:chOff x="0" y="3895560"/>
                <a:chExt cx="511920" cy="39528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0600" y="3895560"/>
                  <a:ext cx="4503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0" y="3895560"/>
                  <a:ext cx="511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7" name=""/>
            <p:cNvGrpSpPr/>
            <p:nvPr/>
          </p:nvGrpSpPr>
          <p:grpSpPr>
            <a:xfrm>
              <a:off x="512640" y="3895560"/>
              <a:ext cx="1163160" cy="395280"/>
              <a:chOff x="512640" y="3895560"/>
              <a:chExt cx="1163160" cy="395280"/>
            </a:xfrm>
          </p:grpSpPr>
          <p:sp>
            <p:nvSpPr>
              <p:cNvPr id="418" name=""/>
              <p:cNvSpPr/>
              <p:nvPr/>
            </p:nvSpPr>
            <p:spPr>
              <a:xfrm>
                <a:off x="512640" y="3895560"/>
                <a:ext cx="11631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512640" y="3895560"/>
                <a:ext cx="1162800" cy="395280"/>
                <a:chOff x="512640" y="3895560"/>
                <a:chExt cx="1162800" cy="3952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42880" y="3895560"/>
                  <a:ext cx="1101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hristi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12640" y="3895560"/>
                  <a:ext cx="11628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2" name=""/>
            <p:cNvGrpSpPr/>
            <p:nvPr/>
          </p:nvGrpSpPr>
          <p:grpSpPr>
            <a:xfrm>
              <a:off x="1676160" y="3895560"/>
              <a:ext cx="1244520" cy="395280"/>
              <a:chOff x="1676160" y="3895560"/>
              <a:chExt cx="1244520" cy="395280"/>
            </a:xfrm>
          </p:grpSpPr>
          <p:sp>
            <p:nvSpPr>
              <p:cNvPr id="423" name=""/>
              <p:cNvSpPr/>
              <p:nvPr/>
            </p:nvSpPr>
            <p:spPr>
              <a:xfrm>
                <a:off x="1676160" y="3895560"/>
                <a:ext cx="12445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1676160" y="3895560"/>
                <a:ext cx="1244160" cy="395280"/>
                <a:chOff x="1676160" y="3895560"/>
                <a:chExt cx="1244160" cy="3952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706400" y="3895560"/>
                  <a:ext cx="118332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eidric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676160" y="3895560"/>
                  <a:ext cx="12441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7" name=""/>
            <p:cNvGrpSpPr/>
            <p:nvPr/>
          </p:nvGrpSpPr>
          <p:grpSpPr>
            <a:xfrm>
              <a:off x="2921400" y="3895560"/>
              <a:ext cx="1160280" cy="395280"/>
              <a:chOff x="2921400" y="3895560"/>
              <a:chExt cx="1160280" cy="395280"/>
            </a:xfrm>
          </p:grpSpPr>
          <p:sp>
            <p:nvSpPr>
              <p:cNvPr id="428" name=""/>
              <p:cNvSpPr/>
              <p:nvPr/>
            </p:nvSpPr>
            <p:spPr>
              <a:xfrm>
                <a:off x="2921400" y="3895560"/>
                <a:ext cx="1160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9" name=""/>
              <p:cNvGrpSpPr/>
              <p:nvPr/>
            </p:nvGrpSpPr>
            <p:grpSpPr>
              <a:xfrm>
                <a:off x="2921400" y="3895560"/>
                <a:ext cx="1159920" cy="395280"/>
                <a:chOff x="2921400" y="3895560"/>
                <a:chExt cx="1159920" cy="3952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2951640" y="389556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.11.19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921400" y="3895560"/>
                  <a:ext cx="1159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2" name=""/>
            <p:cNvGrpSpPr/>
            <p:nvPr/>
          </p:nvGrpSpPr>
          <p:grpSpPr>
            <a:xfrm>
              <a:off x="4082400" y="3895560"/>
              <a:ext cx="991800" cy="395280"/>
              <a:chOff x="4082400" y="3895560"/>
              <a:chExt cx="991800" cy="395280"/>
            </a:xfrm>
          </p:grpSpPr>
          <p:sp>
            <p:nvSpPr>
              <p:cNvPr id="433" name=""/>
              <p:cNvSpPr/>
              <p:nvPr/>
            </p:nvSpPr>
            <p:spPr>
              <a:xfrm>
                <a:off x="4082400" y="3895560"/>
                <a:ext cx="99180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4" name=""/>
              <p:cNvGrpSpPr/>
              <p:nvPr/>
            </p:nvGrpSpPr>
            <p:grpSpPr>
              <a:xfrm>
                <a:off x="4082400" y="3895560"/>
                <a:ext cx="991440" cy="395280"/>
                <a:chOff x="4082400" y="3895560"/>
                <a:chExt cx="991440" cy="39528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4112640" y="3895560"/>
                  <a:ext cx="93060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082400" y="3895560"/>
                  <a:ext cx="99144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7" name=""/>
            <p:cNvGrpSpPr/>
            <p:nvPr/>
          </p:nvGrpSpPr>
          <p:grpSpPr>
            <a:xfrm>
              <a:off x="5074560" y="3895560"/>
              <a:ext cx="1159920" cy="395280"/>
              <a:chOff x="5074560" y="3895560"/>
              <a:chExt cx="1159920" cy="395280"/>
            </a:xfrm>
          </p:grpSpPr>
          <p:sp>
            <p:nvSpPr>
              <p:cNvPr id="438" name=""/>
              <p:cNvSpPr/>
              <p:nvPr/>
            </p:nvSpPr>
            <p:spPr>
              <a:xfrm>
                <a:off x="5074560" y="3895560"/>
                <a:ext cx="11599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5074560" y="3895560"/>
                <a:ext cx="1159560" cy="395280"/>
                <a:chOff x="5074560" y="3895560"/>
                <a:chExt cx="1159560" cy="3952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5104800" y="389556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05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074560" y="3895560"/>
                  <a:ext cx="11595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" name=""/>
            <p:cNvGrpSpPr/>
            <p:nvPr/>
          </p:nvGrpSpPr>
          <p:grpSpPr>
            <a:xfrm>
              <a:off x="6235200" y="3895560"/>
              <a:ext cx="1692360" cy="395280"/>
              <a:chOff x="6235200" y="3895560"/>
              <a:chExt cx="1692360" cy="395280"/>
            </a:xfrm>
          </p:grpSpPr>
          <p:sp>
            <p:nvSpPr>
              <p:cNvPr id="443" name=""/>
              <p:cNvSpPr/>
              <p:nvPr/>
            </p:nvSpPr>
            <p:spPr>
              <a:xfrm>
                <a:off x="6235200" y="3895560"/>
                <a:ext cx="16923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4" name=""/>
              <p:cNvGrpSpPr/>
              <p:nvPr/>
            </p:nvGrpSpPr>
            <p:grpSpPr>
              <a:xfrm>
                <a:off x="6235200" y="3895560"/>
                <a:ext cx="1692000" cy="395280"/>
                <a:chOff x="6235200" y="3895560"/>
                <a:chExt cx="1692000" cy="3952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265800" y="3895560"/>
                  <a:ext cx="16311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xxx-Straße 6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235200" y="3895560"/>
                  <a:ext cx="16920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7" name=""/>
            <p:cNvGrpSpPr/>
            <p:nvPr/>
          </p:nvGrpSpPr>
          <p:grpSpPr>
            <a:xfrm>
              <a:off x="7927920" y="3895560"/>
              <a:ext cx="1215720" cy="395280"/>
              <a:chOff x="7927920" y="3895560"/>
              <a:chExt cx="1215720" cy="395280"/>
            </a:xfrm>
          </p:grpSpPr>
          <p:sp>
            <p:nvSpPr>
              <p:cNvPr id="448" name=""/>
              <p:cNvSpPr/>
              <p:nvPr/>
            </p:nvSpPr>
            <p:spPr>
              <a:xfrm>
                <a:off x="7927920" y="3895560"/>
                <a:ext cx="12157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7927920" y="3895560"/>
                <a:ext cx="1215720" cy="395280"/>
                <a:chOff x="7927920" y="3895560"/>
                <a:chExt cx="1215720" cy="39528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7953120" y="3895560"/>
                  <a:ext cx="1164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9131/999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927920" y="3895560"/>
                  <a:ext cx="12157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2" name=""/>
            <p:cNvGrpSpPr/>
            <p:nvPr/>
          </p:nvGrpSpPr>
          <p:grpSpPr>
            <a:xfrm>
              <a:off x="0" y="4290840"/>
              <a:ext cx="512280" cy="395640"/>
              <a:chOff x="0" y="4290840"/>
              <a:chExt cx="512280" cy="39564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4290840"/>
                <a:ext cx="51228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0" y="4290840"/>
                <a:ext cx="511920" cy="395640"/>
                <a:chOff x="0" y="4290840"/>
                <a:chExt cx="511920" cy="3956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30600" y="4290840"/>
                  <a:ext cx="45036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0" y="4290840"/>
                  <a:ext cx="51192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7" name=""/>
            <p:cNvGrpSpPr/>
            <p:nvPr/>
          </p:nvGrpSpPr>
          <p:grpSpPr>
            <a:xfrm>
              <a:off x="512640" y="4290840"/>
              <a:ext cx="1163160" cy="395640"/>
              <a:chOff x="512640" y="4290840"/>
              <a:chExt cx="1163160" cy="395640"/>
            </a:xfrm>
          </p:grpSpPr>
          <p:sp>
            <p:nvSpPr>
              <p:cNvPr id="458" name=""/>
              <p:cNvSpPr/>
              <p:nvPr/>
            </p:nvSpPr>
            <p:spPr>
              <a:xfrm>
                <a:off x="512640" y="4290840"/>
                <a:ext cx="116316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512640" y="4290840"/>
                <a:ext cx="1162800" cy="395640"/>
                <a:chOff x="512640" y="4290840"/>
                <a:chExt cx="1162800" cy="3956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542880" y="4290840"/>
                  <a:ext cx="110196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ber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12640" y="4290840"/>
                  <a:ext cx="116280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2" name=""/>
            <p:cNvGrpSpPr/>
            <p:nvPr/>
          </p:nvGrpSpPr>
          <p:grpSpPr>
            <a:xfrm>
              <a:off x="1676160" y="4290840"/>
              <a:ext cx="1244520" cy="395640"/>
              <a:chOff x="1676160" y="4290840"/>
              <a:chExt cx="1244520" cy="395640"/>
            </a:xfrm>
          </p:grpSpPr>
          <p:sp>
            <p:nvSpPr>
              <p:cNvPr id="463" name=""/>
              <p:cNvSpPr/>
              <p:nvPr/>
            </p:nvSpPr>
            <p:spPr>
              <a:xfrm>
                <a:off x="1676160" y="4290840"/>
                <a:ext cx="124452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1676160" y="4290840"/>
                <a:ext cx="1244160" cy="395640"/>
                <a:chOff x="1676160" y="4290840"/>
                <a:chExt cx="1244160" cy="3956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1706400" y="4290840"/>
                  <a:ext cx="118332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676160" y="4290840"/>
                  <a:ext cx="124416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7" name=""/>
            <p:cNvGrpSpPr/>
            <p:nvPr/>
          </p:nvGrpSpPr>
          <p:grpSpPr>
            <a:xfrm>
              <a:off x="2921400" y="4290840"/>
              <a:ext cx="1160280" cy="395640"/>
              <a:chOff x="2921400" y="4290840"/>
              <a:chExt cx="1160280" cy="395640"/>
            </a:xfrm>
          </p:grpSpPr>
          <p:sp>
            <p:nvSpPr>
              <p:cNvPr id="468" name=""/>
              <p:cNvSpPr/>
              <p:nvPr/>
            </p:nvSpPr>
            <p:spPr>
              <a:xfrm>
                <a:off x="2921400" y="4290840"/>
                <a:ext cx="116028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2921400" y="4290840"/>
                <a:ext cx="1159920" cy="395640"/>
                <a:chOff x="2921400" y="4290840"/>
                <a:chExt cx="1159920" cy="3956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2951640" y="4290840"/>
                  <a:ext cx="109908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.03.187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921400" y="4290840"/>
                  <a:ext cx="115992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2" name=""/>
            <p:cNvGrpSpPr/>
            <p:nvPr/>
          </p:nvGrpSpPr>
          <p:grpSpPr>
            <a:xfrm>
              <a:off x="4082400" y="4290840"/>
              <a:ext cx="991800" cy="395640"/>
              <a:chOff x="4082400" y="4290840"/>
              <a:chExt cx="991800" cy="395640"/>
            </a:xfrm>
          </p:grpSpPr>
          <p:sp>
            <p:nvSpPr>
              <p:cNvPr id="473" name=""/>
              <p:cNvSpPr/>
              <p:nvPr/>
            </p:nvSpPr>
            <p:spPr>
              <a:xfrm>
                <a:off x="4082400" y="4290840"/>
                <a:ext cx="99180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4082400" y="4290840"/>
                <a:ext cx="991440" cy="395640"/>
                <a:chOff x="4082400" y="4290840"/>
                <a:chExt cx="991440" cy="39564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4112640" y="4290840"/>
                  <a:ext cx="93060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4082400" y="4290840"/>
                  <a:ext cx="99144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7" name=""/>
            <p:cNvGrpSpPr/>
            <p:nvPr/>
          </p:nvGrpSpPr>
          <p:grpSpPr>
            <a:xfrm>
              <a:off x="5074560" y="4290840"/>
              <a:ext cx="1159920" cy="395640"/>
              <a:chOff x="5074560" y="4290840"/>
              <a:chExt cx="1159920" cy="395640"/>
            </a:xfrm>
          </p:grpSpPr>
          <p:sp>
            <p:nvSpPr>
              <p:cNvPr id="478" name=""/>
              <p:cNvSpPr/>
              <p:nvPr/>
            </p:nvSpPr>
            <p:spPr>
              <a:xfrm>
                <a:off x="5074560" y="4290840"/>
                <a:ext cx="115992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5074560" y="4290840"/>
                <a:ext cx="1159560" cy="395640"/>
                <a:chOff x="5074560" y="4290840"/>
                <a:chExt cx="1159560" cy="39564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5104800" y="4290840"/>
                  <a:ext cx="109908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3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074560" y="4290840"/>
                  <a:ext cx="115956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2" name=""/>
            <p:cNvGrpSpPr/>
            <p:nvPr/>
          </p:nvGrpSpPr>
          <p:grpSpPr>
            <a:xfrm>
              <a:off x="6235200" y="4290840"/>
              <a:ext cx="1692360" cy="395640"/>
              <a:chOff x="6235200" y="4290840"/>
              <a:chExt cx="1692360" cy="395640"/>
            </a:xfrm>
          </p:grpSpPr>
          <p:sp>
            <p:nvSpPr>
              <p:cNvPr id="483" name=""/>
              <p:cNvSpPr/>
              <p:nvPr/>
            </p:nvSpPr>
            <p:spPr>
              <a:xfrm>
                <a:off x="6235200" y="4290840"/>
                <a:ext cx="169236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6235200" y="4290840"/>
                <a:ext cx="1692000" cy="395640"/>
                <a:chOff x="6235200" y="4290840"/>
                <a:chExt cx="1692000" cy="3956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265800" y="4290840"/>
                  <a:ext cx="163116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instraße 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235200" y="4290840"/>
                  <a:ext cx="169200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7" name=""/>
            <p:cNvGrpSpPr/>
            <p:nvPr/>
          </p:nvGrpSpPr>
          <p:grpSpPr>
            <a:xfrm>
              <a:off x="7927920" y="4290840"/>
              <a:ext cx="1215720" cy="395640"/>
              <a:chOff x="7927920" y="4290840"/>
              <a:chExt cx="1215720" cy="395640"/>
            </a:xfrm>
          </p:grpSpPr>
          <p:sp>
            <p:nvSpPr>
              <p:cNvPr id="488" name=""/>
              <p:cNvSpPr/>
              <p:nvPr/>
            </p:nvSpPr>
            <p:spPr>
              <a:xfrm>
                <a:off x="7927920" y="4290840"/>
                <a:ext cx="121572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7927920" y="4290840"/>
                <a:ext cx="1215720" cy="395640"/>
                <a:chOff x="7927920" y="4290840"/>
                <a:chExt cx="1215720" cy="39564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7953120" y="4290840"/>
                  <a:ext cx="116496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9181/1234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927920" y="4290840"/>
                  <a:ext cx="121572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" name=""/>
            <p:cNvGrpSpPr/>
            <p:nvPr/>
          </p:nvGrpSpPr>
          <p:grpSpPr>
            <a:xfrm>
              <a:off x="0" y="4686480"/>
              <a:ext cx="512280" cy="395280"/>
              <a:chOff x="0" y="4686480"/>
              <a:chExt cx="512280" cy="395280"/>
            </a:xfrm>
          </p:grpSpPr>
          <p:sp>
            <p:nvSpPr>
              <p:cNvPr id="493" name=""/>
              <p:cNvSpPr/>
              <p:nvPr/>
            </p:nvSpPr>
            <p:spPr>
              <a:xfrm>
                <a:off x="0" y="4686480"/>
                <a:ext cx="512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0" y="4686480"/>
                <a:ext cx="511920" cy="395280"/>
                <a:chOff x="0" y="4686480"/>
                <a:chExt cx="511920" cy="39528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0600" y="4686480"/>
                  <a:ext cx="4503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0" y="4686480"/>
                  <a:ext cx="511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7" name=""/>
            <p:cNvGrpSpPr/>
            <p:nvPr/>
          </p:nvGrpSpPr>
          <p:grpSpPr>
            <a:xfrm>
              <a:off x="512640" y="4686480"/>
              <a:ext cx="1163160" cy="395280"/>
              <a:chOff x="512640" y="4686480"/>
              <a:chExt cx="1163160" cy="395280"/>
            </a:xfrm>
          </p:grpSpPr>
          <p:sp>
            <p:nvSpPr>
              <p:cNvPr id="498" name=""/>
              <p:cNvSpPr/>
              <p:nvPr/>
            </p:nvSpPr>
            <p:spPr>
              <a:xfrm>
                <a:off x="512640" y="4686480"/>
                <a:ext cx="11631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9" name=""/>
              <p:cNvGrpSpPr/>
              <p:nvPr/>
            </p:nvGrpSpPr>
            <p:grpSpPr>
              <a:xfrm>
                <a:off x="512640" y="4686480"/>
                <a:ext cx="1162800" cy="395280"/>
                <a:chOff x="512640" y="4686480"/>
                <a:chExt cx="1162800" cy="3952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42880" y="4686480"/>
                  <a:ext cx="1101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eid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12640" y="4686480"/>
                  <a:ext cx="11628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2" name=""/>
            <p:cNvGrpSpPr/>
            <p:nvPr/>
          </p:nvGrpSpPr>
          <p:grpSpPr>
            <a:xfrm>
              <a:off x="1676160" y="4686480"/>
              <a:ext cx="1244520" cy="395280"/>
              <a:chOff x="1676160" y="4686480"/>
              <a:chExt cx="1244520" cy="395280"/>
            </a:xfrm>
          </p:grpSpPr>
          <p:sp>
            <p:nvSpPr>
              <p:cNvPr id="503" name=""/>
              <p:cNvSpPr/>
              <p:nvPr/>
            </p:nvSpPr>
            <p:spPr>
              <a:xfrm>
                <a:off x="1676160" y="4686480"/>
                <a:ext cx="12445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1676160" y="4686480"/>
                <a:ext cx="1244160" cy="395280"/>
                <a:chOff x="1676160" y="4686480"/>
                <a:chExt cx="1244160" cy="3952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1706400" y="4686480"/>
                  <a:ext cx="118332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ofman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676160" y="4686480"/>
                  <a:ext cx="12441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7" name=""/>
            <p:cNvGrpSpPr/>
            <p:nvPr/>
          </p:nvGrpSpPr>
          <p:grpSpPr>
            <a:xfrm>
              <a:off x="2921400" y="4686480"/>
              <a:ext cx="1160280" cy="395280"/>
              <a:chOff x="2921400" y="4686480"/>
              <a:chExt cx="1160280" cy="395280"/>
            </a:xfrm>
          </p:grpSpPr>
          <p:sp>
            <p:nvSpPr>
              <p:cNvPr id="508" name=""/>
              <p:cNvSpPr/>
              <p:nvPr/>
            </p:nvSpPr>
            <p:spPr>
              <a:xfrm>
                <a:off x="2921400" y="4686480"/>
                <a:ext cx="1160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2921400" y="4686480"/>
                <a:ext cx="1159920" cy="395280"/>
                <a:chOff x="2921400" y="4686480"/>
                <a:chExt cx="1159920" cy="3952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2951640" y="468648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.01.196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921400" y="4686480"/>
                  <a:ext cx="1159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2" name=""/>
            <p:cNvGrpSpPr/>
            <p:nvPr/>
          </p:nvGrpSpPr>
          <p:grpSpPr>
            <a:xfrm>
              <a:off x="4082400" y="4686480"/>
              <a:ext cx="991800" cy="395280"/>
              <a:chOff x="4082400" y="4686480"/>
              <a:chExt cx="991800" cy="395280"/>
            </a:xfrm>
          </p:grpSpPr>
          <p:sp>
            <p:nvSpPr>
              <p:cNvPr id="513" name=""/>
              <p:cNvSpPr/>
              <p:nvPr/>
            </p:nvSpPr>
            <p:spPr>
              <a:xfrm>
                <a:off x="4082400" y="4686480"/>
                <a:ext cx="99180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4" name=""/>
              <p:cNvGrpSpPr/>
              <p:nvPr/>
            </p:nvGrpSpPr>
            <p:grpSpPr>
              <a:xfrm>
                <a:off x="4082400" y="4686480"/>
                <a:ext cx="991440" cy="395280"/>
                <a:chOff x="4082400" y="4686480"/>
                <a:chExt cx="991440" cy="39528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4112640" y="4686480"/>
                  <a:ext cx="93060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082400" y="4686480"/>
                  <a:ext cx="99144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7" name=""/>
            <p:cNvGrpSpPr/>
            <p:nvPr/>
          </p:nvGrpSpPr>
          <p:grpSpPr>
            <a:xfrm>
              <a:off x="5074560" y="4686480"/>
              <a:ext cx="1159920" cy="395280"/>
              <a:chOff x="5074560" y="4686480"/>
              <a:chExt cx="1159920" cy="395280"/>
            </a:xfrm>
          </p:grpSpPr>
          <p:sp>
            <p:nvSpPr>
              <p:cNvPr id="518" name=""/>
              <p:cNvSpPr/>
              <p:nvPr/>
            </p:nvSpPr>
            <p:spPr>
              <a:xfrm>
                <a:off x="5074560" y="4686480"/>
                <a:ext cx="11599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5074560" y="4686480"/>
                <a:ext cx="1159560" cy="395280"/>
                <a:chOff x="5074560" y="4686480"/>
                <a:chExt cx="1159560" cy="39528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5104800" y="468648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3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074560" y="4686480"/>
                  <a:ext cx="11595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2" name=""/>
            <p:cNvGrpSpPr/>
            <p:nvPr/>
          </p:nvGrpSpPr>
          <p:grpSpPr>
            <a:xfrm>
              <a:off x="6235200" y="4686480"/>
              <a:ext cx="1692360" cy="395280"/>
              <a:chOff x="6235200" y="4686480"/>
              <a:chExt cx="1692360" cy="395280"/>
            </a:xfrm>
          </p:grpSpPr>
          <p:sp>
            <p:nvSpPr>
              <p:cNvPr id="523" name=""/>
              <p:cNvSpPr/>
              <p:nvPr/>
            </p:nvSpPr>
            <p:spPr>
              <a:xfrm>
                <a:off x="6235200" y="4686480"/>
                <a:ext cx="16923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6235200" y="4686480"/>
                <a:ext cx="1692000" cy="395280"/>
                <a:chOff x="6235200" y="4686480"/>
                <a:chExt cx="1692000" cy="39528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265800" y="4686480"/>
                  <a:ext cx="16311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ofmannstraße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235200" y="4686480"/>
                  <a:ext cx="16920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7" name=""/>
            <p:cNvGrpSpPr/>
            <p:nvPr/>
          </p:nvGrpSpPr>
          <p:grpSpPr>
            <a:xfrm>
              <a:off x="7927920" y="4686480"/>
              <a:ext cx="1215720" cy="395280"/>
              <a:chOff x="7927920" y="4686480"/>
              <a:chExt cx="1215720" cy="395280"/>
            </a:xfrm>
          </p:grpSpPr>
          <p:sp>
            <p:nvSpPr>
              <p:cNvPr id="528" name=""/>
              <p:cNvSpPr/>
              <p:nvPr/>
            </p:nvSpPr>
            <p:spPr>
              <a:xfrm>
                <a:off x="7927920" y="4686480"/>
                <a:ext cx="12157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7927920" y="4686480"/>
                <a:ext cx="1215720" cy="395280"/>
                <a:chOff x="7927920" y="4686480"/>
                <a:chExt cx="1215720" cy="39528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7953120" y="4686480"/>
                  <a:ext cx="1164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927920" y="4686480"/>
                  <a:ext cx="12157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2" name=""/>
            <p:cNvGrpSpPr/>
            <p:nvPr/>
          </p:nvGrpSpPr>
          <p:grpSpPr>
            <a:xfrm>
              <a:off x="0" y="5081760"/>
              <a:ext cx="512280" cy="395280"/>
              <a:chOff x="0" y="5081760"/>
              <a:chExt cx="512280" cy="395280"/>
            </a:xfrm>
          </p:grpSpPr>
          <p:sp>
            <p:nvSpPr>
              <p:cNvPr id="533" name=""/>
              <p:cNvSpPr/>
              <p:nvPr/>
            </p:nvSpPr>
            <p:spPr>
              <a:xfrm>
                <a:off x="0" y="5081760"/>
                <a:ext cx="512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0" y="5081760"/>
                <a:ext cx="511920" cy="395280"/>
                <a:chOff x="0" y="5081760"/>
                <a:chExt cx="511920" cy="3952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30600" y="5081760"/>
                  <a:ext cx="4503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0" y="5081760"/>
                  <a:ext cx="511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7" name=""/>
            <p:cNvGrpSpPr/>
            <p:nvPr/>
          </p:nvGrpSpPr>
          <p:grpSpPr>
            <a:xfrm>
              <a:off x="512640" y="5081760"/>
              <a:ext cx="1163160" cy="395280"/>
              <a:chOff x="512640" y="5081760"/>
              <a:chExt cx="1163160" cy="395280"/>
            </a:xfrm>
          </p:grpSpPr>
          <p:sp>
            <p:nvSpPr>
              <p:cNvPr id="538" name=""/>
              <p:cNvSpPr/>
              <p:nvPr/>
            </p:nvSpPr>
            <p:spPr>
              <a:xfrm>
                <a:off x="512640" y="5081760"/>
                <a:ext cx="11631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9" name=""/>
              <p:cNvGrpSpPr/>
              <p:nvPr/>
            </p:nvGrpSpPr>
            <p:grpSpPr>
              <a:xfrm>
                <a:off x="512640" y="5081760"/>
                <a:ext cx="1162800" cy="395280"/>
                <a:chOff x="512640" y="5081760"/>
                <a:chExt cx="1162800" cy="39528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42880" y="5081760"/>
                  <a:ext cx="1101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12640" y="5081760"/>
                  <a:ext cx="11628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2" name=""/>
            <p:cNvGrpSpPr/>
            <p:nvPr/>
          </p:nvGrpSpPr>
          <p:grpSpPr>
            <a:xfrm>
              <a:off x="1676160" y="5081760"/>
              <a:ext cx="1244520" cy="395280"/>
              <a:chOff x="1676160" y="5081760"/>
              <a:chExt cx="1244520" cy="395280"/>
            </a:xfrm>
          </p:grpSpPr>
          <p:sp>
            <p:nvSpPr>
              <p:cNvPr id="543" name=""/>
              <p:cNvSpPr/>
              <p:nvPr/>
            </p:nvSpPr>
            <p:spPr>
              <a:xfrm>
                <a:off x="1676160" y="5081760"/>
                <a:ext cx="12445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4" name=""/>
              <p:cNvGrpSpPr/>
              <p:nvPr/>
            </p:nvGrpSpPr>
            <p:grpSpPr>
              <a:xfrm>
                <a:off x="1676160" y="5081760"/>
                <a:ext cx="1244160" cy="395280"/>
                <a:chOff x="1676160" y="5081760"/>
                <a:chExt cx="1244160" cy="39528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1706400" y="5081760"/>
                  <a:ext cx="118332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llman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1676160" y="5081760"/>
                  <a:ext cx="12441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7" name=""/>
            <p:cNvGrpSpPr/>
            <p:nvPr/>
          </p:nvGrpSpPr>
          <p:grpSpPr>
            <a:xfrm>
              <a:off x="2921400" y="5081760"/>
              <a:ext cx="1160280" cy="395280"/>
              <a:chOff x="2921400" y="5081760"/>
              <a:chExt cx="1160280" cy="395280"/>
            </a:xfrm>
          </p:grpSpPr>
          <p:sp>
            <p:nvSpPr>
              <p:cNvPr id="548" name=""/>
              <p:cNvSpPr/>
              <p:nvPr/>
            </p:nvSpPr>
            <p:spPr>
              <a:xfrm>
                <a:off x="2921400" y="5081760"/>
                <a:ext cx="1160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9" name=""/>
              <p:cNvGrpSpPr/>
              <p:nvPr/>
            </p:nvGrpSpPr>
            <p:grpSpPr>
              <a:xfrm>
                <a:off x="2921400" y="5081760"/>
                <a:ext cx="1159920" cy="395280"/>
                <a:chOff x="2921400" y="5081760"/>
                <a:chExt cx="1159920" cy="39528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2951640" y="508176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3.05.19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921400" y="5081760"/>
                  <a:ext cx="1159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4082400" y="5081760"/>
              <a:ext cx="991800" cy="395280"/>
              <a:chOff x="4082400" y="5081760"/>
              <a:chExt cx="991800" cy="395280"/>
            </a:xfrm>
          </p:grpSpPr>
          <p:sp>
            <p:nvSpPr>
              <p:cNvPr id="553" name=""/>
              <p:cNvSpPr/>
              <p:nvPr/>
            </p:nvSpPr>
            <p:spPr>
              <a:xfrm>
                <a:off x="4082400" y="5081760"/>
                <a:ext cx="99180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4" name=""/>
              <p:cNvGrpSpPr/>
              <p:nvPr/>
            </p:nvGrpSpPr>
            <p:grpSpPr>
              <a:xfrm>
                <a:off x="4082400" y="5081760"/>
                <a:ext cx="991440" cy="395280"/>
                <a:chOff x="4082400" y="5081760"/>
                <a:chExt cx="991440" cy="3952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112640" y="5081760"/>
                  <a:ext cx="93060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082400" y="5081760"/>
                  <a:ext cx="99144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7" name=""/>
            <p:cNvGrpSpPr/>
            <p:nvPr/>
          </p:nvGrpSpPr>
          <p:grpSpPr>
            <a:xfrm>
              <a:off x="5074560" y="5081760"/>
              <a:ext cx="1159920" cy="395280"/>
              <a:chOff x="5074560" y="5081760"/>
              <a:chExt cx="1159920" cy="395280"/>
            </a:xfrm>
          </p:grpSpPr>
          <p:sp>
            <p:nvSpPr>
              <p:cNvPr id="558" name=""/>
              <p:cNvSpPr/>
              <p:nvPr/>
            </p:nvSpPr>
            <p:spPr>
              <a:xfrm>
                <a:off x="5074560" y="5081760"/>
                <a:ext cx="11599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9" name=""/>
              <p:cNvGrpSpPr/>
              <p:nvPr/>
            </p:nvGrpSpPr>
            <p:grpSpPr>
              <a:xfrm>
                <a:off x="5074560" y="5081760"/>
                <a:ext cx="1159560" cy="395280"/>
                <a:chOff x="5074560" y="5081760"/>
                <a:chExt cx="1159560" cy="39528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5104800" y="508176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3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074560" y="5081760"/>
                  <a:ext cx="11595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2" name=""/>
            <p:cNvGrpSpPr/>
            <p:nvPr/>
          </p:nvGrpSpPr>
          <p:grpSpPr>
            <a:xfrm>
              <a:off x="6235200" y="5081760"/>
              <a:ext cx="1692360" cy="395280"/>
              <a:chOff x="6235200" y="5081760"/>
              <a:chExt cx="1692360" cy="395280"/>
            </a:xfrm>
          </p:grpSpPr>
          <p:sp>
            <p:nvSpPr>
              <p:cNvPr id="563" name=""/>
              <p:cNvSpPr/>
              <p:nvPr/>
            </p:nvSpPr>
            <p:spPr>
              <a:xfrm>
                <a:off x="6235200" y="5081760"/>
                <a:ext cx="16923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6235200" y="5081760"/>
                <a:ext cx="1692000" cy="395280"/>
                <a:chOff x="6235200" y="5081760"/>
                <a:chExt cx="1692000" cy="39528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6265800" y="5081760"/>
                  <a:ext cx="16311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olfsteinstr. 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235200" y="5081760"/>
                  <a:ext cx="16920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7" name=""/>
            <p:cNvGrpSpPr/>
            <p:nvPr/>
          </p:nvGrpSpPr>
          <p:grpSpPr>
            <a:xfrm>
              <a:off x="7927920" y="5081760"/>
              <a:ext cx="1215720" cy="395280"/>
              <a:chOff x="7927920" y="5081760"/>
              <a:chExt cx="1215720" cy="395280"/>
            </a:xfrm>
          </p:grpSpPr>
          <p:sp>
            <p:nvSpPr>
              <p:cNvPr id="568" name=""/>
              <p:cNvSpPr/>
              <p:nvPr/>
            </p:nvSpPr>
            <p:spPr>
              <a:xfrm>
                <a:off x="7927920" y="5081760"/>
                <a:ext cx="12157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9" name=""/>
              <p:cNvGrpSpPr/>
              <p:nvPr/>
            </p:nvGrpSpPr>
            <p:grpSpPr>
              <a:xfrm>
                <a:off x="7927920" y="5081760"/>
                <a:ext cx="1215720" cy="395280"/>
                <a:chOff x="7927920" y="5081760"/>
                <a:chExt cx="1215720" cy="3952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953120" y="5081760"/>
                  <a:ext cx="1164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927920" y="5081760"/>
                  <a:ext cx="12157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2" name=""/>
            <p:cNvGrpSpPr/>
            <p:nvPr/>
          </p:nvGrpSpPr>
          <p:grpSpPr>
            <a:xfrm>
              <a:off x="0" y="5477040"/>
              <a:ext cx="512280" cy="395280"/>
              <a:chOff x="0" y="5477040"/>
              <a:chExt cx="512280" cy="395280"/>
            </a:xfrm>
          </p:grpSpPr>
          <p:sp>
            <p:nvSpPr>
              <p:cNvPr id="573" name=""/>
              <p:cNvSpPr/>
              <p:nvPr/>
            </p:nvSpPr>
            <p:spPr>
              <a:xfrm>
                <a:off x="0" y="5477040"/>
                <a:ext cx="512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4" name=""/>
              <p:cNvGrpSpPr/>
              <p:nvPr/>
            </p:nvGrpSpPr>
            <p:grpSpPr>
              <a:xfrm>
                <a:off x="0" y="5477040"/>
                <a:ext cx="511920" cy="395280"/>
                <a:chOff x="0" y="5477040"/>
                <a:chExt cx="511920" cy="39528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30600" y="5477040"/>
                  <a:ext cx="4503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0" y="5477040"/>
                  <a:ext cx="511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7" name=""/>
            <p:cNvGrpSpPr/>
            <p:nvPr/>
          </p:nvGrpSpPr>
          <p:grpSpPr>
            <a:xfrm>
              <a:off x="512640" y="5477040"/>
              <a:ext cx="1163160" cy="395280"/>
              <a:chOff x="512640" y="5477040"/>
              <a:chExt cx="1163160" cy="395280"/>
            </a:xfrm>
          </p:grpSpPr>
          <p:sp>
            <p:nvSpPr>
              <p:cNvPr id="578" name=""/>
              <p:cNvSpPr/>
              <p:nvPr/>
            </p:nvSpPr>
            <p:spPr>
              <a:xfrm>
                <a:off x="512640" y="5477040"/>
                <a:ext cx="11631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512640" y="5477040"/>
                <a:ext cx="1162800" cy="395280"/>
                <a:chOff x="512640" y="5477040"/>
                <a:chExt cx="1162800" cy="3952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542880" y="5477040"/>
                  <a:ext cx="1101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fr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12640" y="5477040"/>
                  <a:ext cx="11628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2" name=""/>
            <p:cNvGrpSpPr/>
            <p:nvPr/>
          </p:nvGrpSpPr>
          <p:grpSpPr>
            <a:xfrm>
              <a:off x="1676160" y="5477040"/>
              <a:ext cx="1244520" cy="395280"/>
              <a:chOff x="1676160" y="5477040"/>
              <a:chExt cx="1244520" cy="395280"/>
            </a:xfrm>
          </p:grpSpPr>
          <p:sp>
            <p:nvSpPr>
              <p:cNvPr id="583" name=""/>
              <p:cNvSpPr/>
              <p:nvPr/>
            </p:nvSpPr>
            <p:spPr>
              <a:xfrm>
                <a:off x="1676160" y="5477040"/>
                <a:ext cx="12445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1676160" y="5477040"/>
                <a:ext cx="1244160" cy="395280"/>
                <a:chOff x="1676160" y="5477040"/>
                <a:chExt cx="1244160" cy="39528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1706400" y="5477040"/>
                  <a:ext cx="118332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chmid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676160" y="5477040"/>
                  <a:ext cx="12441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7" name=""/>
            <p:cNvGrpSpPr/>
            <p:nvPr/>
          </p:nvGrpSpPr>
          <p:grpSpPr>
            <a:xfrm>
              <a:off x="2921400" y="5477040"/>
              <a:ext cx="1160280" cy="395280"/>
              <a:chOff x="2921400" y="5477040"/>
              <a:chExt cx="1160280" cy="395280"/>
            </a:xfrm>
          </p:grpSpPr>
          <p:sp>
            <p:nvSpPr>
              <p:cNvPr id="588" name=""/>
              <p:cNvSpPr/>
              <p:nvPr/>
            </p:nvSpPr>
            <p:spPr>
              <a:xfrm>
                <a:off x="2921400" y="5477040"/>
                <a:ext cx="1160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2921400" y="5477040"/>
                <a:ext cx="1159920" cy="395280"/>
                <a:chOff x="2921400" y="5477040"/>
                <a:chExt cx="1159920" cy="39528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2951640" y="547704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8.08.18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921400" y="5477040"/>
                  <a:ext cx="1159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2" name=""/>
            <p:cNvGrpSpPr/>
            <p:nvPr/>
          </p:nvGrpSpPr>
          <p:grpSpPr>
            <a:xfrm>
              <a:off x="4082400" y="5477040"/>
              <a:ext cx="991800" cy="395280"/>
              <a:chOff x="4082400" y="5477040"/>
              <a:chExt cx="991800" cy="395280"/>
            </a:xfrm>
          </p:grpSpPr>
          <p:sp>
            <p:nvSpPr>
              <p:cNvPr id="593" name=""/>
              <p:cNvSpPr/>
              <p:nvPr/>
            </p:nvSpPr>
            <p:spPr>
              <a:xfrm>
                <a:off x="4082400" y="5477040"/>
                <a:ext cx="99180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4" name=""/>
              <p:cNvGrpSpPr/>
              <p:nvPr/>
            </p:nvGrpSpPr>
            <p:grpSpPr>
              <a:xfrm>
                <a:off x="4082400" y="5477040"/>
                <a:ext cx="991440" cy="395280"/>
                <a:chOff x="4082400" y="5477040"/>
                <a:chExt cx="991440" cy="39528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4112640" y="5477040"/>
                  <a:ext cx="93060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082400" y="5477040"/>
                  <a:ext cx="99144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7" name=""/>
            <p:cNvGrpSpPr/>
            <p:nvPr/>
          </p:nvGrpSpPr>
          <p:grpSpPr>
            <a:xfrm>
              <a:off x="5074560" y="5477040"/>
              <a:ext cx="1159920" cy="395280"/>
              <a:chOff x="5074560" y="5477040"/>
              <a:chExt cx="1159920" cy="395280"/>
            </a:xfrm>
          </p:grpSpPr>
          <p:sp>
            <p:nvSpPr>
              <p:cNvPr id="598" name=""/>
              <p:cNvSpPr/>
              <p:nvPr/>
            </p:nvSpPr>
            <p:spPr>
              <a:xfrm>
                <a:off x="5074560" y="5477040"/>
                <a:ext cx="11599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9" name=""/>
              <p:cNvGrpSpPr/>
              <p:nvPr/>
            </p:nvGrpSpPr>
            <p:grpSpPr>
              <a:xfrm>
                <a:off x="5074560" y="5477040"/>
                <a:ext cx="1159560" cy="395280"/>
                <a:chOff x="5074560" y="5477040"/>
                <a:chExt cx="1159560" cy="39528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5104800" y="547704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3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074560" y="5477040"/>
                  <a:ext cx="11595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2" name=""/>
            <p:cNvGrpSpPr/>
            <p:nvPr/>
          </p:nvGrpSpPr>
          <p:grpSpPr>
            <a:xfrm>
              <a:off x="6235200" y="5477040"/>
              <a:ext cx="1692360" cy="395280"/>
              <a:chOff x="6235200" y="5477040"/>
              <a:chExt cx="1692360" cy="395280"/>
            </a:xfrm>
          </p:grpSpPr>
          <p:sp>
            <p:nvSpPr>
              <p:cNvPr id="603" name=""/>
              <p:cNvSpPr/>
              <p:nvPr/>
            </p:nvSpPr>
            <p:spPr>
              <a:xfrm>
                <a:off x="6235200" y="5477040"/>
                <a:ext cx="16923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4" name=""/>
              <p:cNvGrpSpPr/>
              <p:nvPr/>
            </p:nvGrpSpPr>
            <p:grpSpPr>
              <a:xfrm>
                <a:off x="6235200" y="5477040"/>
                <a:ext cx="1692000" cy="395280"/>
                <a:chOff x="6235200" y="5477040"/>
                <a:chExt cx="1692000" cy="3952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6265800" y="5477040"/>
                  <a:ext cx="16311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üllerweg 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235200" y="5477040"/>
                  <a:ext cx="16920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7" name=""/>
            <p:cNvGrpSpPr/>
            <p:nvPr/>
          </p:nvGrpSpPr>
          <p:grpSpPr>
            <a:xfrm>
              <a:off x="7927920" y="5477040"/>
              <a:ext cx="1215720" cy="395280"/>
              <a:chOff x="7927920" y="5477040"/>
              <a:chExt cx="1215720" cy="395280"/>
            </a:xfrm>
          </p:grpSpPr>
          <p:sp>
            <p:nvSpPr>
              <p:cNvPr id="608" name=""/>
              <p:cNvSpPr/>
              <p:nvPr/>
            </p:nvSpPr>
            <p:spPr>
              <a:xfrm>
                <a:off x="7927920" y="5477040"/>
                <a:ext cx="12157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9" name=""/>
              <p:cNvGrpSpPr/>
              <p:nvPr/>
            </p:nvGrpSpPr>
            <p:grpSpPr>
              <a:xfrm>
                <a:off x="7927920" y="5477040"/>
                <a:ext cx="1215720" cy="395280"/>
                <a:chOff x="7927920" y="5477040"/>
                <a:chExt cx="1215720" cy="39528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7953120" y="5477040"/>
                  <a:ext cx="1164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927920" y="5477040"/>
                  <a:ext cx="12157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2" name=""/>
          <p:cNvGrpSpPr/>
          <p:nvPr/>
        </p:nvGrpSpPr>
        <p:grpSpPr>
          <a:xfrm>
            <a:off x="1066680" y="1295280"/>
            <a:ext cx="2250360" cy="1447560"/>
            <a:chOff x="1066680" y="1295280"/>
            <a:chExt cx="2250360" cy="1447560"/>
          </a:xfrm>
        </p:grpSpPr>
        <p:grpSp>
          <p:nvGrpSpPr>
            <p:cNvPr id="613" name=""/>
            <p:cNvGrpSpPr/>
            <p:nvPr/>
          </p:nvGrpSpPr>
          <p:grpSpPr>
            <a:xfrm>
              <a:off x="1066680" y="1295280"/>
              <a:ext cx="1049760" cy="361800"/>
              <a:chOff x="1066680" y="1295280"/>
              <a:chExt cx="1049760" cy="361800"/>
            </a:xfrm>
          </p:grpSpPr>
          <p:sp>
            <p:nvSpPr>
              <p:cNvPr id="614" name=""/>
              <p:cNvSpPr/>
              <p:nvPr/>
            </p:nvSpPr>
            <p:spPr>
              <a:xfrm>
                <a:off x="1066680" y="1295280"/>
                <a:ext cx="1049760" cy="361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1066680" y="1295280"/>
                <a:ext cx="1049400" cy="361800"/>
                <a:chOff x="1066680" y="1295280"/>
                <a:chExt cx="1049400" cy="36180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1094400" y="1295280"/>
                  <a:ext cx="993960" cy="361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066680" y="1295280"/>
                  <a:ext cx="104940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8" name=""/>
            <p:cNvGrpSpPr/>
            <p:nvPr/>
          </p:nvGrpSpPr>
          <p:grpSpPr>
            <a:xfrm>
              <a:off x="2116800" y="1295280"/>
              <a:ext cx="1200240" cy="361800"/>
              <a:chOff x="2116800" y="1295280"/>
              <a:chExt cx="1200240" cy="361800"/>
            </a:xfrm>
          </p:grpSpPr>
          <p:sp>
            <p:nvSpPr>
              <p:cNvPr id="619" name=""/>
              <p:cNvSpPr/>
              <p:nvPr/>
            </p:nvSpPr>
            <p:spPr>
              <a:xfrm>
                <a:off x="2116800" y="1295280"/>
                <a:ext cx="1200240" cy="361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2116800" y="1295280"/>
                <a:ext cx="1199880" cy="361800"/>
                <a:chOff x="2116800" y="1295280"/>
                <a:chExt cx="1199880" cy="3618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144160" y="1295280"/>
                  <a:ext cx="1144800" cy="361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rtsnam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116800" y="1295280"/>
                  <a:ext cx="119988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3" name=""/>
            <p:cNvGrpSpPr/>
            <p:nvPr/>
          </p:nvGrpSpPr>
          <p:grpSpPr>
            <a:xfrm>
              <a:off x="1066680" y="1657080"/>
              <a:ext cx="1049760" cy="362160"/>
              <a:chOff x="1066680" y="1657080"/>
              <a:chExt cx="1049760" cy="362160"/>
            </a:xfrm>
          </p:grpSpPr>
          <p:sp>
            <p:nvSpPr>
              <p:cNvPr id="624" name=""/>
              <p:cNvSpPr/>
              <p:nvPr/>
            </p:nvSpPr>
            <p:spPr>
              <a:xfrm>
                <a:off x="1066680" y="1657080"/>
                <a:ext cx="1049760" cy="36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1066680" y="1657080"/>
                <a:ext cx="1049400" cy="362160"/>
                <a:chOff x="1066680" y="1657080"/>
                <a:chExt cx="1049400" cy="36216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1094400" y="1657080"/>
                  <a:ext cx="993960" cy="362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05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066680" y="1657080"/>
                  <a:ext cx="10494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8" name=""/>
            <p:cNvGrpSpPr/>
            <p:nvPr/>
          </p:nvGrpSpPr>
          <p:grpSpPr>
            <a:xfrm>
              <a:off x="2116800" y="1657080"/>
              <a:ext cx="1200240" cy="362160"/>
              <a:chOff x="2116800" y="1657080"/>
              <a:chExt cx="1200240" cy="362160"/>
            </a:xfrm>
          </p:grpSpPr>
          <p:sp>
            <p:nvSpPr>
              <p:cNvPr id="629" name=""/>
              <p:cNvSpPr/>
              <p:nvPr/>
            </p:nvSpPr>
            <p:spPr>
              <a:xfrm>
                <a:off x="2116800" y="1657080"/>
                <a:ext cx="1200240" cy="36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0" name=""/>
              <p:cNvGrpSpPr/>
              <p:nvPr/>
            </p:nvGrpSpPr>
            <p:grpSpPr>
              <a:xfrm>
                <a:off x="2116800" y="1657080"/>
                <a:ext cx="1199880" cy="362160"/>
                <a:chOff x="2116800" y="1657080"/>
                <a:chExt cx="1199880" cy="3621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2144160" y="1657080"/>
                  <a:ext cx="1144800" cy="362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rlang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116800" y="1657080"/>
                  <a:ext cx="119988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3" name=""/>
            <p:cNvGrpSpPr/>
            <p:nvPr/>
          </p:nvGrpSpPr>
          <p:grpSpPr>
            <a:xfrm>
              <a:off x="1066680" y="2019240"/>
              <a:ext cx="1049760" cy="361800"/>
              <a:chOff x="1066680" y="2019240"/>
              <a:chExt cx="1049760" cy="361800"/>
            </a:xfrm>
          </p:grpSpPr>
          <p:sp>
            <p:nvSpPr>
              <p:cNvPr id="634" name=""/>
              <p:cNvSpPr/>
              <p:nvPr/>
            </p:nvSpPr>
            <p:spPr>
              <a:xfrm>
                <a:off x="1066680" y="2019240"/>
                <a:ext cx="1049760" cy="36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1066680" y="2019240"/>
                <a:ext cx="1049400" cy="361800"/>
                <a:chOff x="1066680" y="2019240"/>
                <a:chExt cx="1049400" cy="3618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1094400" y="2019240"/>
                  <a:ext cx="993960" cy="36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05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066680" y="2019240"/>
                  <a:ext cx="104940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8" name=""/>
            <p:cNvGrpSpPr/>
            <p:nvPr/>
          </p:nvGrpSpPr>
          <p:grpSpPr>
            <a:xfrm>
              <a:off x="2116800" y="2019240"/>
              <a:ext cx="1200240" cy="361800"/>
              <a:chOff x="2116800" y="2019240"/>
              <a:chExt cx="1200240" cy="361800"/>
            </a:xfrm>
          </p:grpSpPr>
          <p:sp>
            <p:nvSpPr>
              <p:cNvPr id="639" name=""/>
              <p:cNvSpPr/>
              <p:nvPr/>
            </p:nvSpPr>
            <p:spPr>
              <a:xfrm>
                <a:off x="2116800" y="2019240"/>
                <a:ext cx="1200240" cy="36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2116800" y="2019240"/>
                <a:ext cx="1199880" cy="361800"/>
                <a:chOff x="2116800" y="2019240"/>
                <a:chExt cx="1199880" cy="36180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2144160" y="2019240"/>
                  <a:ext cx="1144800" cy="36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rlang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2116800" y="2019240"/>
                  <a:ext cx="119988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3" name=""/>
            <p:cNvGrpSpPr/>
            <p:nvPr/>
          </p:nvGrpSpPr>
          <p:grpSpPr>
            <a:xfrm>
              <a:off x="1066680" y="2381040"/>
              <a:ext cx="1049760" cy="361800"/>
              <a:chOff x="1066680" y="2381040"/>
              <a:chExt cx="1049760" cy="361800"/>
            </a:xfrm>
          </p:grpSpPr>
          <p:sp>
            <p:nvSpPr>
              <p:cNvPr id="644" name=""/>
              <p:cNvSpPr/>
              <p:nvPr/>
            </p:nvSpPr>
            <p:spPr>
              <a:xfrm>
                <a:off x="1066680" y="2381040"/>
                <a:ext cx="1049760" cy="36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5" name=""/>
              <p:cNvGrpSpPr/>
              <p:nvPr/>
            </p:nvGrpSpPr>
            <p:grpSpPr>
              <a:xfrm>
                <a:off x="1066680" y="2381040"/>
                <a:ext cx="1049400" cy="361800"/>
                <a:chOff x="1066680" y="2381040"/>
                <a:chExt cx="1049400" cy="36180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1094400" y="2381040"/>
                  <a:ext cx="993960" cy="36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3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066680" y="2381040"/>
                  <a:ext cx="104940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8" name=""/>
            <p:cNvGrpSpPr/>
            <p:nvPr/>
          </p:nvGrpSpPr>
          <p:grpSpPr>
            <a:xfrm>
              <a:off x="2116800" y="2381040"/>
              <a:ext cx="1200240" cy="361800"/>
              <a:chOff x="2116800" y="2381040"/>
              <a:chExt cx="1200240" cy="361800"/>
            </a:xfrm>
          </p:grpSpPr>
          <p:sp>
            <p:nvSpPr>
              <p:cNvPr id="649" name=""/>
              <p:cNvSpPr/>
              <p:nvPr/>
            </p:nvSpPr>
            <p:spPr>
              <a:xfrm>
                <a:off x="2116800" y="2381040"/>
                <a:ext cx="1200240" cy="36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0" name=""/>
              <p:cNvGrpSpPr/>
              <p:nvPr/>
            </p:nvGrpSpPr>
            <p:grpSpPr>
              <a:xfrm>
                <a:off x="2116800" y="2381040"/>
                <a:ext cx="1199880" cy="361800"/>
                <a:chOff x="2116800" y="2381040"/>
                <a:chExt cx="1199880" cy="36180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2144160" y="2381040"/>
                  <a:ext cx="1144800" cy="36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umark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116800" y="2381040"/>
                  <a:ext cx="119988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cxnSp>
        <p:nvCxnSpPr>
          <p:cNvPr id="653" name=""/>
          <p:cNvCxnSpPr>
            <a:endCxn id="647" idx="2"/>
          </p:cNvCxnSpPr>
          <p:nvPr/>
        </p:nvCxnSpPr>
        <p:spPr>
          <a:xfrm flipV="1" rot="16200000">
            <a:off x="3162240" y="1171800"/>
            <a:ext cx="762840" cy="3904200"/>
          </a:xfrm>
          <a:prstGeom prst="bentConnector3">
            <a:avLst>
              <a:gd name="adj1" fmla="val 50000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54" name=""/>
          <p:cNvSpPr/>
          <p:nvPr/>
        </p:nvSpPr>
        <p:spPr>
          <a:xfrm>
            <a:off x="990720" y="3808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ösungsversuch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4724280" y="1295280"/>
            <a:ext cx="4100040" cy="1295280"/>
            <a:chOff x="4724280" y="1295280"/>
            <a:chExt cx="4100040" cy="1295280"/>
          </a:xfrm>
        </p:grpSpPr>
        <p:grpSp>
          <p:nvGrpSpPr>
            <p:cNvPr id="656" name=""/>
            <p:cNvGrpSpPr/>
            <p:nvPr/>
          </p:nvGrpSpPr>
          <p:grpSpPr>
            <a:xfrm>
              <a:off x="4724280" y="1295280"/>
              <a:ext cx="1240920" cy="304560"/>
              <a:chOff x="4724280" y="1295280"/>
              <a:chExt cx="1240920" cy="304560"/>
            </a:xfrm>
          </p:grpSpPr>
          <p:sp>
            <p:nvSpPr>
              <p:cNvPr id="657" name=""/>
              <p:cNvSpPr/>
              <p:nvPr/>
            </p:nvSpPr>
            <p:spPr>
              <a:xfrm>
                <a:off x="4724280" y="1295280"/>
                <a:ext cx="1240920" cy="304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8" name=""/>
              <p:cNvGrpSpPr/>
              <p:nvPr/>
            </p:nvGrpSpPr>
            <p:grpSpPr>
              <a:xfrm>
                <a:off x="4724280" y="1295280"/>
                <a:ext cx="1240560" cy="304560"/>
                <a:chOff x="4724280" y="1295280"/>
                <a:chExt cx="1240560" cy="30456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4767480" y="1295280"/>
                  <a:ext cx="1154160" cy="304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portar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724280" y="1295280"/>
                  <a:ext cx="124056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1" name=""/>
            <p:cNvGrpSpPr/>
            <p:nvPr/>
          </p:nvGrpSpPr>
          <p:grpSpPr>
            <a:xfrm>
              <a:off x="5965560" y="1295280"/>
              <a:ext cx="1241640" cy="304560"/>
              <a:chOff x="5965560" y="1295280"/>
              <a:chExt cx="1241640" cy="304560"/>
            </a:xfrm>
          </p:grpSpPr>
          <p:sp>
            <p:nvSpPr>
              <p:cNvPr id="662" name=""/>
              <p:cNvSpPr/>
              <p:nvPr/>
            </p:nvSpPr>
            <p:spPr>
              <a:xfrm>
                <a:off x="5965560" y="1295280"/>
                <a:ext cx="1241640" cy="304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" name=""/>
              <p:cNvGrpSpPr/>
              <p:nvPr/>
            </p:nvGrpSpPr>
            <p:grpSpPr>
              <a:xfrm>
                <a:off x="5965560" y="1295280"/>
                <a:ext cx="1241280" cy="304560"/>
                <a:chOff x="5965560" y="1295280"/>
                <a:chExt cx="1241280" cy="30456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6008760" y="1295280"/>
                  <a:ext cx="1154160" cy="304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eitra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965560" y="1295280"/>
                  <a:ext cx="124128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6" name=""/>
            <p:cNvGrpSpPr/>
            <p:nvPr/>
          </p:nvGrpSpPr>
          <p:grpSpPr>
            <a:xfrm>
              <a:off x="7207920" y="1295280"/>
              <a:ext cx="1616400" cy="304560"/>
              <a:chOff x="7207920" y="1295280"/>
              <a:chExt cx="1616400" cy="304560"/>
            </a:xfrm>
          </p:grpSpPr>
          <p:sp>
            <p:nvSpPr>
              <p:cNvPr id="667" name=""/>
              <p:cNvSpPr/>
              <p:nvPr/>
            </p:nvSpPr>
            <p:spPr>
              <a:xfrm>
                <a:off x="7207920" y="1295280"/>
                <a:ext cx="1616400" cy="304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8" name=""/>
              <p:cNvGrpSpPr/>
              <p:nvPr/>
            </p:nvGrpSpPr>
            <p:grpSpPr>
              <a:xfrm>
                <a:off x="7207920" y="1295280"/>
                <a:ext cx="1616040" cy="304560"/>
                <a:chOff x="7207920" y="1295280"/>
                <a:chExt cx="1616040" cy="30456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7251120" y="1295280"/>
                  <a:ext cx="1529640" cy="304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itgli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7207920" y="1295280"/>
                  <a:ext cx="161604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1" name=""/>
            <p:cNvGrpSpPr/>
            <p:nvPr/>
          </p:nvGrpSpPr>
          <p:grpSpPr>
            <a:xfrm>
              <a:off x="4724280" y="1599840"/>
              <a:ext cx="1240920" cy="304920"/>
              <a:chOff x="4724280" y="1599840"/>
              <a:chExt cx="1240920" cy="304920"/>
            </a:xfrm>
          </p:grpSpPr>
          <p:sp>
            <p:nvSpPr>
              <p:cNvPr id="672" name=""/>
              <p:cNvSpPr/>
              <p:nvPr/>
            </p:nvSpPr>
            <p:spPr>
              <a:xfrm>
                <a:off x="4724280" y="1599840"/>
                <a:ext cx="124092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3" name=""/>
              <p:cNvGrpSpPr/>
              <p:nvPr/>
            </p:nvGrpSpPr>
            <p:grpSpPr>
              <a:xfrm>
                <a:off x="4724280" y="1599840"/>
                <a:ext cx="1240560" cy="304920"/>
                <a:chOff x="4724280" y="1599840"/>
                <a:chExt cx="1240560" cy="30492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4767480" y="1599840"/>
                  <a:ext cx="115416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ußbal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724280" y="1599840"/>
                  <a:ext cx="124056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6" name=""/>
            <p:cNvGrpSpPr/>
            <p:nvPr/>
          </p:nvGrpSpPr>
          <p:grpSpPr>
            <a:xfrm>
              <a:off x="5965560" y="1599840"/>
              <a:ext cx="1241640" cy="304920"/>
              <a:chOff x="5965560" y="1599840"/>
              <a:chExt cx="1241640" cy="304920"/>
            </a:xfrm>
          </p:grpSpPr>
          <p:sp>
            <p:nvSpPr>
              <p:cNvPr id="677" name=""/>
              <p:cNvSpPr/>
              <p:nvPr/>
            </p:nvSpPr>
            <p:spPr>
              <a:xfrm>
                <a:off x="5965560" y="1599840"/>
                <a:ext cx="124164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5965560" y="1599840"/>
                <a:ext cx="1241280" cy="304920"/>
                <a:chOff x="5965560" y="1599840"/>
                <a:chExt cx="1241280" cy="30492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6008760" y="1599840"/>
                  <a:ext cx="115416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5,00 €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965560" y="1599840"/>
                  <a:ext cx="124128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1" name=""/>
            <p:cNvGrpSpPr/>
            <p:nvPr/>
          </p:nvGrpSpPr>
          <p:grpSpPr>
            <a:xfrm>
              <a:off x="7207920" y="1599840"/>
              <a:ext cx="1616400" cy="304920"/>
              <a:chOff x="7207920" y="1599840"/>
              <a:chExt cx="1616400" cy="304920"/>
            </a:xfrm>
          </p:grpSpPr>
          <p:sp>
            <p:nvSpPr>
              <p:cNvPr id="682" name=""/>
              <p:cNvSpPr/>
              <p:nvPr/>
            </p:nvSpPr>
            <p:spPr>
              <a:xfrm>
                <a:off x="7207920" y="1599840"/>
                <a:ext cx="16164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3" name=""/>
              <p:cNvGrpSpPr/>
              <p:nvPr/>
            </p:nvGrpSpPr>
            <p:grpSpPr>
              <a:xfrm>
                <a:off x="7207920" y="1599840"/>
                <a:ext cx="1616040" cy="304920"/>
                <a:chOff x="7207920" y="1599840"/>
                <a:chExt cx="1616040" cy="30492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7251120" y="1599840"/>
                  <a:ext cx="152964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7207920" y="1599840"/>
                  <a:ext cx="161604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6" name=""/>
            <p:cNvGrpSpPr/>
            <p:nvPr/>
          </p:nvGrpSpPr>
          <p:grpSpPr>
            <a:xfrm>
              <a:off x="4724280" y="1904760"/>
              <a:ext cx="1240920" cy="304560"/>
              <a:chOff x="4724280" y="1904760"/>
              <a:chExt cx="1240920" cy="304560"/>
            </a:xfrm>
          </p:grpSpPr>
          <p:sp>
            <p:nvSpPr>
              <p:cNvPr id="687" name=""/>
              <p:cNvSpPr/>
              <p:nvPr/>
            </p:nvSpPr>
            <p:spPr>
              <a:xfrm>
                <a:off x="4724280" y="1904760"/>
                <a:ext cx="124092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8" name=""/>
              <p:cNvGrpSpPr/>
              <p:nvPr/>
            </p:nvGrpSpPr>
            <p:grpSpPr>
              <a:xfrm>
                <a:off x="4724280" y="1904760"/>
                <a:ext cx="1240560" cy="304560"/>
                <a:chOff x="4724280" y="1904760"/>
                <a:chExt cx="1240560" cy="30456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4767480" y="1904760"/>
                  <a:ext cx="115416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ol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724280" y="1904760"/>
                  <a:ext cx="124056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1" name=""/>
            <p:cNvGrpSpPr/>
            <p:nvPr/>
          </p:nvGrpSpPr>
          <p:grpSpPr>
            <a:xfrm>
              <a:off x="5965560" y="1904760"/>
              <a:ext cx="1241640" cy="304560"/>
              <a:chOff x="5965560" y="1904760"/>
              <a:chExt cx="1241640" cy="30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5965560" y="1904760"/>
                <a:ext cx="124164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3" name=""/>
              <p:cNvGrpSpPr/>
              <p:nvPr/>
            </p:nvGrpSpPr>
            <p:grpSpPr>
              <a:xfrm>
                <a:off x="5965560" y="1904760"/>
                <a:ext cx="1241280" cy="304560"/>
                <a:chOff x="5965560" y="1904760"/>
                <a:chExt cx="1241280" cy="30456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6008760" y="1904760"/>
                  <a:ext cx="115416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0,00 €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965560" y="1904760"/>
                  <a:ext cx="124128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6" name=""/>
            <p:cNvGrpSpPr/>
            <p:nvPr/>
          </p:nvGrpSpPr>
          <p:grpSpPr>
            <a:xfrm>
              <a:off x="7207920" y="1904760"/>
              <a:ext cx="1616400" cy="304560"/>
              <a:chOff x="7207920" y="1904760"/>
              <a:chExt cx="1616400" cy="304560"/>
            </a:xfrm>
          </p:grpSpPr>
          <p:sp>
            <p:nvSpPr>
              <p:cNvPr id="697" name=""/>
              <p:cNvSpPr/>
              <p:nvPr/>
            </p:nvSpPr>
            <p:spPr>
              <a:xfrm>
                <a:off x="7207920" y="1904760"/>
                <a:ext cx="161640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8" name=""/>
              <p:cNvGrpSpPr/>
              <p:nvPr/>
            </p:nvGrpSpPr>
            <p:grpSpPr>
              <a:xfrm>
                <a:off x="7207920" y="1904760"/>
                <a:ext cx="1616040" cy="304560"/>
                <a:chOff x="7207920" y="1904760"/>
                <a:chExt cx="1616040" cy="3045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7251120" y="1904760"/>
                  <a:ext cx="152964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7207920" y="1904760"/>
                  <a:ext cx="161604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1" name=""/>
            <p:cNvGrpSpPr/>
            <p:nvPr/>
          </p:nvGrpSpPr>
          <p:grpSpPr>
            <a:xfrm>
              <a:off x="4724280" y="2209680"/>
              <a:ext cx="1240920" cy="380880"/>
              <a:chOff x="4724280" y="2209680"/>
              <a:chExt cx="1240920" cy="380880"/>
            </a:xfrm>
          </p:grpSpPr>
          <p:sp>
            <p:nvSpPr>
              <p:cNvPr id="702" name=""/>
              <p:cNvSpPr/>
              <p:nvPr/>
            </p:nvSpPr>
            <p:spPr>
              <a:xfrm>
                <a:off x="4724280" y="2209680"/>
                <a:ext cx="124092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3" name=""/>
              <p:cNvGrpSpPr/>
              <p:nvPr/>
            </p:nvGrpSpPr>
            <p:grpSpPr>
              <a:xfrm>
                <a:off x="4724280" y="2209680"/>
                <a:ext cx="1240560" cy="380880"/>
                <a:chOff x="4724280" y="2209680"/>
                <a:chExt cx="1240560" cy="38088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4767480" y="2209680"/>
                  <a:ext cx="1154160" cy="38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ymnasti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724280" y="2209680"/>
                  <a:ext cx="1240560" cy="3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6" name=""/>
            <p:cNvGrpSpPr/>
            <p:nvPr/>
          </p:nvGrpSpPr>
          <p:grpSpPr>
            <a:xfrm>
              <a:off x="5965560" y="2209680"/>
              <a:ext cx="1241640" cy="380880"/>
              <a:chOff x="5965560" y="2209680"/>
              <a:chExt cx="1241640" cy="380880"/>
            </a:xfrm>
          </p:grpSpPr>
          <p:sp>
            <p:nvSpPr>
              <p:cNvPr id="707" name=""/>
              <p:cNvSpPr/>
              <p:nvPr/>
            </p:nvSpPr>
            <p:spPr>
              <a:xfrm>
                <a:off x="5965560" y="2209680"/>
                <a:ext cx="124164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5965560" y="2209680"/>
                <a:ext cx="1241280" cy="380880"/>
                <a:chOff x="5965560" y="2209680"/>
                <a:chExt cx="1241280" cy="38088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008760" y="2209680"/>
                  <a:ext cx="1154160" cy="38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0,00 €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965560" y="2209680"/>
                  <a:ext cx="1241280" cy="3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1" name=""/>
            <p:cNvGrpSpPr/>
            <p:nvPr/>
          </p:nvGrpSpPr>
          <p:grpSpPr>
            <a:xfrm>
              <a:off x="7207920" y="2209680"/>
              <a:ext cx="1616400" cy="380880"/>
              <a:chOff x="7207920" y="2209680"/>
              <a:chExt cx="1616400" cy="380880"/>
            </a:xfrm>
          </p:grpSpPr>
          <p:sp>
            <p:nvSpPr>
              <p:cNvPr id="712" name=""/>
              <p:cNvSpPr/>
              <p:nvPr/>
            </p:nvSpPr>
            <p:spPr>
              <a:xfrm>
                <a:off x="7207920" y="2209680"/>
                <a:ext cx="161640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" name=""/>
              <p:cNvGrpSpPr/>
              <p:nvPr/>
            </p:nvGrpSpPr>
            <p:grpSpPr>
              <a:xfrm>
                <a:off x="7207920" y="2209680"/>
                <a:ext cx="1616040" cy="380880"/>
                <a:chOff x="7207920" y="2209680"/>
                <a:chExt cx="1616040" cy="38088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7251120" y="2209680"/>
                  <a:ext cx="1529640" cy="38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7207920" y="2209680"/>
                  <a:ext cx="1616040" cy="3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cxnSp>
        <p:nvCxnSpPr>
          <p:cNvPr id="716" name=""/>
          <p:cNvCxnSpPr>
            <a:stCxn id="715" idx="2"/>
            <a:endCxn id="376" idx="0"/>
          </p:cNvCxnSpPr>
          <p:nvPr/>
        </p:nvCxnSpPr>
        <p:spPr>
          <a:xfrm rot="5400000">
            <a:off x="3681360" y="-834480"/>
            <a:ext cx="910080" cy="7760520"/>
          </a:xfrm>
          <a:prstGeom prst="bentConnector3">
            <a:avLst>
              <a:gd name="adj1" fmla="val 49901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7" name=""/>
          <p:cNvSpPr/>
          <p:nvPr/>
        </p:nvSpPr>
        <p:spPr>
          <a:xfrm>
            <a:off x="838080" y="3809880"/>
            <a:ext cx="769644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geeignet, weil in einem Tabellenfeld mehrere Werte steh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4724280" y="1295280"/>
            <a:ext cx="4100040" cy="1295280"/>
            <a:chOff x="4724280" y="1295280"/>
            <a:chExt cx="4100040" cy="1295280"/>
          </a:xfrm>
        </p:grpSpPr>
        <p:grpSp>
          <p:nvGrpSpPr>
            <p:cNvPr id="719" name=""/>
            <p:cNvGrpSpPr/>
            <p:nvPr/>
          </p:nvGrpSpPr>
          <p:grpSpPr>
            <a:xfrm>
              <a:off x="4724280" y="1295280"/>
              <a:ext cx="1240920" cy="304560"/>
              <a:chOff x="4724280" y="1295280"/>
              <a:chExt cx="1240920" cy="304560"/>
            </a:xfrm>
          </p:grpSpPr>
          <p:sp>
            <p:nvSpPr>
              <p:cNvPr id="720" name=""/>
              <p:cNvSpPr/>
              <p:nvPr/>
            </p:nvSpPr>
            <p:spPr>
              <a:xfrm>
                <a:off x="4724280" y="1295280"/>
                <a:ext cx="1240920" cy="304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" name=""/>
              <p:cNvGrpSpPr/>
              <p:nvPr/>
            </p:nvGrpSpPr>
            <p:grpSpPr>
              <a:xfrm>
                <a:off x="4724280" y="1295280"/>
                <a:ext cx="1240560" cy="304560"/>
                <a:chOff x="4724280" y="1295280"/>
                <a:chExt cx="1240560" cy="30456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4767480" y="1295280"/>
                  <a:ext cx="1154160" cy="304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portar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724280" y="1295280"/>
                  <a:ext cx="124056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4" name=""/>
            <p:cNvGrpSpPr/>
            <p:nvPr/>
          </p:nvGrpSpPr>
          <p:grpSpPr>
            <a:xfrm>
              <a:off x="5965560" y="1295280"/>
              <a:ext cx="1241640" cy="304560"/>
              <a:chOff x="5965560" y="1295280"/>
              <a:chExt cx="1241640" cy="304560"/>
            </a:xfrm>
          </p:grpSpPr>
          <p:sp>
            <p:nvSpPr>
              <p:cNvPr id="725" name=""/>
              <p:cNvSpPr/>
              <p:nvPr/>
            </p:nvSpPr>
            <p:spPr>
              <a:xfrm>
                <a:off x="5965560" y="1295280"/>
                <a:ext cx="1241640" cy="304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6" name=""/>
              <p:cNvGrpSpPr/>
              <p:nvPr/>
            </p:nvGrpSpPr>
            <p:grpSpPr>
              <a:xfrm>
                <a:off x="5965560" y="1295280"/>
                <a:ext cx="1241280" cy="304560"/>
                <a:chOff x="5965560" y="1295280"/>
                <a:chExt cx="1241280" cy="3045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008760" y="1295280"/>
                  <a:ext cx="1154160" cy="304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eitra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965560" y="1295280"/>
                  <a:ext cx="124128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9" name=""/>
            <p:cNvGrpSpPr/>
            <p:nvPr/>
          </p:nvGrpSpPr>
          <p:grpSpPr>
            <a:xfrm>
              <a:off x="7207920" y="1295280"/>
              <a:ext cx="1616400" cy="304560"/>
              <a:chOff x="7207920" y="1295280"/>
              <a:chExt cx="1616400" cy="304560"/>
            </a:xfrm>
          </p:grpSpPr>
          <p:sp>
            <p:nvSpPr>
              <p:cNvPr id="730" name=""/>
              <p:cNvSpPr/>
              <p:nvPr/>
            </p:nvSpPr>
            <p:spPr>
              <a:xfrm>
                <a:off x="7207920" y="1295280"/>
                <a:ext cx="1616400" cy="304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1" name=""/>
              <p:cNvGrpSpPr/>
              <p:nvPr/>
            </p:nvGrpSpPr>
            <p:grpSpPr>
              <a:xfrm>
                <a:off x="7207920" y="1295280"/>
                <a:ext cx="1616040" cy="304560"/>
                <a:chOff x="7207920" y="1295280"/>
                <a:chExt cx="1616040" cy="30456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7251120" y="1295280"/>
                  <a:ext cx="1529640" cy="304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itgli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207920" y="1295280"/>
                  <a:ext cx="161604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4" name=""/>
            <p:cNvGrpSpPr/>
            <p:nvPr/>
          </p:nvGrpSpPr>
          <p:grpSpPr>
            <a:xfrm>
              <a:off x="4724280" y="1599840"/>
              <a:ext cx="1240920" cy="304920"/>
              <a:chOff x="4724280" y="1599840"/>
              <a:chExt cx="1240920" cy="304920"/>
            </a:xfrm>
          </p:grpSpPr>
          <p:sp>
            <p:nvSpPr>
              <p:cNvPr id="735" name=""/>
              <p:cNvSpPr/>
              <p:nvPr/>
            </p:nvSpPr>
            <p:spPr>
              <a:xfrm>
                <a:off x="4724280" y="1599840"/>
                <a:ext cx="124092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6" name=""/>
              <p:cNvGrpSpPr/>
              <p:nvPr/>
            </p:nvGrpSpPr>
            <p:grpSpPr>
              <a:xfrm>
                <a:off x="4724280" y="1599840"/>
                <a:ext cx="1240560" cy="304920"/>
                <a:chOff x="4724280" y="1599840"/>
                <a:chExt cx="1240560" cy="3049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4767480" y="1599840"/>
                  <a:ext cx="115416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ußbal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724280" y="1599840"/>
                  <a:ext cx="124056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9" name=""/>
            <p:cNvGrpSpPr/>
            <p:nvPr/>
          </p:nvGrpSpPr>
          <p:grpSpPr>
            <a:xfrm>
              <a:off x="5965560" y="1599840"/>
              <a:ext cx="1241640" cy="304920"/>
              <a:chOff x="5965560" y="1599840"/>
              <a:chExt cx="1241640" cy="304920"/>
            </a:xfrm>
          </p:grpSpPr>
          <p:sp>
            <p:nvSpPr>
              <p:cNvPr id="740" name=""/>
              <p:cNvSpPr/>
              <p:nvPr/>
            </p:nvSpPr>
            <p:spPr>
              <a:xfrm>
                <a:off x="5965560" y="1599840"/>
                <a:ext cx="124164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1" name=""/>
              <p:cNvGrpSpPr/>
              <p:nvPr/>
            </p:nvGrpSpPr>
            <p:grpSpPr>
              <a:xfrm>
                <a:off x="5965560" y="1599840"/>
                <a:ext cx="1241280" cy="304920"/>
                <a:chOff x="5965560" y="1599840"/>
                <a:chExt cx="1241280" cy="30492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6008760" y="1599840"/>
                  <a:ext cx="115416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5,00 €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965560" y="1599840"/>
                  <a:ext cx="124128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4" name=""/>
            <p:cNvGrpSpPr/>
            <p:nvPr/>
          </p:nvGrpSpPr>
          <p:grpSpPr>
            <a:xfrm>
              <a:off x="7207920" y="1599840"/>
              <a:ext cx="1616400" cy="304920"/>
              <a:chOff x="7207920" y="1599840"/>
              <a:chExt cx="1616400" cy="304920"/>
            </a:xfrm>
          </p:grpSpPr>
          <p:sp>
            <p:nvSpPr>
              <p:cNvPr id="745" name=""/>
              <p:cNvSpPr/>
              <p:nvPr/>
            </p:nvSpPr>
            <p:spPr>
              <a:xfrm>
                <a:off x="7207920" y="1599840"/>
                <a:ext cx="16164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6" name=""/>
              <p:cNvGrpSpPr/>
              <p:nvPr/>
            </p:nvGrpSpPr>
            <p:grpSpPr>
              <a:xfrm>
                <a:off x="7207920" y="1599840"/>
                <a:ext cx="1616040" cy="304920"/>
                <a:chOff x="7207920" y="1599840"/>
                <a:chExt cx="1616040" cy="30492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7251120" y="1599840"/>
                  <a:ext cx="152964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6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7207920" y="1599840"/>
                  <a:ext cx="161604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4724280" y="1904760"/>
              <a:ext cx="1240920" cy="304560"/>
              <a:chOff x="4724280" y="1904760"/>
              <a:chExt cx="1240920" cy="304560"/>
            </a:xfrm>
          </p:grpSpPr>
          <p:sp>
            <p:nvSpPr>
              <p:cNvPr id="750" name=""/>
              <p:cNvSpPr/>
              <p:nvPr/>
            </p:nvSpPr>
            <p:spPr>
              <a:xfrm>
                <a:off x="4724280" y="1904760"/>
                <a:ext cx="124092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1" name=""/>
              <p:cNvGrpSpPr/>
              <p:nvPr/>
            </p:nvGrpSpPr>
            <p:grpSpPr>
              <a:xfrm>
                <a:off x="4724280" y="1904760"/>
                <a:ext cx="1240560" cy="304560"/>
                <a:chOff x="4724280" y="1904760"/>
                <a:chExt cx="1240560" cy="30456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4767480" y="1904760"/>
                  <a:ext cx="115416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ol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724280" y="1904760"/>
                  <a:ext cx="124056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4" name=""/>
            <p:cNvGrpSpPr/>
            <p:nvPr/>
          </p:nvGrpSpPr>
          <p:grpSpPr>
            <a:xfrm>
              <a:off x="5965560" y="1904760"/>
              <a:ext cx="1241640" cy="304560"/>
              <a:chOff x="5965560" y="1904760"/>
              <a:chExt cx="1241640" cy="304560"/>
            </a:xfrm>
          </p:grpSpPr>
          <p:sp>
            <p:nvSpPr>
              <p:cNvPr id="755" name=""/>
              <p:cNvSpPr/>
              <p:nvPr/>
            </p:nvSpPr>
            <p:spPr>
              <a:xfrm>
                <a:off x="5965560" y="1904760"/>
                <a:ext cx="124164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965560" y="1904760"/>
                <a:ext cx="1241280" cy="304560"/>
                <a:chOff x="5965560" y="1904760"/>
                <a:chExt cx="1241280" cy="30456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6008760" y="1904760"/>
                  <a:ext cx="115416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0,00 €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965560" y="1904760"/>
                  <a:ext cx="124128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9" name=""/>
            <p:cNvGrpSpPr/>
            <p:nvPr/>
          </p:nvGrpSpPr>
          <p:grpSpPr>
            <a:xfrm>
              <a:off x="7207920" y="1904760"/>
              <a:ext cx="1616400" cy="304560"/>
              <a:chOff x="7207920" y="1904760"/>
              <a:chExt cx="1616400" cy="304560"/>
            </a:xfrm>
          </p:grpSpPr>
          <p:sp>
            <p:nvSpPr>
              <p:cNvPr id="760" name=""/>
              <p:cNvSpPr/>
              <p:nvPr/>
            </p:nvSpPr>
            <p:spPr>
              <a:xfrm>
                <a:off x="7207920" y="1904760"/>
                <a:ext cx="161640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1" name=""/>
              <p:cNvGrpSpPr/>
              <p:nvPr/>
            </p:nvGrpSpPr>
            <p:grpSpPr>
              <a:xfrm>
                <a:off x="7207920" y="1904760"/>
                <a:ext cx="1616040" cy="304560"/>
                <a:chOff x="7207920" y="1904760"/>
                <a:chExt cx="1616040" cy="30456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7251120" y="1904760"/>
                  <a:ext cx="152964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7 20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7207920" y="1904760"/>
                  <a:ext cx="161604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4" name=""/>
            <p:cNvGrpSpPr/>
            <p:nvPr/>
          </p:nvGrpSpPr>
          <p:grpSpPr>
            <a:xfrm>
              <a:off x="4724280" y="2209680"/>
              <a:ext cx="1240920" cy="380880"/>
              <a:chOff x="4724280" y="2209680"/>
              <a:chExt cx="1240920" cy="380880"/>
            </a:xfrm>
          </p:grpSpPr>
          <p:sp>
            <p:nvSpPr>
              <p:cNvPr id="765" name=""/>
              <p:cNvSpPr/>
              <p:nvPr/>
            </p:nvSpPr>
            <p:spPr>
              <a:xfrm>
                <a:off x="4724280" y="2209680"/>
                <a:ext cx="124092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6" name=""/>
              <p:cNvGrpSpPr/>
              <p:nvPr/>
            </p:nvGrpSpPr>
            <p:grpSpPr>
              <a:xfrm>
                <a:off x="4724280" y="2209680"/>
                <a:ext cx="1240560" cy="380880"/>
                <a:chOff x="4724280" y="2209680"/>
                <a:chExt cx="1240560" cy="38088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4767480" y="2209680"/>
                  <a:ext cx="1154160" cy="38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ymnasti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724280" y="2209680"/>
                  <a:ext cx="1240560" cy="3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9" name=""/>
            <p:cNvGrpSpPr/>
            <p:nvPr/>
          </p:nvGrpSpPr>
          <p:grpSpPr>
            <a:xfrm>
              <a:off x="5965560" y="2209680"/>
              <a:ext cx="1241640" cy="380880"/>
              <a:chOff x="5965560" y="2209680"/>
              <a:chExt cx="1241640" cy="380880"/>
            </a:xfrm>
          </p:grpSpPr>
          <p:sp>
            <p:nvSpPr>
              <p:cNvPr id="770" name=""/>
              <p:cNvSpPr/>
              <p:nvPr/>
            </p:nvSpPr>
            <p:spPr>
              <a:xfrm>
                <a:off x="5965560" y="2209680"/>
                <a:ext cx="124164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1" name=""/>
              <p:cNvGrpSpPr/>
              <p:nvPr/>
            </p:nvGrpSpPr>
            <p:grpSpPr>
              <a:xfrm>
                <a:off x="5965560" y="2209680"/>
                <a:ext cx="1241280" cy="380880"/>
                <a:chOff x="5965560" y="2209680"/>
                <a:chExt cx="1241280" cy="38088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6008760" y="2209680"/>
                  <a:ext cx="1154160" cy="38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0,00 €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5965560" y="2209680"/>
                  <a:ext cx="1241280" cy="3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4" name=""/>
            <p:cNvGrpSpPr/>
            <p:nvPr/>
          </p:nvGrpSpPr>
          <p:grpSpPr>
            <a:xfrm>
              <a:off x="7207920" y="2209680"/>
              <a:ext cx="1616400" cy="380880"/>
              <a:chOff x="7207920" y="2209680"/>
              <a:chExt cx="1616400" cy="380880"/>
            </a:xfrm>
          </p:grpSpPr>
          <p:sp>
            <p:nvSpPr>
              <p:cNvPr id="775" name=""/>
              <p:cNvSpPr/>
              <p:nvPr/>
            </p:nvSpPr>
            <p:spPr>
              <a:xfrm>
                <a:off x="7207920" y="2209680"/>
                <a:ext cx="161640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6" name=""/>
              <p:cNvGrpSpPr/>
              <p:nvPr/>
            </p:nvGrpSpPr>
            <p:grpSpPr>
              <a:xfrm>
                <a:off x="7207920" y="2209680"/>
                <a:ext cx="1616040" cy="380880"/>
                <a:chOff x="7207920" y="2209680"/>
                <a:chExt cx="1616040" cy="38088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7251120" y="2209680"/>
                  <a:ext cx="1529640" cy="380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6 208 20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7207920" y="2209680"/>
                  <a:ext cx="1616040" cy="380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79" name=""/>
          <p:cNvSpPr/>
          <p:nvPr/>
        </p:nvSpPr>
        <p:spPr>
          <a:xfrm>
            <a:off x="6478560" y="15228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n:m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0" y="3500280"/>
            <a:ext cx="512280" cy="432000"/>
            <a:chOff x="0" y="3500280"/>
            <a:chExt cx="512280" cy="432000"/>
          </a:xfrm>
        </p:grpSpPr>
        <p:sp>
          <p:nvSpPr>
            <p:cNvPr id="783" name=""/>
            <p:cNvSpPr/>
            <p:nvPr/>
          </p:nvSpPr>
          <p:spPr>
            <a:xfrm>
              <a:off x="0" y="3500280"/>
              <a:ext cx="512280" cy="432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0" y="3500280"/>
              <a:ext cx="511920" cy="432000"/>
              <a:chOff x="0" y="3500280"/>
              <a:chExt cx="511920" cy="432000"/>
            </a:xfrm>
          </p:grpSpPr>
          <p:sp>
            <p:nvSpPr>
              <p:cNvPr id="785" name=""/>
              <p:cNvSpPr/>
              <p:nvPr/>
            </p:nvSpPr>
            <p:spPr>
              <a:xfrm>
                <a:off x="30600" y="3500280"/>
                <a:ext cx="450360" cy="432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_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3500280"/>
                <a:ext cx="51192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7" name=""/>
          <p:cNvGrpSpPr/>
          <p:nvPr/>
        </p:nvGrpSpPr>
        <p:grpSpPr>
          <a:xfrm>
            <a:off x="512640" y="3500280"/>
            <a:ext cx="1163520" cy="432000"/>
            <a:chOff x="512640" y="3500280"/>
            <a:chExt cx="1163520" cy="432000"/>
          </a:xfrm>
        </p:grpSpPr>
        <p:sp>
          <p:nvSpPr>
            <p:cNvPr id="788" name=""/>
            <p:cNvSpPr/>
            <p:nvPr/>
          </p:nvSpPr>
          <p:spPr>
            <a:xfrm>
              <a:off x="512640" y="3500280"/>
              <a:ext cx="1163520" cy="432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512640" y="3500280"/>
              <a:ext cx="1163160" cy="432000"/>
              <a:chOff x="512640" y="3500280"/>
              <a:chExt cx="1163160" cy="432000"/>
            </a:xfrm>
          </p:grpSpPr>
          <p:sp>
            <p:nvSpPr>
              <p:cNvPr id="790" name=""/>
              <p:cNvSpPr/>
              <p:nvPr/>
            </p:nvSpPr>
            <p:spPr>
              <a:xfrm>
                <a:off x="542880" y="3500280"/>
                <a:ext cx="1102320" cy="432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or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12640" y="3500280"/>
                <a:ext cx="116316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"/>
          <p:cNvGrpSpPr/>
          <p:nvPr/>
        </p:nvGrpSpPr>
        <p:grpSpPr>
          <a:xfrm>
            <a:off x="1676520" y="3500280"/>
            <a:ext cx="1244160" cy="432000"/>
            <a:chOff x="1676520" y="3500280"/>
            <a:chExt cx="1244160" cy="432000"/>
          </a:xfrm>
        </p:grpSpPr>
        <p:sp>
          <p:nvSpPr>
            <p:cNvPr id="793" name=""/>
            <p:cNvSpPr/>
            <p:nvPr/>
          </p:nvSpPr>
          <p:spPr>
            <a:xfrm>
              <a:off x="1676520" y="3500280"/>
              <a:ext cx="1244160" cy="432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1676520" y="3500280"/>
              <a:ext cx="1243800" cy="432000"/>
              <a:chOff x="1676520" y="3500280"/>
              <a:chExt cx="1243800" cy="432000"/>
            </a:xfrm>
          </p:grpSpPr>
          <p:sp>
            <p:nvSpPr>
              <p:cNvPr id="795" name=""/>
              <p:cNvSpPr/>
              <p:nvPr/>
            </p:nvSpPr>
            <p:spPr>
              <a:xfrm>
                <a:off x="1706760" y="3500280"/>
                <a:ext cx="1182960" cy="432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ach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676520" y="3500280"/>
                <a:ext cx="124380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7" name=""/>
          <p:cNvGrpSpPr/>
          <p:nvPr/>
        </p:nvGrpSpPr>
        <p:grpSpPr>
          <a:xfrm>
            <a:off x="2921040" y="3500280"/>
            <a:ext cx="1161720" cy="432000"/>
            <a:chOff x="2921040" y="3500280"/>
            <a:chExt cx="1161720" cy="432000"/>
          </a:xfrm>
        </p:grpSpPr>
        <p:sp>
          <p:nvSpPr>
            <p:cNvPr id="798" name=""/>
            <p:cNvSpPr/>
            <p:nvPr/>
          </p:nvSpPr>
          <p:spPr>
            <a:xfrm>
              <a:off x="2921040" y="3500280"/>
              <a:ext cx="1161720" cy="432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2921040" y="3500280"/>
              <a:ext cx="1161360" cy="432000"/>
              <a:chOff x="2921040" y="3500280"/>
              <a:chExt cx="1161360" cy="432000"/>
            </a:xfrm>
          </p:grpSpPr>
          <p:sp>
            <p:nvSpPr>
              <p:cNvPr id="800" name=""/>
              <p:cNvSpPr/>
              <p:nvPr/>
            </p:nvSpPr>
            <p:spPr>
              <a:xfrm>
                <a:off x="2951280" y="3500280"/>
                <a:ext cx="1100160" cy="432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eburtsdatu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921040" y="3500280"/>
                <a:ext cx="116136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4083120" y="3500280"/>
            <a:ext cx="991800" cy="432000"/>
            <a:chOff x="4083120" y="3500280"/>
            <a:chExt cx="991800" cy="432000"/>
          </a:xfrm>
        </p:grpSpPr>
        <p:sp>
          <p:nvSpPr>
            <p:cNvPr id="803" name=""/>
            <p:cNvSpPr/>
            <p:nvPr/>
          </p:nvSpPr>
          <p:spPr>
            <a:xfrm>
              <a:off x="4083120" y="3500280"/>
              <a:ext cx="991800" cy="432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4" name=""/>
            <p:cNvGrpSpPr/>
            <p:nvPr/>
          </p:nvGrpSpPr>
          <p:grpSpPr>
            <a:xfrm>
              <a:off x="4083120" y="3500280"/>
              <a:ext cx="991440" cy="432000"/>
              <a:chOff x="4083120" y="3500280"/>
              <a:chExt cx="991440" cy="432000"/>
            </a:xfrm>
          </p:grpSpPr>
          <p:sp>
            <p:nvSpPr>
              <p:cNvPr id="805" name=""/>
              <p:cNvSpPr/>
              <p:nvPr/>
            </p:nvSpPr>
            <p:spPr>
              <a:xfrm>
                <a:off x="4113360" y="3500280"/>
                <a:ext cx="930600" cy="432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083120" y="3500280"/>
                <a:ext cx="99144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5075280" y="3500280"/>
            <a:ext cx="1159920" cy="432000"/>
            <a:chOff x="5075280" y="3500280"/>
            <a:chExt cx="1159920" cy="432000"/>
          </a:xfrm>
        </p:grpSpPr>
        <p:sp>
          <p:nvSpPr>
            <p:cNvPr id="808" name=""/>
            <p:cNvSpPr/>
            <p:nvPr/>
          </p:nvSpPr>
          <p:spPr>
            <a:xfrm>
              <a:off x="5075280" y="3500280"/>
              <a:ext cx="1159920" cy="432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5075280" y="3500280"/>
              <a:ext cx="1159560" cy="432000"/>
              <a:chOff x="5075280" y="3500280"/>
              <a:chExt cx="1159560" cy="432000"/>
            </a:xfrm>
          </p:grpSpPr>
          <p:sp>
            <p:nvSpPr>
              <p:cNvPr id="810" name=""/>
              <p:cNvSpPr/>
              <p:nvPr/>
            </p:nvSpPr>
            <p:spPr>
              <a:xfrm>
                <a:off x="5105520" y="3500280"/>
                <a:ext cx="1099080" cy="432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075280" y="3500280"/>
                <a:ext cx="115956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2" name=""/>
          <p:cNvGrpSpPr/>
          <p:nvPr/>
        </p:nvGrpSpPr>
        <p:grpSpPr>
          <a:xfrm>
            <a:off x="6235560" y="3500280"/>
            <a:ext cx="1692000" cy="432000"/>
            <a:chOff x="6235560" y="3500280"/>
            <a:chExt cx="1692000" cy="432000"/>
          </a:xfrm>
        </p:grpSpPr>
        <p:sp>
          <p:nvSpPr>
            <p:cNvPr id="813" name=""/>
            <p:cNvSpPr/>
            <p:nvPr/>
          </p:nvSpPr>
          <p:spPr>
            <a:xfrm>
              <a:off x="6235560" y="3500280"/>
              <a:ext cx="1692000" cy="432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6235560" y="3500280"/>
              <a:ext cx="1691640" cy="432000"/>
              <a:chOff x="6235560" y="3500280"/>
              <a:chExt cx="1691640" cy="432000"/>
            </a:xfrm>
          </p:grpSpPr>
          <p:sp>
            <p:nvSpPr>
              <p:cNvPr id="815" name=""/>
              <p:cNvSpPr/>
              <p:nvPr/>
            </p:nvSpPr>
            <p:spPr>
              <a:xfrm>
                <a:off x="6266160" y="3500280"/>
                <a:ext cx="1630800" cy="432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lef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235560" y="3500280"/>
                <a:ext cx="169164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7927920" y="3500280"/>
            <a:ext cx="1216080" cy="432000"/>
            <a:chOff x="7927920" y="3500280"/>
            <a:chExt cx="1216080" cy="432000"/>
          </a:xfrm>
        </p:grpSpPr>
        <p:sp>
          <p:nvSpPr>
            <p:cNvPr id="818" name=""/>
            <p:cNvSpPr/>
            <p:nvPr/>
          </p:nvSpPr>
          <p:spPr>
            <a:xfrm>
              <a:off x="7927920" y="3500280"/>
              <a:ext cx="1216080" cy="432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7927920" y="3500280"/>
              <a:ext cx="1216080" cy="432000"/>
              <a:chOff x="7927920" y="3500280"/>
              <a:chExt cx="1216080" cy="432000"/>
            </a:xfrm>
          </p:grpSpPr>
          <p:sp>
            <p:nvSpPr>
              <p:cNvPr id="820" name=""/>
              <p:cNvSpPr/>
              <p:nvPr/>
            </p:nvSpPr>
            <p:spPr>
              <a:xfrm>
                <a:off x="7953120" y="3500280"/>
                <a:ext cx="1165320" cy="432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orta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927920" y="3500280"/>
                <a:ext cx="121608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2" name=""/>
          <p:cNvGrpSpPr/>
          <p:nvPr/>
        </p:nvGrpSpPr>
        <p:grpSpPr>
          <a:xfrm>
            <a:off x="0" y="3932280"/>
            <a:ext cx="512280" cy="431640"/>
            <a:chOff x="0" y="3932280"/>
            <a:chExt cx="512280" cy="431640"/>
          </a:xfrm>
        </p:grpSpPr>
        <p:sp>
          <p:nvSpPr>
            <p:cNvPr id="823" name=""/>
            <p:cNvSpPr/>
            <p:nvPr/>
          </p:nvSpPr>
          <p:spPr>
            <a:xfrm>
              <a:off x="0" y="3932280"/>
              <a:ext cx="51228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0" y="3932280"/>
              <a:ext cx="511920" cy="431640"/>
              <a:chOff x="0" y="3932280"/>
              <a:chExt cx="511920" cy="431640"/>
            </a:xfrm>
          </p:grpSpPr>
          <p:sp>
            <p:nvSpPr>
              <p:cNvPr id="825" name=""/>
              <p:cNvSpPr/>
              <p:nvPr/>
            </p:nvSpPr>
            <p:spPr>
              <a:xfrm>
                <a:off x="30600" y="3932280"/>
                <a:ext cx="4503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3932280"/>
                <a:ext cx="511920" cy="43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7" name=""/>
          <p:cNvGrpSpPr/>
          <p:nvPr/>
        </p:nvGrpSpPr>
        <p:grpSpPr>
          <a:xfrm>
            <a:off x="512640" y="3932280"/>
            <a:ext cx="1163520" cy="431640"/>
            <a:chOff x="512640" y="3932280"/>
            <a:chExt cx="1163520" cy="431640"/>
          </a:xfrm>
        </p:grpSpPr>
        <p:sp>
          <p:nvSpPr>
            <p:cNvPr id="828" name=""/>
            <p:cNvSpPr/>
            <p:nvPr/>
          </p:nvSpPr>
          <p:spPr>
            <a:xfrm>
              <a:off x="512640" y="3932280"/>
              <a:ext cx="116352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512640" y="3932280"/>
              <a:ext cx="1163160" cy="431640"/>
              <a:chOff x="512640" y="3932280"/>
              <a:chExt cx="1163160" cy="431640"/>
            </a:xfrm>
          </p:grpSpPr>
          <p:sp>
            <p:nvSpPr>
              <p:cNvPr id="830" name=""/>
              <p:cNvSpPr/>
              <p:nvPr/>
            </p:nvSpPr>
            <p:spPr>
              <a:xfrm>
                <a:off x="542880" y="3932280"/>
                <a:ext cx="110232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hristia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12640" y="3932280"/>
                <a:ext cx="1163160" cy="43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2" name=""/>
          <p:cNvGrpSpPr/>
          <p:nvPr/>
        </p:nvGrpSpPr>
        <p:grpSpPr>
          <a:xfrm>
            <a:off x="1676520" y="3932280"/>
            <a:ext cx="1244160" cy="431640"/>
            <a:chOff x="1676520" y="3932280"/>
            <a:chExt cx="1244160" cy="431640"/>
          </a:xfrm>
        </p:grpSpPr>
        <p:sp>
          <p:nvSpPr>
            <p:cNvPr id="833" name=""/>
            <p:cNvSpPr/>
            <p:nvPr/>
          </p:nvSpPr>
          <p:spPr>
            <a:xfrm>
              <a:off x="1676520" y="3932280"/>
              <a:ext cx="124416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1676520" y="3932280"/>
              <a:ext cx="1243800" cy="431640"/>
              <a:chOff x="1676520" y="3932280"/>
              <a:chExt cx="1243800" cy="431640"/>
            </a:xfrm>
          </p:grpSpPr>
          <p:sp>
            <p:nvSpPr>
              <p:cNvPr id="835" name=""/>
              <p:cNvSpPr/>
              <p:nvPr/>
            </p:nvSpPr>
            <p:spPr>
              <a:xfrm>
                <a:off x="1706760" y="3932280"/>
                <a:ext cx="1182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idric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676520" y="3932280"/>
                <a:ext cx="1243800" cy="43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7" name=""/>
          <p:cNvGrpSpPr/>
          <p:nvPr/>
        </p:nvGrpSpPr>
        <p:grpSpPr>
          <a:xfrm>
            <a:off x="2921040" y="3932280"/>
            <a:ext cx="1161720" cy="431640"/>
            <a:chOff x="2921040" y="3932280"/>
            <a:chExt cx="1161720" cy="431640"/>
          </a:xfrm>
        </p:grpSpPr>
        <p:sp>
          <p:nvSpPr>
            <p:cNvPr id="838" name=""/>
            <p:cNvSpPr/>
            <p:nvPr/>
          </p:nvSpPr>
          <p:spPr>
            <a:xfrm>
              <a:off x="2921040" y="3932280"/>
              <a:ext cx="116172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2921040" y="3932280"/>
              <a:ext cx="1161360" cy="431640"/>
              <a:chOff x="2921040" y="3932280"/>
              <a:chExt cx="1161360" cy="431640"/>
            </a:xfrm>
          </p:grpSpPr>
          <p:sp>
            <p:nvSpPr>
              <p:cNvPr id="840" name=""/>
              <p:cNvSpPr/>
              <p:nvPr/>
            </p:nvSpPr>
            <p:spPr>
              <a:xfrm>
                <a:off x="2951280" y="3932280"/>
                <a:ext cx="11001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.11.19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921040" y="3932280"/>
                <a:ext cx="1161360" cy="43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2" name=""/>
          <p:cNvGrpSpPr/>
          <p:nvPr/>
        </p:nvGrpSpPr>
        <p:grpSpPr>
          <a:xfrm>
            <a:off x="4083120" y="3932280"/>
            <a:ext cx="991800" cy="431640"/>
            <a:chOff x="4083120" y="3932280"/>
            <a:chExt cx="991800" cy="431640"/>
          </a:xfrm>
        </p:grpSpPr>
        <p:sp>
          <p:nvSpPr>
            <p:cNvPr id="843" name=""/>
            <p:cNvSpPr/>
            <p:nvPr/>
          </p:nvSpPr>
          <p:spPr>
            <a:xfrm>
              <a:off x="4083120" y="3932280"/>
              <a:ext cx="991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4083120" y="3932280"/>
              <a:ext cx="991440" cy="431640"/>
              <a:chOff x="4083120" y="3932280"/>
              <a:chExt cx="991440" cy="431640"/>
            </a:xfrm>
          </p:grpSpPr>
          <p:sp>
            <p:nvSpPr>
              <p:cNvPr id="845" name=""/>
              <p:cNvSpPr/>
              <p:nvPr/>
            </p:nvSpPr>
            <p:spPr>
              <a:xfrm>
                <a:off x="4113360" y="3932280"/>
                <a:ext cx="9306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083120" y="3932280"/>
                <a:ext cx="991440" cy="43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7" name=""/>
          <p:cNvGrpSpPr/>
          <p:nvPr/>
        </p:nvGrpSpPr>
        <p:grpSpPr>
          <a:xfrm>
            <a:off x="5075280" y="3932280"/>
            <a:ext cx="1159920" cy="431640"/>
            <a:chOff x="5075280" y="3932280"/>
            <a:chExt cx="1159920" cy="431640"/>
          </a:xfrm>
        </p:grpSpPr>
        <p:sp>
          <p:nvSpPr>
            <p:cNvPr id="848" name=""/>
            <p:cNvSpPr/>
            <p:nvPr/>
          </p:nvSpPr>
          <p:spPr>
            <a:xfrm>
              <a:off x="5075280" y="3932280"/>
              <a:ext cx="115992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5075280" y="3932280"/>
              <a:ext cx="1159560" cy="431640"/>
              <a:chOff x="5075280" y="3932280"/>
              <a:chExt cx="1159560" cy="431640"/>
            </a:xfrm>
          </p:grpSpPr>
          <p:sp>
            <p:nvSpPr>
              <p:cNvPr id="850" name=""/>
              <p:cNvSpPr/>
              <p:nvPr/>
            </p:nvSpPr>
            <p:spPr>
              <a:xfrm>
                <a:off x="5105520" y="3932280"/>
                <a:ext cx="109908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075280" y="3932280"/>
                <a:ext cx="1159560" cy="43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2" name=""/>
          <p:cNvGrpSpPr/>
          <p:nvPr/>
        </p:nvGrpSpPr>
        <p:grpSpPr>
          <a:xfrm>
            <a:off x="6235560" y="3932280"/>
            <a:ext cx="1692000" cy="431640"/>
            <a:chOff x="6235560" y="3932280"/>
            <a:chExt cx="1692000" cy="431640"/>
          </a:xfrm>
        </p:grpSpPr>
        <p:sp>
          <p:nvSpPr>
            <p:cNvPr id="853" name=""/>
            <p:cNvSpPr/>
            <p:nvPr/>
          </p:nvSpPr>
          <p:spPr>
            <a:xfrm>
              <a:off x="6235560" y="3932280"/>
              <a:ext cx="16920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6235560" y="3932280"/>
              <a:ext cx="1691640" cy="431640"/>
              <a:chOff x="6235560" y="3932280"/>
              <a:chExt cx="1691640" cy="431640"/>
            </a:xfrm>
          </p:grpSpPr>
          <p:sp>
            <p:nvSpPr>
              <p:cNvPr id="855" name=""/>
              <p:cNvSpPr/>
              <p:nvPr/>
            </p:nvSpPr>
            <p:spPr>
              <a:xfrm>
                <a:off x="6266160" y="3932280"/>
                <a:ext cx="1630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9131/9999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235560" y="3932280"/>
                <a:ext cx="1691640" cy="43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927920" y="3932280"/>
            <a:ext cx="1216080" cy="431640"/>
            <a:chOff x="7927920" y="3932280"/>
            <a:chExt cx="1216080" cy="431640"/>
          </a:xfrm>
        </p:grpSpPr>
        <p:sp>
          <p:nvSpPr>
            <p:cNvPr id="858" name=""/>
            <p:cNvSpPr/>
            <p:nvPr/>
          </p:nvSpPr>
          <p:spPr>
            <a:xfrm>
              <a:off x="7927920" y="3932280"/>
              <a:ext cx="121608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7927920" y="3932280"/>
              <a:ext cx="1216080" cy="431640"/>
              <a:chOff x="7927920" y="3932280"/>
              <a:chExt cx="1216080" cy="431640"/>
            </a:xfrm>
          </p:grpSpPr>
          <p:sp>
            <p:nvSpPr>
              <p:cNvPr id="860" name=""/>
              <p:cNvSpPr/>
              <p:nvPr/>
            </p:nvSpPr>
            <p:spPr>
              <a:xfrm>
                <a:off x="7953120" y="3932280"/>
                <a:ext cx="116532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927920" y="3932280"/>
                <a:ext cx="1216080" cy="43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2" name=""/>
          <p:cNvGrpSpPr/>
          <p:nvPr/>
        </p:nvGrpSpPr>
        <p:grpSpPr>
          <a:xfrm>
            <a:off x="0" y="4363920"/>
            <a:ext cx="512280" cy="433440"/>
            <a:chOff x="0" y="4363920"/>
            <a:chExt cx="512280" cy="433440"/>
          </a:xfrm>
        </p:grpSpPr>
        <p:sp>
          <p:nvSpPr>
            <p:cNvPr id="863" name=""/>
            <p:cNvSpPr/>
            <p:nvPr/>
          </p:nvSpPr>
          <p:spPr>
            <a:xfrm>
              <a:off x="0" y="4363920"/>
              <a:ext cx="5122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0" y="4363920"/>
              <a:ext cx="511920" cy="433440"/>
              <a:chOff x="0" y="4363920"/>
              <a:chExt cx="511920" cy="433440"/>
            </a:xfrm>
          </p:grpSpPr>
          <p:sp>
            <p:nvSpPr>
              <p:cNvPr id="865" name=""/>
              <p:cNvSpPr/>
              <p:nvPr/>
            </p:nvSpPr>
            <p:spPr>
              <a:xfrm>
                <a:off x="30600" y="4363920"/>
                <a:ext cx="450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0" y="4363920"/>
                <a:ext cx="511920" cy="433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7" name=""/>
          <p:cNvGrpSpPr/>
          <p:nvPr/>
        </p:nvGrpSpPr>
        <p:grpSpPr>
          <a:xfrm>
            <a:off x="512640" y="4363920"/>
            <a:ext cx="1163520" cy="433440"/>
            <a:chOff x="512640" y="4363920"/>
            <a:chExt cx="1163520" cy="433440"/>
          </a:xfrm>
        </p:grpSpPr>
        <p:sp>
          <p:nvSpPr>
            <p:cNvPr id="868" name=""/>
            <p:cNvSpPr/>
            <p:nvPr/>
          </p:nvSpPr>
          <p:spPr>
            <a:xfrm>
              <a:off x="512640" y="4363920"/>
              <a:ext cx="11635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9" name=""/>
            <p:cNvGrpSpPr/>
            <p:nvPr/>
          </p:nvGrpSpPr>
          <p:grpSpPr>
            <a:xfrm>
              <a:off x="512640" y="4363920"/>
              <a:ext cx="1163160" cy="433440"/>
              <a:chOff x="512640" y="4363920"/>
              <a:chExt cx="1163160" cy="433440"/>
            </a:xfrm>
          </p:grpSpPr>
          <p:sp>
            <p:nvSpPr>
              <p:cNvPr id="870" name=""/>
              <p:cNvSpPr/>
              <p:nvPr/>
            </p:nvSpPr>
            <p:spPr>
              <a:xfrm>
                <a:off x="542880" y="4363920"/>
                <a:ext cx="110232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be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12640" y="4363920"/>
                <a:ext cx="1163160" cy="433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2" name=""/>
          <p:cNvGrpSpPr/>
          <p:nvPr/>
        </p:nvGrpSpPr>
        <p:grpSpPr>
          <a:xfrm>
            <a:off x="1676520" y="4363920"/>
            <a:ext cx="1244160" cy="433440"/>
            <a:chOff x="1676520" y="4363920"/>
            <a:chExt cx="1244160" cy="433440"/>
          </a:xfrm>
        </p:grpSpPr>
        <p:sp>
          <p:nvSpPr>
            <p:cNvPr id="873" name=""/>
            <p:cNvSpPr/>
            <p:nvPr/>
          </p:nvSpPr>
          <p:spPr>
            <a:xfrm>
              <a:off x="1676520" y="4363920"/>
              <a:ext cx="124416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4" name=""/>
            <p:cNvGrpSpPr/>
            <p:nvPr/>
          </p:nvGrpSpPr>
          <p:grpSpPr>
            <a:xfrm>
              <a:off x="1676520" y="4363920"/>
              <a:ext cx="1243800" cy="433440"/>
              <a:chOff x="1676520" y="4363920"/>
              <a:chExt cx="1243800" cy="433440"/>
            </a:xfrm>
          </p:grpSpPr>
          <p:sp>
            <p:nvSpPr>
              <p:cNvPr id="875" name=""/>
              <p:cNvSpPr/>
              <p:nvPr/>
            </p:nvSpPr>
            <p:spPr>
              <a:xfrm>
                <a:off x="1706760" y="4363920"/>
                <a:ext cx="11829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inste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676520" y="4363920"/>
                <a:ext cx="1243800" cy="433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7" name=""/>
          <p:cNvGrpSpPr/>
          <p:nvPr/>
        </p:nvGrpSpPr>
        <p:grpSpPr>
          <a:xfrm>
            <a:off x="2921040" y="4363920"/>
            <a:ext cx="1161720" cy="433440"/>
            <a:chOff x="2921040" y="4363920"/>
            <a:chExt cx="1161720" cy="433440"/>
          </a:xfrm>
        </p:grpSpPr>
        <p:sp>
          <p:nvSpPr>
            <p:cNvPr id="878" name=""/>
            <p:cNvSpPr/>
            <p:nvPr/>
          </p:nvSpPr>
          <p:spPr>
            <a:xfrm>
              <a:off x="2921040" y="4363920"/>
              <a:ext cx="11617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2921040" y="4363920"/>
              <a:ext cx="1161360" cy="433440"/>
              <a:chOff x="2921040" y="4363920"/>
              <a:chExt cx="1161360" cy="433440"/>
            </a:xfrm>
          </p:grpSpPr>
          <p:sp>
            <p:nvSpPr>
              <p:cNvPr id="880" name=""/>
              <p:cNvSpPr/>
              <p:nvPr/>
            </p:nvSpPr>
            <p:spPr>
              <a:xfrm>
                <a:off x="2951280" y="4363920"/>
                <a:ext cx="11001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8.03.187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921040" y="4363920"/>
                <a:ext cx="1161360" cy="433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2" name=""/>
          <p:cNvGrpSpPr/>
          <p:nvPr/>
        </p:nvGrpSpPr>
        <p:grpSpPr>
          <a:xfrm>
            <a:off x="4083120" y="4363920"/>
            <a:ext cx="991800" cy="433440"/>
            <a:chOff x="4083120" y="4363920"/>
            <a:chExt cx="991800" cy="433440"/>
          </a:xfrm>
        </p:grpSpPr>
        <p:sp>
          <p:nvSpPr>
            <p:cNvPr id="883" name=""/>
            <p:cNvSpPr/>
            <p:nvPr/>
          </p:nvSpPr>
          <p:spPr>
            <a:xfrm>
              <a:off x="4083120" y="4363920"/>
              <a:ext cx="99180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4083120" y="4363920"/>
              <a:ext cx="991440" cy="433440"/>
              <a:chOff x="4083120" y="4363920"/>
              <a:chExt cx="991440" cy="433440"/>
            </a:xfrm>
          </p:grpSpPr>
          <p:sp>
            <p:nvSpPr>
              <p:cNvPr id="885" name=""/>
              <p:cNvSpPr/>
              <p:nvPr/>
            </p:nvSpPr>
            <p:spPr>
              <a:xfrm>
                <a:off x="4113360" y="4363920"/>
                <a:ext cx="9306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083120" y="4363920"/>
                <a:ext cx="991440" cy="433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7" name=""/>
          <p:cNvGrpSpPr/>
          <p:nvPr/>
        </p:nvGrpSpPr>
        <p:grpSpPr>
          <a:xfrm>
            <a:off x="5075280" y="4363920"/>
            <a:ext cx="1159920" cy="433440"/>
            <a:chOff x="5075280" y="4363920"/>
            <a:chExt cx="1159920" cy="433440"/>
          </a:xfrm>
        </p:grpSpPr>
        <p:sp>
          <p:nvSpPr>
            <p:cNvPr id="888" name=""/>
            <p:cNvSpPr/>
            <p:nvPr/>
          </p:nvSpPr>
          <p:spPr>
            <a:xfrm>
              <a:off x="5075280" y="4363920"/>
              <a:ext cx="11599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5075280" y="4363920"/>
              <a:ext cx="1159560" cy="433440"/>
              <a:chOff x="5075280" y="4363920"/>
              <a:chExt cx="1159560" cy="433440"/>
            </a:xfrm>
          </p:grpSpPr>
          <p:sp>
            <p:nvSpPr>
              <p:cNvPr id="890" name=""/>
              <p:cNvSpPr/>
              <p:nvPr/>
            </p:nvSpPr>
            <p:spPr>
              <a:xfrm>
                <a:off x="5105520" y="4363920"/>
                <a:ext cx="10990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075280" y="4363920"/>
                <a:ext cx="1159560" cy="433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6235560" y="4363920"/>
            <a:ext cx="1692000" cy="433440"/>
            <a:chOff x="6235560" y="4363920"/>
            <a:chExt cx="1692000" cy="433440"/>
          </a:xfrm>
        </p:grpSpPr>
        <p:sp>
          <p:nvSpPr>
            <p:cNvPr id="893" name=""/>
            <p:cNvSpPr/>
            <p:nvPr/>
          </p:nvSpPr>
          <p:spPr>
            <a:xfrm>
              <a:off x="6235560" y="4363920"/>
              <a:ext cx="169200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6235560" y="4363920"/>
              <a:ext cx="1691640" cy="433440"/>
              <a:chOff x="6235560" y="4363920"/>
              <a:chExt cx="1691640" cy="433440"/>
            </a:xfrm>
          </p:grpSpPr>
          <p:sp>
            <p:nvSpPr>
              <p:cNvPr id="895" name=""/>
              <p:cNvSpPr/>
              <p:nvPr/>
            </p:nvSpPr>
            <p:spPr>
              <a:xfrm>
                <a:off x="6266160" y="4363920"/>
                <a:ext cx="16308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9181/1234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235560" y="4363920"/>
                <a:ext cx="1691640" cy="433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7" name=""/>
          <p:cNvGrpSpPr/>
          <p:nvPr/>
        </p:nvGrpSpPr>
        <p:grpSpPr>
          <a:xfrm>
            <a:off x="7927920" y="4363920"/>
            <a:ext cx="1216080" cy="433440"/>
            <a:chOff x="7927920" y="4363920"/>
            <a:chExt cx="1216080" cy="433440"/>
          </a:xfrm>
        </p:grpSpPr>
        <p:sp>
          <p:nvSpPr>
            <p:cNvPr id="898" name=""/>
            <p:cNvSpPr/>
            <p:nvPr/>
          </p:nvSpPr>
          <p:spPr>
            <a:xfrm>
              <a:off x="7927920" y="4363920"/>
              <a:ext cx="12160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7927920" y="4363920"/>
              <a:ext cx="1216080" cy="433440"/>
              <a:chOff x="7927920" y="4363920"/>
              <a:chExt cx="1216080" cy="433440"/>
            </a:xfrm>
          </p:grpSpPr>
          <p:sp>
            <p:nvSpPr>
              <p:cNvPr id="900" name=""/>
              <p:cNvSpPr/>
              <p:nvPr/>
            </p:nvSpPr>
            <p:spPr>
              <a:xfrm>
                <a:off x="7953120" y="4363920"/>
                <a:ext cx="116532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927920" y="4363920"/>
                <a:ext cx="1216080" cy="433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2" name=""/>
          <p:cNvGrpSpPr/>
          <p:nvPr/>
        </p:nvGrpSpPr>
        <p:grpSpPr>
          <a:xfrm>
            <a:off x="0" y="4797360"/>
            <a:ext cx="512280" cy="432000"/>
            <a:chOff x="0" y="4797360"/>
            <a:chExt cx="512280" cy="432000"/>
          </a:xfrm>
        </p:grpSpPr>
        <p:sp>
          <p:nvSpPr>
            <p:cNvPr id="903" name=""/>
            <p:cNvSpPr/>
            <p:nvPr/>
          </p:nvSpPr>
          <p:spPr>
            <a:xfrm>
              <a:off x="0" y="4797360"/>
              <a:ext cx="51228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0" y="4797360"/>
              <a:ext cx="511920" cy="432000"/>
              <a:chOff x="0" y="4797360"/>
              <a:chExt cx="511920" cy="432000"/>
            </a:xfrm>
          </p:grpSpPr>
          <p:sp>
            <p:nvSpPr>
              <p:cNvPr id="905" name=""/>
              <p:cNvSpPr/>
              <p:nvPr/>
            </p:nvSpPr>
            <p:spPr>
              <a:xfrm>
                <a:off x="30600" y="4797360"/>
                <a:ext cx="45036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4797360"/>
                <a:ext cx="51192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7" name=""/>
          <p:cNvGrpSpPr/>
          <p:nvPr/>
        </p:nvGrpSpPr>
        <p:grpSpPr>
          <a:xfrm>
            <a:off x="512640" y="4797360"/>
            <a:ext cx="1163520" cy="432000"/>
            <a:chOff x="512640" y="4797360"/>
            <a:chExt cx="1163520" cy="432000"/>
          </a:xfrm>
        </p:grpSpPr>
        <p:sp>
          <p:nvSpPr>
            <p:cNvPr id="908" name=""/>
            <p:cNvSpPr/>
            <p:nvPr/>
          </p:nvSpPr>
          <p:spPr>
            <a:xfrm>
              <a:off x="512640" y="4797360"/>
              <a:ext cx="116352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512640" y="4797360"/>
              <a:ext cx="1163160" cy="432000"/>
              <a:chOff x="512640" y="4797360"/>
              <a:chExt cx="1163160" cy="432000"/>
            </a:xfrm>
          </p:grpSpPr>
          <p:sp>
            <p:nvSpPr>
              <p:cNvPr id="910" name=""/>
              <p:cNvSpPr/>
              <p:nvPr/>
            </p:nvSpPr>
            <p:spPr>
              <a:xfrm>
                <a:off x="542880" y="4797360"/>
                <a:ext cx="110232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eid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12640" y="4797360"/>
                <a:ext cx="116316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2" name=""/>
          <p:cNvGrpSpPr/>
          <p:nvPr/>
        </p:nvGrpSpPr>
        <p:grpSpPr>
          <a:xfrm>
            <a:off x="1676520" y="4797360"/>
            <a:ext cx="1244160" cy="432000"/>
            <a:chOff x="1676520" y="4797360"/>
            <a:chExt cx="1244160" cy="432000"/>
          </a:xfrm>
        </p:grpSpPr>
        <p:sp>
          <p:nvSpPr>
            <p:cNvPr id="913" name=""/>
            <p:cNvSpPr/>
            <p:nvPr/>
          </p:nvSpPr>
          <p:spPr>
            <a:xfrm>
              <a:off x="1676520" y="4797360"/>
              <a:ext cx="124416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1676520" y="4797360"/>
              <a:ext cx="1243800" cy="432000"/>
              <a:chOff x="1676520" y="4797360"/>
              <a:chExt cx="1243800" cy="432000"/>
            </a:xfrm>
          </p:grpSpPr>
          <p:sp>
            <p:nvSpPr>
              <p:cNvPr id="915" name=""/>
              <p:cNvSpPr/>
              <p:nvPr/>
            </p:nvSpPr>
            <p:spPr>
              <a:xfrm>
                <a:off x="1706760" y="4797360"/>
                <a:ext cx="118296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fman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676520" y="4797360"/>
                <a:ext cx="124380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7" name=""/>
          <p:cNvGrpSpPr/>
          <p:nvPr/>
        </p:nvGrpSpPr>
        <p:grpSpPr>
          <a:xfrm>
            <a:off x="2921040" y="4797360"/>
            <a:ext cx="1161720" cy="432000"/>
            <a:chOff x="2921040" y="4797360"/>
            <a:chExt cx="1161720" cy="432000"/>
          </a:xfrm>
        </p:grpSpPr>
        <p:sp>
          <p:nvSpPr>
            <p:cNvPr id="918" name=""/>
            <p:cNvSpPr/>
            <p:nvPr/>
          </p:nvSpPr>
          <p:spPr>
            <a:xfrm>
              <a:off x="2921040" y="4797360"/>
              <a:ext cx="116172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9" name=""/>
            <p:cNvGrpSpPr/>
            <p:nvPr/>
          </p:nvGrpSpPr>
          <p:grpSpPr>
            <a:xfrm>
              <a:off x="2921040" y="4797360"/>
              <a:ext cx="1161360" cy="432000"/>
              <a:chOff x="2921040" y="4797360"/>
              <a:chExt cx="1161360" cy="432000"/>
            </a:xfrm>
          </p:grpSpPr>
          <p:sp>
            <p:nvSpPr>
              <p:cNvPr id="920" name=""/>
              <p:cNvSpPr/>
              <p:nvPr/>
            </p:nvSpPr>
            <p:spPr>
              <a:xfrm>
                <a:off x="2951280" y="4797360"/>
                <a:ext cx="110016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.01.196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921040" y="4797360"/>
                <a:ext cx="116136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2" name=""/>
          <p:cNvGrpSpPr/>
          <p:nvPr/>
        </p:nvGrpSpPr>
        <p:grpSpPr>
          <a:xfrm>
            <a:off x="4083120" y="4797360"/>
            <a:ext cx="991800" cy="432000"/>
            <a:chOff x="4083120" y="4797360"/>
            <a:chExt cx="991800" cy="432000"/>
          </a:xfrm>
        </p:grpSpPr>
        <p:sp>
          <p:nvSpPr>
            <p:cNvPr id="923" name=""/>
            <p:cNvSpPr/>
            <p:nvPr/>
          </p:nvSpPr>
          <p:spPr>
            <a:xfrm>
              <a:off x="4083120" y="4797360"/>
              <a:ext cx="9918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4" name=""/>
            <p:cNvGrpSpPr/>
            <p:nvPr/>
          </p:nvGrpSpPr>
          <p:grpSpPr>
            <a:xfrm>
              <a:off x="4083120" y="4797360"/>
              <a:ext cx="991440" cy="432000"/>
              <a:chOff x="4083120" y="4797360"/>
              <a:chExt cx="991440" cy="432000"/>
            </a:xfrm>
          </p:grpSpPr>
          <p:sp>
            <p:nvSpPr>
              <p:cNvPr id="925" name=""/>
              <p:cNvSpPr/>
              <p:nvPr/>
            </p:nvSpPr>
            <p:spPr>
              <a:xfrm>
                <a:off x="4113360" y="4797360"/>
                <a:ext cx="93060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083120" y="4797360"/>
                <a:ext cx="99144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7" name=""/>
          <p:cNvGrpSpPr/>
          <p:nvPr/>
        </p:nvGrpSpPr>
        <p:grpSpPr>
          <a:xfrm>
            <a:off x="5075280" y="4797360"/>
            <a:ext cx="1159920" cy="432000"/>
            <a:chOff x="5075280" y="4797360"/>
            <a:chExt cx="1159920" cy="432000"/>
          </a:xfrm>
        </p:grpSpPr>
        <p:sp>
          <p:nvSpPr>
            <p:cNvPr id="928" name=""/>
            <p:cNvSpPr/>
            <p:nvPr/>
          </p:nvSpPr>
          <p:spPr>
            <a:xfrm>
              <a:off x="5075280" y="4797360"/>
              <a:ext cx="115992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5075280" y="4797360"/>
              <a:ext cx="1159560" cy="432000"/>
              <a:chOff x="5075280" y="4797360"/>
              <a:chExt cx="1159560" cy="432000"/>
            </a:xfrm>
          </p:grpSpPr>
          <p:sp>
            <p:nvSpPr>
              <p:cNvPr id="930" name=""/>
              <p:cNvSpPr/>
              <p:nvPr/>
            </p:nvSpPr>
            <p:spPr>
              <a:xfrm>
                <a:off x="5105520" y="4797360"/>
                <a:ext cx="109908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75280" y="4797360"/>
                <a:ext cx="115956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2" name=""/>
          <p:cNvGrpSpPr/>
          <p:nvPr/>
        </p:nvGrpSpPr>
        <p:grpSpPr>
          <a:xfrm>
            <a:off x="6235560" y="4797360"/>
            <a:ext cx="1692000" cy="432000"/>
            <a:chOff x="6235560" y="4797360"/>
            <a:chExt cx="1692000" cy="432000"/>
          </a:xfrm>
        </p:grpSpPr>
        <p:sp>
          <p:nvSpPr>
            <p:cNvPr id="933" name=""/>
            <p:cNvSpPr/>
            <p:nvPr/>
          </p:nvSpPr>
          <p:spPr>
            <a:xfrm>
              <a:off x="6235560" y="4797360"/>
              <a:ext cx="1692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6235560" y="4797360"/>
              <a:ext cx="1691640" cy="432000"/>
              <a:chOff x="6235560" y="4797360"/>
              <a:chExt cx="1691640" cy="432000"/>
            </a:xfrm>
          </p:grpSpPr>
          <p:sp>
            <p:nvSpPr>
              <p:cNvPr id="935" name=""/>
              <p:cNvSpPr/>
              <p:nvPr/>
            </p:nvSpPr>
            <p:spPr>
              <a:xfrm>
                <a:off x="6266160" y="4797360"/>
                <a:ext cx="163080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235560" y="4797360"/>
                <a:ext cx="169164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7927920" y="4797360"/>
            <a:ext cx="1216080" cy="432000"/>
            <a:chOff x="7927920" y="4797360"/>
            <a:chExt cx="1216080" cy="432000"/>
          </a:xfrm>
        </p:grpSpPr>
        <p:sp>
          <p:nvSpPr>
            <p:cNvPr id="938" name=""/>
            <p:cNvSpPr/>
            <p:nvPr/>
          </p:nvSpPr>
          <p:spPr>
            <a:xfrm>
              <a:off x="7927920" y="4797360"/>
              <a:ext cx="121608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7927920" y="4797360"/>
              <a:ext cx="1216080" cy="432000"/>
              <a:chOff x="7927920" y="4797360"/>
              <a:chExt cx="1216080" cy="432000"/>
            </a:xfrm>
          </p:grpSpPr>
          <p:sp>
            <p:nvSpPr>
              <p:cNvPr id="940" name=""/>
              <p:cNvSpPr/>
              <p:nvPr/>
            </p:nvSpPr>
            <p:spPr>
              <a:xfrm>
                <a:off x="7953120" y="4797360"/>
                <a:ext cx="116532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927920" y="4797360"/>
                <a:ext cx="121608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2" name=""/>
          <p:cNvGrpSpPr/>
          <p:nvPr/>
        </p:nvGrpSpPr>
        <p:grpSpPr>
          <a:xfrm>
            <a:off x="0" y="5229360"/>
            <a:ext cx="512280" cy="431640"/>
            <a:chOff x="0" y="5229360"/>
            <a:chExt cx="512280" cy="431640"/>
          </a:xfrm>
        </p:grpSpPr>
        <p:sp>
          <p:nvSpPr>
            <p:cNvPr id="943" name=""/>
            <p:cNvSpPr/>
            <p:nvPr/>
          </p:nvSpPr>
          <p:spPr>
            <a:xfrm>
              <a:off x="0" y="5229360"/>
              <a:ext cx="51228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0" y="5229360"/>
              <a:ext cx="511920" cy="431640"/>
              <a:chOff x="0" y="5229360"/>
              <a:chExt cx="511920" cy="431640"/>
            </a:xfrm>
          </p:grpSpPr>
          <p:sp>
            <p:nvSpPr>
              <p:cNvPr id="945" name=""/>
              <p:cNvSpPr/>
              <p:nvPr/>
            </p:nvSpPr>
            <p:spPr>
              <a:xfrm>
                <a:off x="30600" y="5229360"/>
                <a:ext cx="4503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0" y="5229360"/>
                <a:ext cx="511920" cy="43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7" name=""/>
          <p:cNvGrpSpPr/>
          <p:nvPr/>
        </p:nvGrpSpPr>
        <p:grpSpPr>
          <a:xfrm>
            <a:off x="512640" y="5229360"/>
            <a:ext cx="1163520" cy="431640"/>
            <a:chOff x="512640" y="5229360"/>
            <a:chExt cx="1163520" cy="431640"/>
          </a:xfrm>
        </p:grpSpPr>
        <p:sp>
          <p:nvSpPr>
            <p:cNvPr id="948" name=""/>
            <p:cNvSpPr/>
            <p:nvPr/>
          </p:nvSpPr>
          <p:spPr>
            <a:xfrm>
              <a:off x="512640" y="5229360"/>
              <a:ext cx="116352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"/>
            <p:cNvGrpSpPr/>
            <p:nvPr/>
          </p:nvGrpSpPr>
          <p:grpSpPr>
            <a:xfrm>
              <a:off x="512640" y="5229360"/>
              <a:ext cx="1163160" cy="431640"/>
              <a:chOff x="512640" y="5229360"/>
              <a:chExt cx="1163160" cy="431640"/>
            </a:xfrm>
          </p:grpSpPr>
          <p:sp>
            <p:nvSpPr>
              <p:cNvPr id="950" name=""/>
              <p:cNvSpPr/>
              <p:nvPr/>
            </p:nvSpPr>
            <p:spPr>
              <a:xfrm>
                <a:off x="542880" y="5229360"/>
                <a:ext cx="110232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r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2640" y="5229360"/>
                <a:ext cx="1163160" cy="43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1676520" y="5229360"/>
            <a:ext cx="1244160" cy="431640"/>
            <a:chOff x="1676520" y="5229360"/>
            <a:chExt cx="1244160" cy="431640"/>
          </a:xfrm>
        </p:grpSpPr>
        <p:sp>
          <p:nvSpPr>
            <p:cNvPr id="953" name=""/>
            <p:cNvSpPr/>
            <p:nvPr/>
          </p:nvSpPr>
          <p:spPr>
            <a:xfrm>
              <a:off x="1676520" y="5229360"/>
              <a:ext cx="124416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1676520" y="5229360"/>
              <a:ext cx="1243800" cy="431640"/>
              <a:chOff x="1676520" y="5229360"/>
              <a:chExt cx="1243800" cy="431640"/>
            </a:xfrm>
          </p:grpSpPr>
          <p:sp>
            <p:nvSpPr>
              <p:cNvPr id="955" name=""/>
              <p:cNvSpPr/>
              <p:nvPr/>
            </p:nvSpPr>
            <p:spPr>
              <a:xfrm>
                <a:off x="1706760" y="5229360"/>
                <a:ext cx="11829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llman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676520" y="5229360"/>
                <a:ext cx="1243800" cy="43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7" name=""/>
          <p:cNvGrpSpPr/>
          <p:nvPr/>
        </p:nvGrpSpPr>
        <p:grpSpPr>
          <a:xfrm>
            <a:off x="2921040" y="5229360"/>
            <a:ext cx="1161720" cy="431640"/>
            <a:chOff x="2921040" y="5229360"/>
            <a:chExt cx="1161720" cy="431640"/>
          </a:xfrm>
        </p:grpSpPr>
        <p:sp>
          <p:nvSpPr>
            <p:cNvPr id="958" name=""/>
            <p:cNvSpPr/>
            <p:nvPr/>
          </p:nvSpPr>
          <p:spPr>
            <a:xfrm>
              <a:off x="2921040" y="5229360"/>
              <a:ext cx="116172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2921040" y="5229360"/>
              <a:ext cx="1161360" cy="431640"/>
              <a:chOff x="2921040" y="5229360"/>
              <a:chExt cx="1161360" cy="431640"/>
            </a:xfrm>
          </p:grpSpPr>
          <p:sp>
            <p:nvSpPr>
              <p:cNvPr id="960" name=""/>
              <p:cNvSpPr/>
              <p:nvPr/>
            </p:nvSpPr>
            <p:spPr>
              <a:xfrm>
                <a:off x="2951280" y="5229360"/>
                <a:ext cx="110016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3.05.198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921040" y="5229360"/>
                <a:ext cx="1161360" cy="43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2" name=""/>
          <p:cNvGrpSpPr/>
          <p:nvPr/>
        </p:nvGrpSpPr>
        <p:grpSpPr>
          <a:xfrm>
            <a:off x="4083120" y="5229360"/>
            <a:ext cx="991800" cy="431640"/>
            <a:chOff x="4083120" y="5229360"/>
            <a:chExt cx="991800" cy="431640"/>
          </a:xfrm>
        </p:grpSpPr>
        <p:sp>
          <p:nvSpPr>
            <p:cNvPr id="963" name=""/>
            <p:cNvSpPr/>
            <p:nvPr/>
          </p:nvSpPr>
          <p:spPr>
            <a:xfrm>
              <a:off x="4083120" y="5229360"/>
              <a:ext cx="991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"/>
            <p:cNvGrpSpPr/>
            <p:nvPr/>
          </p:nvGrpSpPr>
          <p:grpSpPr>
            <a:xfrm>
              <a:off x="4083120" y="5229360"/>
              <a:ext cx="991440" cy="431640"/>
              <a:chOff x="4083120" y="5229360"/>
              <a:chExt cx="991440" cy="431640"/>
            </a:xfrm>
          </p:grpSpPr>
          <p:sp>
            <p:nvSpPr>
              <p:cNvPr id="965" name=""/>
              <p:cNvSpPr/>
              <p:nvPr/>
            </p:nvSpPr>
            <p:spPr>
              <a:xfrm>
                <a:off x="4113360" y="5229360"/>
                <a:ext cx="9306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083120" y="5229360"/>
                <a:ext cx="991440" cy="43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7" name=""/>
          <p:cNvGrpSpPr/>
          <p:nvPr/>
        </p:nvGrpSpPr>
        <p:grpSpPr>
          <a:xfrm>
            <a:off x="5075280" y="5229360"/>
            <a:ext cx="1159920" cy="431640"/>
            <a:chOff x="5075280" y="5229360"/>
            <a:chExt cx="1159920" cy="431640"/>
          </a:xfrm>
        </p:grpSpPr>
        <p:sp>
          <p:nvSpPr>
            <p:cNvPr id="968" name=""/>
            <p:cNvSpPr/>
            <p:nvPr/>
          </p:nvSpPr>
          <p:spPr>
            <a:xfrm>
              <a:off x="5075280" y="5229360"/>
              <a:ext cx="115992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5075280" y="5229360"/>
              <a:ext cx="1159560" cy="431640"/>
              <a:chOff x="5075280" y="5229360"/>
              <a:chExt cx="1159560" cy="431640"/>
            </a:xfrm>
          </p:grpSpPr>
          <p:sp>
            <p:nvSpPr>
              <p:cNvPr id="970" name=""/>
              <p:cNvSpPr/>
              <p:nvPr/>
            </p:nvSpPr>
            <p:spPr>
              <a:xfrm>
                <a:off x="5105520" y="5229360"/>
                <a:ext cx="109908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075280" y="5229360"/>
                <a:ext cx="1159560" cy="43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2" name=""/>
          <p:cNvGrpSpPr/>
          <p:nvPr/>
        </p:nvGrpSpPr>
        <p:grpSpPr>
          <a:xfrm>
            <a:off x="6235560" y="5229360"/>
            <a:ext cx="1692000" cy="431640"/>
            <a:chOff x="6235560" y="5229360"/>
            <a:chExt cx="1692000" cy="431640"/>
          </a:xfrm>
        </p:grpSpPr>
        <p:sp>
          <p:nvSpPr>
            <p:cNvPr id="973" name=""/>
            <p:cNvSpPr/>
            <p:nvPr/>
          </p:nvSpPr>
          <p:spPr>
            <a:xfrm>
              <a:off x="6235560" y="5229360"/>
              <a:ext cx="16920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6235560" y="5229360"/>
              <a:ext cx="1691640" cy="431640"/>
              <a:chOff x="6235560" y="5229360"/>
              <a:chExt cx="1691640" cy="431640"/>
            </a:xfrm>
          </p:grpSpPr>
          <p:sp>
            <p:nvSpPr>
              <p:cNvPr id="975" name=""/>
              <p:cNvSpPr/>
              <p:nvPr/>
            </p:nvSpPr>
            <p:spPr>
              <a:xfrm>
                <a:off x="6266160" y="5229360"/>
                <a:ext cx="1630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235560" y="5229360"/>
                <a:ext cx="1691640" cy="43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7" name=""/>
          <p:cNvGrpSpPr/>
          <p:nvPr/>
        </p:nvGrpSpPr>
        <p:grpSpPr>
          <a:xfrm>
            <a:off x="7927920" y="5229360"/>
            <a:ext cx="1216080" cy="431640"/>
            <a:chOff x="7927920" y="5229360"/>
            <a:chExt cx="1216080" cy="431640"/>
          </a:xfrm>
        </p:grpSpPr>
        <p:sp>
          <p:nvSpPr>
            <p:cNvPr id="978" name=""/>
            <p:cNvSpPr/>
            <p:nvPr/>
          </p:nvSpPr>
          <p:spPr>
            <a:xfrm>
              <a:off x="7927920" y="5229360"/>
              <a:ext cx="121608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7927920" y="5229360"/>
              <a:ext cx="1216080" cy="431640"/>
              <a:chOff x="7927920" y="5229360"/>
              <a:chExt cx="1216080" cy="431640"/>
            </a:xfrm>
          </p:grpSpPr>
          <p:sp>
            <p:nvSpPr>
              <p:cNvPr id="980" name=""/>
              <p:cNvSpPr/>
              <p:nvPr/>
            </p:nvSpPr>
            <p:spPr>
              <a:xfrm>
                <a:off x="7953120" y="5229360"/>
                <a:ext cx="116532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927920" y="5229360"/>
                <a:ext cx="1216080" cy="431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2" name=""/>
          <p:cNvGrpSpPr/>
          <p:nvPr/>
        </p:nvGrpSpPr>
        <p:grpSpPr>
          <a:xfrm>
            <a:off x="0" y="5661000"/>
            <a:ext cx="512280" cy="432000"/>
            <a:chOff x="0" y="5661000"/>
            <a:chExt cx="512280" cy="432000"/>
          </a:xfrm>
        </p:grpSpPr>
        <p:sp>
          <p:nvSpPr>
            <p:cNvPr id="983" name=""/>
            <p:cNvSpPr/>
            <p:nvPr/>
          </p:nvSpPr>
          <p:spPr>
            <a:xfrm>
              <a:off x="0" y="5661000"/>
              <a:ext cx="51228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0" y="5661000"/>
              <a:ext cx="511920" cy="432000"/>
              <a:chOff x="0" y="5661000"/>
              <a:chExt cx="511920" cy="432000"/>
            </a:xfrm>
          </p:grpSpPr>
          <p:sp>
            <p:nvSpPr>
              <p:cNvPr id="985" name=""/>
              <p:cNvSpPr/>
              <p:nvPr/>
            </p:nvSpPr>
            <p:spPr>
              <a:xfrm>
                <a:off x="30600" y="5661000"/>
                <a:ext cx="45036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0" y="5661000"/>
                <a:ext cx="51192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7" name=""/>
          <p:cNvGrpSpPr/>
          <p:nvPr/>
        </p:nvGrpSpPr>
        <p:grpSpPr>
          <a:xfrm>
            <a:off x="512640" y="5661000"/>
            <a:ext cx="1163520" cy="432000"/>
            <a:chOff x="512640" y="5661000"/>
            <a:chExt cx="1163520" cy="432000"/>
          </a:xfrm>
        </p:grpSpPr>
        <p:sp>
          <p:nvSpPr>
            <p:cNvPr id="988" name=""/>
            <p:cNvSpPr/>
            <p:nvPr/>
          </p:nvSpPr>
          <p:spPr>
            <a:xfrm>
              <a:off x="512640" y="5661000"/>
              <a:ext cx="116352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9" name=""/>
            <p:cNvGrpSpPr/>
            <p:nvPr/>
          </p:nvGrpSpPr>
          <p:grpSpPr>
            <a:xfrm>
              <a:off x="512640" y="5661000"/>
              <a:ext cx="1163160" cy="432000"/>
              <a:chOff x="512640" y="5661000"/>
              <a:chExt cx="1163160" cy="432000"/>
            </a:xfrm>
          </p:grpSpPr>
          <p:sp>
            <p:nvSpPr>
              <p:cNvPr id="990" name=""/>
              <p:cNvSpPr/>
              <p:nvPr/>
            </p:nvSpPr>
            <p:spPr>
              <a:xfrm>
                <a:off x="542880" y="5661000"/>
                <a:ext cx="110232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f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12640" y="5661000"/>
                <a:ext cx="116316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2" name=""/>
          <p:cNvGrpSpPr/>
          <p:nvPr/>
        </p:nvGrpSpPr>
        <p:grpSpPr>
          <a:xfrm>
            <a:off x="1676520" y="5661000"/>
            <a:ext cx="1244160" cy="432000"/>
            <a:chOff x="1676520" y="5661000"/>
            <a:chExt cx="1244160" cy="432000"/>
          </a:xfrm>
        </p:grpSpPr>
        <p:sp>
          <p:nvSpPr>
            <p:cNvPr id="993" name=""/>
            <p:cNvSpPr/>
            <p:nvPr/>
          </p:nvSpPr>
          <p:spPr>
            <a:xfrm>
              <a:off x="1676520" y="5661000"/>
              <a:ext cx="124416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1676520" y="5661000"/>
              <a:ext cx="1243800" cy="432000"/>
              <a:chOff x="1676520" y="5661000"/>
              <a:chExt cx="1243800" cy="432000"/>
            </a:xfrm>
          </p:grpSpPr>
          <p:sp>
            <p:nvSpPr>
              <p:cNvPr id="995" name=""/>
              <p:cNvSpPr/>
              <p:nvPr/>
            </p:nvSpPr>
            <p:spPr>
              <a:xfrm>
                <a:off x="1706760" y="5661000"/>
                <a:ext cx="118296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hmid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676520" y="5661000"/>
                <a:ext cx="124380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7" name=""/>
          <p:cNvGrpSpPr/>
          <p:nvPr/>
        </p:nvGrpSpPr>
        <p:grpSpPr>
          <a:xfrm>
            <a:off x="2921040" y="5661000"/>
            <a:ext cx="1161720" cy="432000"/>
            <a:chOff x="2921040" y="5661000"/>
            <a:chExt cx="1161720" cy="432000"/>
          </a:xfrm>
        </p:grpSpPr>
        <p:sp>
          <p:nvSpPr>
            <p:cNvPr id="998" name=""/>
            <p:cNvSpPr/>
            <p:nvPr/>
          </p:nvSpPr>
          <p:spPr>
            <a:xfrm>
              <a:off x="2921040" y="5661000"/>
              <a:ext cx="116172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2921040" y="5661000"/>
              <a:ext cx="1161360" cy="432000"/>
              <a:chOff x="2921040" y="5661000"/>
              <a:chExt cx="1161360" cy="432000"/>
            </a:xfrm>
          </p:grpSpPr>
          <p:sp>
            <p:nvSpPr>
              <p:cNvPr id="1000" name=""/>
              <p:cNvSpPr/>
              <p:nvPr/>
            </p:nvSpPr>
            <p:spPr>
              <a:xfrm>
                <a:off x="2951280" y="5661000"/>
                <a:ext cx="110016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8.08.18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921040" y="5661000"/>
                <a:ext cx="116136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2" name=""/>
          <p:cNvGrpSpPr/>
          <p:nvPr/>
        </p:nvGrpSpPr>
        <p:grpSpPr>
          <a:xfrm>
            <a:off x="4083120" y="5661000"/>
            <a:ext cx="991800" cy="432000"/>
            <a:chOff x="4083120" y="5661000"/>
            <a:chExt cx="991800" cy="432000"/>
          </a:xfrm>
        </p:grpSpPr>
        <p:sp>
          <p:nvSpPr>
            <p:cNvPr id="1003" name=""/>
            <p:cNvSpPr/>
            <p:nvPr/>
          </p:nvSpPr>
          <p:spPr>
            <a:xfrm>
              <a:off x="4083120" y="5661000"/>
              <a:ext cx="9918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4083120" y="5661000"/>
              <a:ext cx="991440" cy="432000"/>
              <a:chOff x="4083120" y="5661000"/>
              <a:chExt cx="991440" cy="432000"/>
            </a:xfrm>
          </p:grpSpPr>
          <p:sp>
            <p:nvSpPr>
              <p:cNvPr id="1005" name=""/>
              <p:cNvSpPr/>
              <p:nvPr/>
            </p:nvSpPr>
            <p:spPr>
              <a:xfrm>
                <a:off x="4113360" y="5661000"/>
                <a:ext cx="93060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083120" y="5661000"/>
                <a:ext cx="99144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7" name=""/>
          <p:cNvGrpSpPr/>
          <p:nvPr/>
        </p:nvGrpSpPr>
        <p:grpSpPr>
          <a:xfrm>
            <a:off x="5075280" y="5661000"/>
            <a:ext cx="1159920" cy="432000"/>
            <a:chOff x="5075280" y="5661000"/>
            <a:chExt cx="1159920" cy="432000"/>
          </a:xfrm>
        </p:grpSpPr>
        <p:sp>
          <p:nvSpPr>
            <p:cNvPr id="1008" name=""/>
            <p:cNvSpPr/>
            <p:nvPr/>
          </p:nvSpPr>
          <p:spPr>
            <a:xfrm>
              <a:off x="5075280" y="5661000"/>
              <a:ext cx="115992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5075280" y="5661000"/>
              <a:ext cx="1159560" cy="432000"/>
              <a:chOff x="5075280" y="5661000"/>
              <a:chExt cx="1159560" cy="432000"/>
            </a:xfrm>
          </p:grpSpPr>
          <p:sp>
            <p:nvSpPr>
              <p:cNvPr id="1010" name=""/>
              <p:cNvSpPr/>
              <p:nvPr/>
            </p:nvSpPr>
            <p:spPr>
              <a:xfrm>
                <a:off x="5105520" y="5661000"/>
                <a:ext cx="109908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231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075280" y="5661000"/>
                <a:ext cx="115956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2" name=""/>
          <p:cNvGrpSpPr/>
          <p:nvPr/>
        </p:nvGrpSpPr>
        <p:grpSpPr>
          <a:xfrm>
            <a:off x="6235560" y="5661000"/>
            <a:ext cx="1692000" cy="432000"/>
            <a:chOff x="6235560" y="5661000"/>
            <a:chExt cx="1692000" cy="432000"/>
          </a:xfrm>
        </p:grpSpPr>
        <p:sp>
          <p:nvSpPr>
            <p:cNvPr id="1013" name=""/>
            <p:cNvSpPr/>
            <p:nvPr/>
          </p:nvSpPr>
          <p:spPr>
            <a:xfrm>
              <a:off x="6235560" y="5661000"/>
              <a:ext cx="16920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6235560" y="5661000"/>
              <a:ext cx="1691640" cy="432000"/>
              <a:chOff x="6235560" y="5661000"/>
              <a:chExt cx="1691640" cy="432000"/>
            </a:xfrm>
          </p:grpSpPr>
          <p:sp>
            <p:nvSpPr>
              <p:cNvPr id="1015" name=""/>
              <p:cNvSpPr/>
              <p:nvPr/>
            </p:nvSpPr>
            <p:spPr>
              <a:xfrm>
                <a:off x="6266160" y="5661000"/>
                <a:ext cx="163080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235560" y="5661000"/>
                <a:ext cx="169164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7" name=""/>
          <p:cNvGrpSpPr/>
          <p:nvPr/>
        </p:nvGrpSpPr>
        <p:grpSpPr>
          <a:xfrm>
            <a:off x="5486400" y="1295280"/>
            <a:ext cx="2818800" cy="1295280"/>
            <a:chOff x="5486400" y="1295280"/>
            <a:chExt cx="2818800" cy="1295280"/>
          </a:xfrm>
        </p:grpSpPr>
        <p:grpSp>
          <p:nvGrpSpPr>
            <p:cNvPr id="1018" name=""/>
            <p:cNvGrpSpPr/>
            <p:nvPr/>
          </p:nvGrpSpPr>
          <p:grpSpPr>
            <a:xfrm>
              <a:off x="5486400" y="1295280"/>
              <a:ext cx="1324080" cy="323640"/>
              <a:chOff x="5486400" y="1295280"/>
              <a:chExt cx="1324080" cy="323640"/>
            </a:xfrm>
          </p:grpSpPr>
          <p:sp>
            <p:nvSpPr>
              <p:cNvPr id="1019" name=""/>
              <p:cNvSpPr/>
              <p:nvPr/>
            </p:nvSpPr>
            <p:spPr>
              <a:xfrm>
                <a:off x="5486400" y="1295280"/>
                <a:ext cx="1324080" cy="323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0" name=""/>
              <p:cNvGrpSpPr/>
              <p:nvPr/>
            </p:nvGrpSpPr>
            <p:grpSpPr>
              <a:xfrm>
                <a:off x="5486400" y="1295280"/>
                <a:ext cx="1323720" cy="323640"/>
                <a:chOff x="5486400" y="1295280"/>
                <a:chExt cx="1323720" cy="32364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5526000" y="1295280"/>
                  <a:ext cx="1244880" cy="323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portar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5486400" y="1295280"/>
                  <a:ext cx="13237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3" name=""/>
            <p:cNvGrpSpPr/>
            <p:nvPr/>
          </p:nvGrpSpPr>
          <p:grpSpPr>
            <a:xfrm>
              <a:off x="6810840" y="1295280"/>
              <a:ext cx="1494360" cy="323640"/>
              <a:chOff x="6810840" y="1295280"/>
              <a:chExt cx="1494360" cy="323640"/>
            </a:xfrm>
          </p:grpSpPr>
          <p:sp>
            <p:nvSpPr>
              <p:cNvPr id="1024" name=""/>
              <p:cNvSpPr/>
              <p:nvPr/>
            </p:nvSpPr>
            <p:spPr>
              <a:xfrm>
                <a:off x="6810840" y="1295280"/>
                <a:ext cx="1494360" cy="323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5" name=""/>
              <p:cNvGrpSpPr/>
              <p:nvPr/>
            </p:nvGrpSpPr>
            <p:grpSpPr>
              <a:xfrm>
                <a:off x="6810840" y="1295280"/>
                <a:ext cx="1494000" cy="323640"/>
                <a:chOff x="6810840" y="1295280"/>
                <a:chExt cx="1494000" cy="32364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6850440" y="1295280"/>
                  <a:ext cx="1415160" cy="323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eitra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810840" y="1295280"/>
                  <a:ext cx="14940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8" name=""/>
            <p:cNvGrpSpPr/>
            <p:nvPr/>
          </p:nvGrpSpPr>
          <p:grpSpPr>
            <a:xfrm>
              <a:off x="5486400" y="1618920"/>
              <a:ext cx="1324080" cy="324000"/>
              <a:chOff x="5486400" y="1618920"/>
              <a:chExt cx="1324080" cy="324000"/>
            </a:xfrm>
          </p:grpSpPr>
          <p:sp>
            <p:nvSpPr>
              <p:cNvPr id="1029" name=""/>
              <p:cNvSpPr/>
              <p:nvPr/>
            </p:nvSpPr>
            <p:spPr>
              <a:xfrm>
                <a:off x="5486400" y="1618920"/>
                <a:ext cx="1324080" cy="3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0" name=""/>
              <p:cNvGrpSpPr/>
              <p:nvPr/>
            </p:nvGrpSpPr>
            <p:grpSpPr>
              <a:xfrm>
                <a:off x="5486400" y="1618920"/>
                <a:ext cx="1323720" cy="324000"/>
                <a:chOff x="5486400" y="1618920"/>
                <a:chExt cx="1323720" cy="32400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5526000" y="1618920"/>
                  <a:ext cx="1244880" cy="32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ußbal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5486400" y="1618920"/>
                  <a:ext cx="1323720" cy="32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3" name=""/>
            <p:cNvGrpSpPr/>
            <p:nvPr/>
          </p:nvGrpSpPr>
          <p:grpSpPr>
            <a:xfrm>
              <a:off x="6810840" y="1618920"/>
              <a:ext cx="1494360" cy="324000"/>
              <a:chOff x="6810840" y="1618920"/>
              <a:chExt cx="1494360" cy="324000"/>
            </a:xfrm>
          </p:grpSpPr>
          <p:sp>
            <p:nvSpPr>
              <p:cNvPr id="1034" name=""/>
              <p:cNvSpPr/>
              <p:nvPr/>
            </p:nvSpPr>
            <p:spPr>
              <a:xfrm>
                <a:off x="6810840" y="1618920"/>
                <a:ext cx="1494360" cy="3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6810840" y="1618920"/>
                <a:ext cx="1494000" cy="324000"/>
                <a:chOff x="6810840" y="1618920"/>
                <a:chExt cx="1494000" cy="3240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6850440" y="1618920"/>
                  <a:ext cx="1415160" cy="32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5,00 €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6810840" y="1618920"/>
                  <a:ext cx="1494000" cy="32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8" name=""/>
            <p:cNvGrpSpPr/>
            <p:nvPr/>
          </p:nvGrpSpPr>
          <p:grpSpPr>
            <a:xfrm>
              <a:off x="5486400" y="1943280"/>
              <a:ext cx="1324080" cy="323640"/>
              <a:chOff x="5486400" y="1943280"/>
              <a:chExt cx="1324080" cy="323640"/>
            </a:xfrm>
          </p:grpSpPr>
          <p:sp>
            <p:nvSpPr>
              <p:cNvPr id="1039" name=""/>
              <p:cNvSpPr/>
              <p:nvPr/>
            </p:nvSpPr>
            <p:spPr>
              <a:xfrm>
                <a:off x="5486400" y="1943280"/>
                <a:ext cx="1324080" cy="32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0" name=""/>
              <p:cNvGrpSpPr/>
              <p:nvPr/>
            </p:nvGrpSpPr>
            <p:grpSpPr>
              <a:xfrm>
                <a:off x="5486400" y="1943280"/>
                <a:ext cx="1323720" cy="323640"/>
                <a:chOff x="5486400" y="1943280"/>
                <a:chExt cx="1323720" cy="32364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5526000" y="1943280"/>
                  <a:ext cx="1244880" cy="32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ol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5486400" y="1943280"/>
                  <a:ext cx="13237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3" name=""/>
            <p:cNvGrpSpPr/>
            <p:nvPr/>
          </p:nvGrpSpPr>
          <p:grpSpPr>
            <a:xfrm>
              <a:off x="6810840" y="1943280"/>
              <a:ext cx="1494360" cy="323640"/>
              <a:chOff x="6810840" y="1943280"/>
              <a:chExt cx="1494360" cy="323640"/>
            </a:xfrm>
          </p:grpSpPr>
          <p:sp>
            <p:nvSpPr>
              <p:cNvPr id="1044" name=""/>
              <p:cNvSpPr/>
              <p:nvPr/>
            </p:nvSpPr>
            <p:spPr>
              <a:xfrm>
                <a:off x="6810840" y="1943280"/>
                <a:ext cx="1494360" cy="32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5" name=""/>
              <p:cNvGrpSpPr/>
              <p:nvPr/>
            </p:nvGrpSpPr>
            <p:grpSpPr>
              <a:xfrm>
                <a:off x="6810840" y="1943280"/>
                <a:ext cx="1494000" cy="323640"/>
                <a:chOff x="6810840" y="1943280"/>
                <a:chExt cx="1494000" cy="32364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6850440" y="1943280"/>
                  <a:ext cx="1415160" cy="32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0,00 €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810840" y="1943280"/>
                  <a:ext cx="14940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8" name=""/>
            <p:cNvGrpSpPr/>
            <p:nvPr/>
          </p:nvGrpSpPr>
          <p:grpSpPr>
            <a:xfrm>
              <a:off x="5486400" y="2266920"/>
              <a:ext cx="1324080" cy="323640"/>
              <a:chOff x="5486400" y="2266920"/>
              <a:chExt cx="1324080" cy="323640"/>
            </a:xfrm>
          </p:grpSpPr>
          <p:sp>
            <p:nvSpPr>
              <p:cNvPr id="1049" name=""/>
              <p:cNvSpPr/>
              <p:nvPr/>
            </p:nvSpPr>
            <p:spPr>
              <a:xfrm>
                <a:off x="5486400" y="2266920"/>
                <a:ext cx="1324080" cy="32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0" name=""/>
              <p:cNvGrpSpPr/>
              <p:nvPr/>
            </p:nvGrpSpPr>
            <p:grpSpPr>
              <a:xfrm>
                <a:off x="5486400" y="2266920"/>
                <a:ext cx="1323720" cy="323640"/>
                <a:chOff x="5486400" y="2266920"/>
                <a:chExt cx="1323720" cy="32364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5526000" y="2266920"/>
                  <a:ext cx="1244880" cy="32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ymnasti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486400" y="2266920"/>
                  <a:ext cx="13237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3" name=""/>
            <p:cNvGrpSpPr/>
            <p:nvPr/>
          </p:nvGrpSpPr>
          <p:grpSpPr>
            <a:xfrm>
              <a:off x="6810840" y="2266920"/>
              <a:ext cx="1494360" cy="323640"/>
              <a:chOff x="6810840" y="2266920"/>
              <a:chExt cx="1494360" cy="323640"/>
            </a:xfrm>
          </p:grpSpPr>
          <p:sp>
            <p:nvSpPr>
              <p:cNvPr id="1054" name=""/>
              <p:cNvSpPr/>
              <p:nvPr/>
            </p:nvSpPr>
            <p:spPr>
              <a:xfrm>
                <a:off x="6810840" y="2266920"/>
                <a:ext cx="1494360" cy="32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5" name=""/>
              <p:cNvGrpSpPr/>
              <p:nvPr/>
            </p:nvGrpSpPr>
            <p:grpSpPr>
              <a:xfrm>
                <a:off x="6810840" y="2266920"/>
                <a:ext cx="1494000" cy="323640"/>
                <a:chOff x="6810840" y="2266920"/>
                <a:chExt cx="1494000" cy="323640"/>
              </a:xfrm>
            </p:grpSpPr>
            <p:sp>
              <p:nvSpPr>
                <p:cNvPr id="1056" name=""/>
                <p:cNvSpPr/>
                <p:nvPr/>
              </p:nvSpPr>
              <p:spPr>
                <a:xfrm>
                  <a:off x="6850440" y="2266920"/>
                  <a:ext cx="1415160" cy="32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0,00 €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810840" y="2266920"/>
                  <a:ext cx="14940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58" name=""/>
          <p:cNvGrpSpPr/>
          <p:nvPr/>
        </p:nvGrpSpPr>
        <p:grpSpPr>
          <a:xfrm>
            <a:off x="1066680" y="1295280"/>
            <a:ext cx="2250360" cy="1447560"/>
            <a:chOff x="1066680" y="1295280"/>
            <a:chExt cx="2250360" cy="1447560"/>
          </a:xfrm>
        </p:grpSpPr>
        <p:grpSp>
          <p:nvGrpSpPr>
            <p:cNvPr id="1059" name=""/>
            <p:cNvGrpSpPr/>
            <p:nvPr/>
          </p:nvGrpSpPr>
          <p:grpSpPr>
            <a:xfrm>
              <a:off x="1066680" y="1295280"/>
              <a:ext cx="1049760" cy="361800"/>
              <a:chOff x="1066680" y="1295280"/>
              <a:chExt cx="1049760" cy="361800"/>
            </a:xfrm>
          </p:grpSpPr>
          <p:sp>
            <p:nvSpPr>
              <p:cNvPr id="1060" name=""/>
              <p:cNvSpPr/>
              <p:nvPr/>
            </p:nvSpPr>
            <p:spPr>
              <a:xfrm>
                <a:off x="1066680" y="1295280"/>
                <a:ext cx="1049760" cy="361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1" name=""/>
              <p:cNvGrpSpPr/>
              <p:nvPr/>
            </p:nvGrpSpPr>
            <p:grpSpPr>
              <a:xfrm>
                <a:off x="1066680" y="1295280"/>
                <a:ext cx="1049400" cy="361800"/>
                <a:chOff x="1066680" y="1295280"/>
                <a:chExt cx="1049400" cy="3618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1094400" y="1295280"/>
                  <a:ext cx="993960" cy="361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1066680" y="1295280"/>
                  <a:ext cx="104940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4" name=""/>
            <p:cNvGrpSpPr/>
            <p:nvPr/>
          </p:nvGrpSpPr>
          <p:grpSpPr>
            <a:xfrm>
              <a:off x="2116800" y="1295280"/>
              <a:ext cx="1200240" cy="361800"/>
              <a:chOff x="2116800" y="1295280"/>
              <a:chExt cx="1200240" cy="361800"/>
            </a:xfrm>
          </p:grpSpPr>
          <p:sp>
            <p:nvSpPr>
              <p:cNvPr id="1065" name=""/>
              <p:cNvSpPr/>
              <p:nvPr/>
            </p:nvSpPr>
            <p:spPr>
              <a:xfrm>
                <a:off x="2116800" y="1295280"/>
                <a:ext cx="1200240" cy="361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6" name=""/>
              <p:cNvGrpSpPr/>
              <p:nvPr/>
            </p:nvGrpSpPr>
            <p:grpSpPr>
              <a:xfrm>
                <a:off x="2116800" y="1295280"/>
                <a:ext cx="1199880" cy="361800"/>
                <a:chOff x="2116800" y="1295280"/>
                <a:chExt cx="1199880" cy="36180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2144160" y="1295280"/>
                  <a:ext cx="1144800" cy="361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rtsnam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2116800" y="1295280"/>
                  <a:ext cx="119988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9" name=""/>
            <p:cNvGrpSpPr/>
            <p:nvPr/>
          </p:nvGrpSpPr>
          <p:grpSpPr>
            <a:xfrm>
              <a:off x="1066680" y="1657080"/>
              <a:ext cx="1049760" cy="362160"/>
              <a:chOff x="1066680" y="1657080"/>
              <a:chExt cx="1049760" cy="362160"/>
            </a:xfrm>
          </p:grpSpPr>
          <p:sp>
            <p:nvSpPr>
              <p:cNvPr id="1070" name=""/>
              <p:cNvSpPr/>
              <p:nvPr/>
            </p:nvSpPr>
            <p:spPr>
              <a:xfrm>
                <a:off x="1066680" y="1657080"/>
                <a:ext cx="1049760" cy="36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1" name=""/>
              <p:cNvGrpSpPr/>
              <p:nvPr/>
            </p:nvGrpSpPr>
            <p:grpSpPr>
              <a:xfrm>
                <a:off x="1066680" y="1657080"/>
                <a:ext cx="1049400" cy="362160"/>
                <a:chOff x="1066680" y="1657080"/>
                <a:chExt cx="1049400" cy="36216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1094400" y="1657080"/>
                  <a:ext cx="993960" cy="362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05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1066680" y="1657080"/>
                  <a:ext cx="10494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4" name=""/>
            <p:cNvGrpSpPr/>
            <p:nvPr/>
          </p:nvGrpSpPr>
          <p:grpSpPr>
            <a:xfrm>
              <a:off x="2116800" y="1657080"/>
              <a:ext cx="1200240" cy="362160"/>
              <a:chOff x="2116800" y="1657080"/>
              <a:chExt cx="1200240" cy="362160"/>
            </a:xfrm>
          </p:grpSpPr>
          <p:sp>
            <p:nvSpPr>
              <p:cNvPr id="1075" name=""/>
              <p:cNvSpPr/>
              <p:nvPr/>
            </p:nvSpPr>
            <p:spPr>
              <a:xfrm>
                <a:off x="2116800" y="1657080"/>
                <a:ext cx="1200240" cy="36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6" name=""/>
              <p:cNvGrpSpPr/>
              <p:nvPr/>
            </p:nvGrpSpPr>
            <p:grpSpPr>
              <a:xfrm>
                <a:off x="2116800" y="1657080"/>
                <a:ext cx="1199880" cy="362160"/>
                <a:chOff x="2116800" y="1657080"/>
                <a:chExt cx="1199880" cy="36216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2144160" y="1657080"/>
                  <a:ext cx="1144800" cy="362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rlang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2116800" y="1657080"/>
                  <a:ext cx="119988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9" name=""/>
            <p:cNvGrpSpPr/>
            <p:nvPr/>
          </p:nvGrpSpPr>
          <p:grpSpPr>
            <a:xfrm>
              <a:off x="1066680" y="2019240"/>
              <a:ext cx="1049760" cy="361800"/>
              <a:chOff x="1066680" y="2019240"/>
              <a:chExt cx="1049760" cy="361800"/>
            </a:xfrm>
          </p:grpSpPr>
          <p:sp>
            <p:nvSpPr>
              <p:cNvPr id="1080" name=""/>
              <p:cNvSpPr/>
              <p:nvPr/>
            </p:nvSpPr>
            <p:spPr>
              <a:xfrm>
                <a:off x="1066680" y="2019240"/>
                <a:ext cx="1049760" cy="36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1" name=""/>
              <p:cNvGrpSpPr/>
              <p:nvPr/>
            </p:nvGrpSpPr>
            <p:grpSpPr>
              <a:xfrm>
                <a:off x="1066680" y="2019240"/>
                <a:ext cx="1049400" cy="361800"/>
                <a:chOff x="1066680" y="2019240"/>
                <a:chExt cx="1049400" cy="36180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1094400" y="2019240"/>
                  <a:ext cx="993960" cy="36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05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1066680" y="2019240"/>
                  <a:ext cx="104940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4" name=""/>
            <p:cNvGrpSpPr/>
            <p:nvPr/>
          </p:nvGrpSpPr>
          <p:grpSpPr>
            <a:xfrm>
              <a:off x="2116800" y="2019240"/>
              <a:ext cx="1200240" cy="361800"/>
              <a:chOff x="2116800" y="2019240"/>
              <a:chExt cx="1200240" cy="361800"/>
            </a:xfrm>
          </p:grpSpPr>
          <p:sp>
            <p:nvSpPr>
              <p:cNvPr id="1085" name=""/>
              <p:cNvSpPr/>
              <p:nvPr/>
            </p:nvSpPr>
            <p:spPr>
              <a:xfrm>
                <a:off x="2116800" y="2019240"/>
                <a:ext cx="1200240" cy="36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6" name=""/>
              <p:cNvGrpSpPr/>
              <p:nvPr/>
            </p:nvGrpSpPr>
            <p:grpSpPr>
              <a:xfrm>
                <a:off x="2116800" y="2019240"/>
                <a:ext cx="1199880" cy="361800"/>
                <a:chOff x="2116800" y="2019240"/>
                <a:chExt cx="1199880" cy="3618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2144160" y="2019240"/>
                  <a:ext cx="1144800" cy="36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rlang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2116800" y="2019240"/>
                  <a:ext cx="119988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9" name=""/>
            <p:cNvGrpSpPr/>
            <p:nvPr/>
          </p:nvGrpSpPr>
          <p:grpSpPr>
            <a:xfrm>
              <a:off x="1066680" y="2381040"/>
              <a:ext cx="1049760" cy="361800"/>
              <a:chOff x="1066680" y="2381040"/>
              <a:chExt cx="1049760" cy="361800"/>
            </a:xfrm>
          </p:grpSpPr>
          <p:sp>
            <p:nvSpPr>
              <p:cNvPr id="1090" name=""/>
              <p:cNvSpPr/>
              <p:nvPr/>
            </p:nvSpPr>
            <p:spPr>
              <a:xfrm>
                <a:off x="1066680" y="2381040"/>
                <a:ext cx="1049760" cy="36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1" name=""/>
              <p:cNvGrpSpPr/>
              <p:nvPr/>
            </p:nvGrpSpPr>
            <p:grpSpPr>
              <a:xfrm>
                <a:off x="1066680" y="2381040"/>
                <a:ext cx="1049400" cy="361800"/>
                <a:chOff x="1066680" y="2381040"/>
                <a:chExt cx="1049400" cy="36180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1094400" y="2381040"/>
                  <a:ext cx="993960" cy="36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3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1066680" y="2381040"/>
                  <a:ext cx="104940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4" name=""/>
            <p:cNvGrpSpPr/>
            <p:nvPr/>
          </p:nvGrpSpPr>
          <p:grpSpPr>
            <a:xfrm>
              <a:off x="2116800" y="2381040"/>
              <a:ext cx="1200240" cy="361800"/>
              <a:chOff x="2116800" y="2381040"/>
              <a:chExt cx="1200240" cy="361800"/>
            </a:xfrm>
          </p:grpSpPr>
          <p:sp>
            <p:nvSpPr>
              <p:cNvPr id="1095" name=""/>
              <p:cNvSpPr/>
              <p:nvPr/>
            </p:nvSpPr>
            <p:spPr>
              <a:xfrm>
                <a:off x="2116800" y="2381040"/>
                <a:ext cx="1200240" cy="36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6" name=""/>
              <p:cNvGrpSpPr/>
              <p:nvPr/>
            </p:nvGrpSpPr>
            <p:grpSpPr>
              <a:xfrm>
                <a:off x="2116800" y="2381040"/>
                <a:ext cx="1199880" cy="361800"/>
                <a:chOff x="2116800" y="2381040"/>
                <a:chExt cx="1199880" cy="36180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2144160" y="2381040"/>
                  <a:ext cx="1144800" cy="36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umark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2116800" y="2381040"/>
                  <a:ext cx="119988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cxnSp>
        <p:nvCxnSpPr>
          <p:cNvPr id="1099" name=""/>
          <p:cNvCxnSpPr>
            <a:endCxn id="1093" idx="2"/>
          </p:cNvCxnSpPr>
          <p:nvPr/>
        </p:nvCxnSpPr>
        <p:spPr>
          <a:xfrm flipV="1" rot="16200000">
            <a:off x="2984760" y="1349280"/>
            <a:ext cx="762840" cy="3548880"/>
          </a:xfrm>
          <a:prstGeom prst="bentConnector3">
            <a:avLst>
              <a:gd name="adj1" fmla="val 50000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100" name=""/>
          <p:cNvSpPr/>
          <p:nvPr/>
        </p:nvSpPr>
        <p:spPr>
          <a:xfrm>
            <a:off x="990720" y="3808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ösungsversuch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1" name=""/>
          <p:cNvCxnSpPr>
            <a:endCxn id="1052" idx="2"/>
          </p:cNvCxnSpPr>
          <p:nvPr/>
        </p:nvCxnSpPr>
        <p:spPr>
          <a:xfrm flipV="1" rot="16200000">
            <a:off x="6746400" y="1991880"/>
            <a:ext cx="915120" cy="2112120"/>
          </a:xfrm>
          <a:prstGeom prst="bentConnector3">
            <a:avLst>
              <a:gd name="adj1" fmla="val 4998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02" name=""/>
          <p:cNvSpPr/>
          <p:nvPr/>
        </p:nvSpPr>
        <p:spPr>
          <a:xfrm>
            <a:off x="6478560" y="15228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n:m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7927920" y="5661000"/>
            <a:ext cx="1216080" cy="432000"/>
            <a:chOff x="7927920" y="5661000"/>
            <a:chExt cx="1216080" cy="432000"/>
          </a:xfrm>
        </p:grpSpPr>
        <p:sp>
          <p:nvSpPr>
            <p:cNvPr id="1104" name=""/>
            <p:cNvSpPr/>
            <p:nvPr/>
          </p:nvSpPr>
          <p:spPr>
            <a:xfrm>
              <a:off x="7927920" y="5661000"/>
              <a:ext cx="121608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7927920" y="5661000"/>
              <a:ext cx="1216080" cy="432000"/>
              <a:chOff x="7927920" y="5661000"/>
              <a:chExt cx="1216080" cy="432000"/>
            </a:xfrm>
          </p:grpSpPr>
          <p:sp>
            <p:nvSpPr>
              <p:cNvPr id="1106" name=""/>
              <p:cNvSpPr/>
              <p:nvPr/>
            </p:nvSpPr>
            <p:spPr>
              <a:xfrm>
                <a:off x="7953120" y="5661000"/>
                <a:ext cx="116532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27920" y="5661000"/>
                <a:ext cx="1216080" cy="432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8" name=""/>
          <p:cNvGrpSpPr/>
          <p:nvPr/>
        </p:nvGrpSpPr>
        <p:grpSpPr>
          <a:xfrm>
            <a:off x="7956720" y="3933720"/>
            <a:ext cx="1152360" cy="2003760"/>
            <a:chOff x="7956720" y="3933720"/>
            <a:chExt cx="1152360" cy="2003760"/>
          </a:xfrm>
        </p:grpSpPr>
        <p:sp>
          <p:nvSpPr>
            <p:cNvPr id="1109" name=""/>
            <p:cNvSpPr/>
            <p:nvPr/>
          </p:nvSpPr>
          <p:spPr>
            <a:xfrm>
              <a:off x="7956720" y="3933720"/>
              <a:ext cx="115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ußball, Gymnasti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956720" y="4365720"/>
              <a:ext cx="11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956720" y="4797360"/>
              <a:ext cx="11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ymnasti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956720" y="5229360"/>
              <a:ext cx="115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olf, Gymnasti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956720" y="5661000"/>
              <a:ext cx="115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ymnasti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395280" y="4508640"/>
            <a:ext cx="756144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geeignet, weil in einem Tabellenfeld mehrere Werte steh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50920" y="2924280"/>
            <a:ext cx="3889440" cy="576000"/>
          </a:xfrm>
          <a:custGeom>
            <a:avLst/>
            <a:gdLst/>
            <a:ahLst/>
            <a:rect l="l" t="t" r="r" b="b"/>
            <a:pathLst>
              <a:path w="2450" h="363">
                <a:moveTo>
                  <a:pt x="2450" y="0"/>
                </a:moveTo>
                <a:lnTo>
                  <a:pt x="2450" y="227"/>
                </a:lnTo>
                <a:lnTo>
                  <a:pt x="0" y="227"/>
                </a:lnTo>
                <a:lnTo>
                  <a:pt x="0" y="3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095880" y="1219320"/>
            <a:ext cx="2818800" cy="1294920"/>
            <a:chOff x="6095880" y="1219320"/>
            <a:chExt cx="2818800" cy="1294920"/>
          </a:xfrm>
        </p:grpSpPr>
        <p:grpSp>
          <p:nvGrpSpPr>
            <p:cNvPr id="1119" name=""/>
            <p:cNvGrpSpPr/>
            <p:nvPr/>
          </p:nvGrpSpPr>
          <p:grpSpPr>
            <a:xfrm>
              <a:off x="6095880" y="1219320"/>
              <a:ext cx="1324080" cy="323640"/>
              <a:chOff x="6095880" y="1219320"/>
              <a:chExt cx="1324080" cy="323640"/>
            </a:xfrm>
          </p:grpSpPr>
          <p:sp>
            <p:nvSpPr>
              <p:cNvPr id="1120" name=""/>
              <p:cNvSpPr/>
              <p:nvPr/>
            </p:nvSpPr>
            <p:spPr>
              <a:xfrm>
                <a:off x="6095880" y="1219320"/>
                <a:ext cx="1324080" cy="323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1" name=""/>
              <p:cNvGrpSpPr/>
              <p:nvPr/>
            </p:nvGrpSpPr>
            <p:grpSpPr>
              <a:xfrm>
                <a:off x="6095880" y="1219320"/>
                <a:ext cx="1323720" cy="323640"/>
                <a:chOff x="6095880" y="1219320"/>
                <a:chExt cx="1323720" cy="32364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6135480" y="1219320"/>
                  <a:ext cx="1244880" cy="323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portar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6095880" y="1219320"/>
                  <a:ext cx="13237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4" name=""/>
            <p:cNvGrpSpPr/>
            <p:nvPr/>
          </p:nvGrpSpPr>
          <p:grpSpPr>
            <a:xfrm>
              <a:off x="7420320" y="1219320"/>
              <a:ext cx="1494360" cy="323640"/>
              <a:chOff x="7420320" y="1219320"/>
              <a:chExt cx="1494360" cy="323640"/>
            </a:xfrm>
          </p:grpSpPr>
          <p:sp>
            <p:nvSpPr>
              <p:cNvPr id="1125" name=""/>
              <p:cNvSpPr/>
              <p:nvPr/>
            </p:nvSpPr>
            <p:spPr>
              <a:xfrm>
                <a:off x="7420320" y="1219320"/>
                <a:ext cx="1494360" cy="323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6" name=""/>
              <p:cNvGrpSpPr/>
              <p:nvPr/>
            </p:nvGrpSpPr>
            <p:grpSpPr>
              <a:xfrm>
                <a:off x="7420320" y="1219320"/>
                <a:ext cx="1494000" cy="323640"/>
                <a:chOff x="7420320" y="1219320"/>
                <a:chExt cx="1494000" cy="32364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7459920" y="1219320"/>
                  <a:ext cx="1415160" cy="323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eitra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420320" y="1219320"/>
                  <a:ext cx="14940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9" name=""/>
            <p:cNvGrpSpPr/>
            <p:nvPr/>
          </p:nvGrpSpPr>
          <p:grpSpPr>
            <a:xfrm>
              <a:off x="6095880" y="1542960"/>
              <a:ext cx="1324080" cy="324000"/>
              <a:chOff x="6095880" y="1542960"/>
              <a:chExt cx="1324080" cy="324000"/>
            </a:xfrm>
          </p:grpSpPr>
          <p:sp>
            <p:nvSpPr>
              <p:cNvPr id="1130" name=""/>
              <p:cNvSpPr/>
              <p:nvPr/>
            </p:nvSpPr>
            <p:spPr>
              <a:xfrm>
                <a:off x="6095880" y="1542960"/>
                <a:ext cx="1324080" cy="3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1" name=""/>
              <p:cNvGrpSpPr/>
              <p:nvPr/>
            </p:nvGrpSpPr>
            <p:grpSpPr>
              <a:xfrm>
                <a:off x="6095880" y="1542960"/>
                <a:ext cx="1323720" cy="324000"/>
                <a:chOff x="6095880" y="1542960"/>
                <a:chExt cx="1323720" cy="3240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135480" y="1542960"/>
                  <a:ext cx="1244880" cy="32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ußbal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095880" y="1542960"/>
                  <a:ext cx="1323720" cy="32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4" name=""/>
            <p:cNvGrpSpPr/>
            <p:nvPr/>
          </p:nvGrpSpPr>
          <p:grpSpPr>
            <a:xfrm>
              <a:off x="7420320" y="1542960"/>
              <a:ext cx="1494360" cy="324000"/>
              <a:chOff x="7420320" y="1542960"/>
              <a:chExt cx="1494360" cy="324000"/>
            </a:xfrm>
          </p:grpSpPr>
          <p:sp>
            <p:nvSpPr>
              <p:cNvPr id="1135" name=""/>
              <p:cNvSpPr/>
              <p:nvPr/>
            </p:nvSpPr>
            <p:spPr>
              <a:xfrm>
                <a:off x="7420320" y="1542960"/>
                <a:ext cx="1494360" cy="3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6" name=""/>
              <p:cNvGrpSpPr/>
              <p:nvPr/>
            </p:nvGrpSpPr>
            <p:grpSpPr>
              <a:xfrm>
                <a:off x="7420320" y="1542960"/>
                <a:ext cx="1494000" cy="324000"/>
                <a:chOff x="7420320" y="1542960"/>
                <a:chExt cx="1494000" cy="32400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7459920" y="1542960"/>
                  <a:ext cx="1415160" cy="32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5,00 €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7420320" y="1542960"/>
                  <a:ext cx="1494000" cy="32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9" name=""/>
            <p:cNvGrpSpPr/>
            <p:nvPr/>
          </p:nvGrpSpPr>
          <p:grpSpPr>
            <a:xfrm>
              <a:off x="6095880" y="1866960"/>
              <a:ext cx="1324080" cy="323640"/>
              <a:chOff x="6095880" y="1866960"/>
              <a:chExt cx="1324080" cy="323640"/>
            </a:xfrm>
          </p:grpSpPr>
          <p:sp>
            <p:nvSpPr>
              <p:cNvPr id="1140" name=""/>
              <p:cNvSpPr/>
              <p:nvPr/>
            </p:nvSpPr>
            <p:spPr>
              <a:xfrm>
                <a:off x="6095880" y="1866960"/>
                <a:ext cx="1324080" cy="32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1" name=""/>
              <p:cNvGrpSpPr/>
              <p:nvPr/>
            </p:nvGrpSpPr>
            <p:grpSpPr>
              <a:xfrm>
                <a:off x="6095880" y="1866960"/>
                <a:ext cx="1323720" cy="323640"/>
                <a:chOff x="6095880" y="1866960"/>
                <a:chExt cx="1323720" cy="32364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6135480" y="1866960"/>
                  <a:ext cx="1244880" cy="32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ol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6095880" y="1866960"/>
                  <a:ext cx="13237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4" name=""/>
            <p:cNvGrpSpPr/>
            <p:nvPr/>
          </p:nvGrpSpPr>
          <p:grpSpPr>
            <a:xfrm>
              <a:off x="7420320" y="1866960"/>
              <a:ext cx="1494360" cy="323640"/>
              <a:chOff x="7420320" y="1866960"/>
              <a:chExt cx="1494360" cy="323640"/>
            </a:xfrm>
          </p:grpSpPr>
          <p:sp>
            <p:nvSpPr>
              <p:cNvPr id="1145" name=""/>
              <p:cNvSpPr/>
              <p:nvPr/>
            </p:nvSpPr>
            <p:spPr>
              <a:xfrm>
                <a:off x="7420320" y="1866960"/>
                <a:ext cx="1494360" cy="32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7420320" y="1866960"/>
                <a:ext cx="1494000" cy="323640"/>
                <a:chOff x="7420320" y="1866960"/>
                <a:chExt cx="1494000" cy="32364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7459920" y="1866960"/>
                  <a:ext cx="1415160" cy="32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0,00 €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7420320" y="1866960"/>
                  <a:ext cx="14940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9" name=""/>
            <p:cNvGrpSpPr/>
            <p:nvPr/>
          </p:nvGrpSpPr>
          <p:grpSpPr>
            <a:xfrm>
              <a:off x="6095880" y="2190600"/>
              <a:ext cx="1324080" cy="323640"/>
              <a:chOff x="6095880" y="2190600"/>
              <a:chExt cx="1324080" cy="323640"/>
            </a:xfrm>
          </p:grpSpPr>
          <p:sp>
            <p:nvSpPr>
              <p:cNvPr id="1150" name=""/>
              <p:cNvSpPr/>
              <p:nvPr/>
            </p:nvSpPr>
            <p:spPr>
              <a:xfrm>
                <a:off x="6095880" y="2190600"/>
                <a:ext cx="1324080" cy="32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1" name=""/>
              <p:cNvGrpSpPr/>
              <p:nvPr/>
            </p:nvGrpSpPr>
            <p:grpSpPr>
              <a:xfrm>
                <a:off x="6095880" y="2190600"/>
                <a:ext cx="1323720" cy="323640"/>
                <a:chOff x="6095880" y="2190600"/>
                <a:chExt cx="1323720" cy="32364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6135480" y="2190600"/>
                  <a:ext cx="1244880" cy="32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ymnasti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6095880" y="2190600"/>
                  <a:ext cx="132372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4" name=""/>
            <p:cNvGrpSpPr/>
            <p:nvPr/>
          </p:nvGrpSpPr>
          <p:grpSpPr>
            <a:xfrm>
              <a:off x="7420320" y="2190600"/>
              <a:ext cx="1494360" cy="323640"/>
              <a:chOff x="7420320" y="2190600"/>
              <a:chExt cx="1494360" cy="323640"/>
            </a:xfrm>
          </p:grpSpPr>
          <p:sp>
            <p:nvSpPr>
              <p:cNvPr id="1155" name=""/>
              <p:cNvSpPr/>
              <p:nvPr/>
            </p:nvSpPr>
            <p:spPr>
              <a:xfrm>
                <a:off x="7420320" y="2190600"/>
                <a:ext cx="1494360" cy="32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7420320" y="2190600"/>
                <a:ext cx="1494000" cy="323640"/>
                <a:chOff x="7420320" y="2190600"/>
                <a:chExt cx="1494000" cy="3236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7459920" y="2190600"/>
                  <a:ext cx="1415160" cy="32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0,00 €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7420320" y="2190600"/>
                  <a:ext cx="1494000" cy="32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59" name=""/>
          <p:cNvGrpSpPr/>
          <p:nvPr/>
        </p:nvGrpSpPr>
        <p:grpSpPr>
          <a:xfrm>
            <a:off x="1066680" y="1295280"/>
            <a:ext cx="2250360" cy="1447560"/>
            <a:chOff x="1066680" y="1295280"/>
            <a:chExt cx="2250360" cy="1447560"/>
          </a:xfrm>
        </p:grpSpPr>
        <p:grpSp>
          <p:nvGrpSpPr>
            <p:cNvPr id="1160" name=""/>
            <p:cNvGrpSpPr/>
            <p:nvPr/>
          </p:nvGrpSpPr>
          <p:grpSpPr>
            <a:xfrm>
              <a:off x="1066680" y="1295280"/>
              <a:ext cx="1049760" cy="361800"/>
              <a:chOff x="1066680" y="1295280"/>
              <a:chExt cx="1049760" cy="361800"/>
            </a:xfrm>
          </p:grpSpPr>
          <p:sp>
            <p:nvSpPr>
              <p:cNvPr id="1161" name=""/>
              <p:cNvSpPr/>
              <p:nvPr/>
            </p:nvSpPr>
            <p:spPr>
              <a:xfrm>
                <a:off x="1066680" y="1295280"/>
                <a:ext cx="1049760" cy="361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2" name=""/>
              <p:cNvGrpSpPr/>
              <p:nvPr/>
            </p:nvGrpSpPr>
            <p:grpSpPr>
              <a:xfrm>
                <a:off x="1066680" y="1295280"/>
                <a:ext cx="1049400" cy="361800"/>
                <a:chOff x="1066680" y="1295280"/>
                <a:chExt cx="1049400" cy="36180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1094400" y="1295280"/>
                  <a:ext cx="993960" cy="361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Z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1066680" y="1295280"/>
                  <a:ext cx="104940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5" name=""/>
            <p:cNvGrpSpPr/>
            <p:nvPr/>
          </p:nvGrpSpPr>
          <p:grpSpPr>
            <a:xfrm>
              <a:off x="2116800" y="1295280"/>
              <a:ext cx="1200240" cy="361800"/>
              <a:chOff x="2116800" y="1295280"/>
              <a:chExt cx="1200240" cy="361800"/>
            </a:xfrm>
          </p:grpSpPr>
          <p:sp>
            <p:nvSpPr>
              <p:cNvPr id="1166" name=""/>
              <p:cNvSpPr/>
              <p:nvPr/>
            </p:nvSpPr>
            <p:spPr>
              <a:xfrm>
                <a:off x="2116800" y="1295280"/>
                <a:ext cx="1200240" cy="361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2116800" y="1295280"/>
                <a:ext cx="1199880" cy="361800"/>
                <a:chOff x="2116800" y="1295280"/>
                <a:chExt cx="1199880" cy="36180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2144160" y="1295280"/>
                  <a:ext cx="1144800" cy="361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rtsnam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116800" y="1295280"/>
                  <a:ext cx="119988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0" name=""/>
            <p:cNvGrpSpPr/>
            <p:nvPr/>
          </p:nvGrpSpPr>
          <p:grpSpPr>
            <a:xfrm>
              <a:off x="1066680" y="1657080"/>
              <a:ext cx="1049760" cy="362160"/>
              <a:chOff x="1066680" y="1657080"/>
              <a:chExt cx="1049760" cy="362160"/>
            </a:xfrm>
          </p:grpSpPr>
          <p:sp>
            <p:nvSpPr>
              <p:cNvPr id="1171" name=""/>
              <p:cNvSpPr/>
              <p:nvPr/>
            </p:nvSpPr>
            <p:spPr>
              <a:xfrm>
                <a:off x="1066680" y="1657080"/>
                <a:ext cx="1049760" cy="36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2" name=""/>
              <p:cNvGrpSpPr/>
              <p:nvPr/>
            </p:nvGrpSpPr>
            <p:grpSpPr>
              <a:xfrm>
                <a:off x="1066680" y="1657080"/>
                <a:ext cx="1049400" cy="362160"/>
                <a:chOff x="1066680" y="1657080"/>
                <a:chExt cx="1049400" cy="36216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1094400" y="1657080"/>
                  <a:ext cx="993960" cy="362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05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1066680" y="1657080"/>
                  <a:ext cx="104940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5" name=""/>
            <p:cNvGrpSpPr/>
            <p:nvPr/>
          </p:nvGrpSpPr>
          <p:grpSpPr>
            <a:xfrm>
              <a:off x="2116800" y="1657080"/>
              <a:ext cx="1200240" cy="362160"/>
              <a:chOff x="2116800" y="1657080"/>
              <a:chExt cx="1200240" cy="362160"/>
            </a:xfrm>
          </p:grpSpPr>
          <p:sp>
            <p:nvSpPr>
              <p:cNvPr id="1176" name=""/>
              <p:cNvSpPr/>
              <p:nvPr/>
            </p:nvSpPr>
            <p:spPr>
              <a:xfrm>
                <a:off x="2116800" y="1657080"/>
                <a:ext cx="1200240" cy="36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7" name=""/>
              <p:cNvGrpSpPr/>
              <p:nvPr/>
            </p:nvGrpSpPr>
            <p:grpSpPr>
              <a:xfrm>
                <a:off x="2116800" y="1657080"/>
                <a:ext cx="1199880" cy="362160"/>
                <a:chOff x="2116800" y="1657080"/>
                <a:chExt cx="1199880" cy="362160"/>
              </a:xfrm>
            </p:grpSpPr>
            <p:sp>
              <p:nvSpPr>
                <p:cNvPr id="1178" name=""/>
                <p:cNvSpPr/>
                <p:nvPr/>
              </p:nvSpPr>
              <p:spPr>
                <a:xfrm>
                  <a:off x="2144160" y="1657080"/>
                  <a:ext cx="1144800" cy="362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rlang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116800" y="1657080"/>
                  <a:ext cx="1199880" cy="362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0" name=""/>
            <p:cNvGrpSpPr/>
            <p:nvPr/>
          </p:nvGrpSpPr>
          <p:grpSpPr>
            <a:xfrm>
              <a:off x="1066680" y="2019240"/>
              <a:ext cx="1049760" cy="361800"/>
              <a:chOff x="1066680" y="2019240"/>
              <a:chExt cx="1049760" cy="361800"/>
            </a:xfrm>
          </p:grpSpPr>
          <p:sp>
            <p:nvSpPr>
              <p:cNvPr id="1181" name=""/>
              <p:cNvSpPr/>
              <p:nvPr/>
            </p:nvSpPr>
            <p:spPr>
              <a:xfrm>
                <a:off x="1066680" y="2019240"/>
                <a:ext cx="1049760" cy="36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2" name=""/>
              <p:cNvGrpSpPr/>
              <p:nvPr/>
            </p:nvGrpSpPr>
            <p:grpSpPr>
              <a:xfrm>
                <a:off x="1066680" y="2019240"/>
                <a:ext cx="1049400" cy="361800"/>
                <a:chOff x="1066680" y="2019240"/>
                <a:chExt cx="1049400" cy="36180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1094400" y="2019240"/>
                  <a:ext cx="993960" cy="36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05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1066680" y="2019240"/>
                  <a:ext cx="104940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5" name=""/>
            <p:cNvGrpSpPr/>
            <p:nvPr/>
          </p:nvGrpSpPr>
          <p:grpSpPr>
            <a:xfrm>
              <a:off x="2116800" y="2019240"/>
              <a:ext cx="1200240" cy="361800"/>
              <a:chOff x="2116800" y="2019240"/>
              <a:chExt cx="1200240" cy="361800"/>
            </a:xfrm>
          </p:grpSpPr>
          <p:sp>
            <p:nvSpPr>
              <p:cNvPr id="1186" name=""/>
              <p:cNvSpPr/>
              <p:nvPr/>
            </p:nvSpPr>
            <p:spPr>
              <a:xfrm>
                <a:off x="2116800" y="2019240"/>
                <a:ext cx="1200240" cy="36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7" name=""/>
              <p:cNvGrpSpPr/>
              <p:nvPr/>
            </p:nvGrpSpPr>
            <p:grpSpPr>
              <a:xfrm>
                <a:off x="2116800" y="2019240"/>
                <a:ext cx="1199880" cy="361800"/>
                <a:chOff x="2116800" y="2019240"/>
                <a:chExt cx="1199880" cy="36180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2144160" y="2019240"/>
                  <a:ext cx="1144800" cy="36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rlang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2116800" y="2019240"/>
                  <a:ext cx="119988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0" name=""/>
            <p:cNvGrpSpPr/>
            <p:nvPr/>
          </p:nvGrpSpPr>
          <p:grpSpPr>
            <a:xfrm>
              <a:off x="1066680" y="2381040"/>
              <a:ext cx="1049760" cy="361800"/>
              <a:chOff x="1066680" y="2381040"/>
              <a:chExt cx="1049760" cy="361800"/>
            </a:xfrm>
          </p:grpSpPr>
          <p:sp>
            <p:nvSpPr>
              <p:cNvPr id="1191" name=""/>
              <p:cNvSpPr/>
              <p:nvPr/>
            </p:nvSpPr>
            <p:spPr>
              <a:xfrm>
                <a:off x="1066680" y="2381040"/>
                <a:ext cx="1049760" cy="36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2" name=""/>
              <p:cNvGrpSpPr/>
              <p:nvPr/>
            </p:nvGrpSpPr>
            <p:grpSpPr>
              <a:xfrm>
                <a:off x="1066680" y="2381040"/>
                <a:ext cx="1049400" cy="361800"/>
                <a:chOff x="1066680" y="2381040"/>
                <a:chExt cx="1049400" cy="361800"/>
              </a:xfrm>
            </p:grpSpPr>
            <p:sp>
              <p:nvSpPr>
                <p:cNvPr id="1193" name=""/>
                <p:cNvSpPr/>
                <p:nvPr/>
              </p:nvSpPr>
              <p:spPr>
                <a:xfrm>
                  <a:off x="1094400" y="2381040"/>
                  <a:ext cx="993960" cy="36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3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066680" y="2381040"/>
                  <a:ext cx="104940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5" name=""/>
            <p:cNvGrpSpPr/>
            <p:nvPr/>
          </p:nvGrpSpPr>
          <p:grpSpPr>
            <a:xfrm>
              <a:off x="2116800" y="2381040"/>
              <a:ext cx="1200240" cy="361800"/>
              <a:chOff x="2116800" y="2381040"/>
              <a:chExt cx="1200240" cy="361800"/>
            </a:xfrm>
          </p:grpSpPr>
          <p:sp>
            <p:nvSpPr>
              <p:cNvPr id="1196" name=""/>
              <p:cNvSpPr/>
              <p:nvPr/>
            </p:nvSpPr>
            <p:spPr>
              <a:xfrm>
                <a:off x="2116800" y="2381040"/>
                <a:ext cx="1200240" cy="36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7" name=""/>
              <p:cNvGrpSpPr/>
              <p:nvPr/>
            </p:nvGrpSpPr>
            <p:grpSpPr>
              <a:xfrm>
                <a:off x="2116800" y="2381040"/>
                <a:ext cx="1199880" cy="361800"/>
                <a:chOff x="2116800" y="2381040"/>
                <a:chExt cx="1199880" cy="36180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2144160" y="2381040"/>
                  <a:ext cx="1144800" cy="361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umark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116800" y="2381040"/>
                  <a:ext cx="1199880" cy="36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cxnSp>
        <p:nvCxnSpPr>
          <p:cNvPr id="1200" name=""/>
          <p:cNvCxnSpPr>
            <a:stCxn id="1201" idx="0"/>
            <a:endCxn id="1194" idx="2"/>
          </p:cNvCxnSpPr>
          <p:nvPr/>
        </p:nvCxnSpPr>
        <p:spPr>
          <a:xfrm flipV="1" rot="16200000">
            <a:off x="3245040" y="1089000"/>
            <a:ext cx="757800" cy="4064400"/>
          </a:xfrm>
          <a:prstGeom prst="bentConnector3">
            <a:avLst>
              <a:gd name="adj1" fmla="val 49857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202" name=""/>
          <p:cNvSpPr/>
          <p:nvPr/>
        </p:nvSpPr>
        <p:spPr>
          <a:xfrm>
            <a:off x="990720" y="3808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ös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3657600" y="533520"/>
            <a:ext cx="2065320" cy="2438280"/>
            <a:chOff x="3657600" y="533520"/>
            <a:chExt cx="2065320" cy="2438280"/>
          </a:xfrm>
        </p:grpSpPr>
        <p:grpSp>
          <p:nvGrpSpPr>
            <p:cNvPr id="1204" name=""/>
            <p:cNvGrpSpPr/>
            <p:nvPr/>
          </p:nvGrpSpPr>
          <p:grpSpPr>
            <a:xfrm>
              <a:off x="3657600" y="533520"/>
              <a:ext cx="963720" cy="304560"/>
              <a:chOff x="3657600" y="533520"/>
              <a:chExt cx="963720" cy="304560"/>
            </a:xfrm>
          </p:grpSpPr>
          <p:sp>
            <p:nvSpPr>
              <p:cNvPr id="1205" name=""/>
              <p:cNvSpPr/>
              <p:nvPr/>
            </p:nvSpPr>
            <p:spPr>
              <a:xfrm>
                <a:off x="3657600" y="533520"/>
                <a:ext cx="963720" cy="304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6" name=""/>
              <p:cNvGrpSpPr/>
              <p:nvPr/>
            </p:nvGrpSpPr>
            <p:grpSpPr>
              <a:xfrm>
                <a:off x="3657600" y="533520"/>
                <a:ext cx="963720" cy="304560"/>
                <a:chOff x="3657600" y="533520"/>
                <a:chExt cx="963720" cy="30456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3683160" y="533520"/>
                  <a:ext cx="912600" cy="304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itgli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3657600" y="533520"/>
                  <a:ext cx="96372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9" name=""/>
            <p:cNvGrpSpPr/>
            <p:nvPr/>
          </p:nvGrpSpPr>
          <p:grpSpPr>
            <a:xfrm>
              <a:off x="4621320" y="533520"/>
              <a:ext cx="1101600" cy="304560"/>
              <a:chOff x="4621320" y="533520"/>
              <a:chExt cx="1101600" cy="304560"/>
            </a:xfrm>
          </p:grpSpPr>
          <p:sp>
            <p:nvSpPr>
              <p:cNvPr id="1210" name=""/>
              <p:cNvSpPr/>
              <p:nvPr/>
            </p:nvSpPr>
            <p:spPr>
              <a:xfrm>
                <a:off x="4621320" y="533520"/>
                <a:ext cx="1101600" cy="304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1" name=""/>
              <p:cNvGrpSpPr/>
              <p:nvPr/>
            </p:nvGrpSpPr>
            <p:grpSpPr>
              <a:xfrm>
                <a:off x="4621320" y="533520"/>
                <a:ext cx="1101600" cy="304560"/>
                <a:chOff x="4621320" y="533520"/>
                <a:chExt cx="1101600" cy="30456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4646520" y="533520"/>
                  <a:ext cx="1050840" cy="304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portar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4621320" y="533520"/>
                  <a:ext cx="110160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4" name=""/>
            <p:cNvGrpSpPr/>
            <p:nvPr/>
          </p:nvGrpSpPr>
          <p:grpSpPr>
            <a:xfrm>
              <a:off x="3657600" y="838080"/>
              <a:ext cx="963720" cy="304920"/>
              <a:chOff x="3657600" y="838080"/>
              <a:chExt cx="963720" cy="304920"/>
            </a:xfrm>
          </p:grpSpPr>
          <p:sp>
            <p:nvSpPr>
              <p:cNvPr id="1215" name=""/>
              <p:cNvSpPr/>
              <p:nvPr/>
            </p:nvSpPr>
            <p:spPr>
              <a:xfrm>
                <a:off x="3657600" y="838080"/>
                <a:ext cx="96372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6" name=""/>
              <p:cNvGrpSpPr/>
              <p:nvPr/>
            </p:nvGrpSpPr>
            <p:grpSpPr>
              <a:xfrm>
                <a:off x="3657600" y="838080"/>
                <a:ext cx="963720" cy="304920"/>
                <a:chOff x="3657600" y="838080"/>
                <a:chExt cx="963720" cy="30492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3683160" y="838080"/>
                  <a:ext cx="91260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3657600" y="838080"/>
                  <a:ext cx="96372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9" name=""/>
            <p:cNvGrpSpPr/>
            <p:nvPr/>
          </p:nvGrpSpPr>
          <p:grpSpPr>
            <a:xfrm>
              <a:off x="4621320" y="838080"/>
              <a:ext cx="1101600" cy="304920"/>
              <a:chOff x="4621320" y="838080"/>
              <a:chExt cx="1101600" cy="304920"/>
            </a:xfrm>
          </p:grpSpPr>
          <p:sp>
            <p:nvSpPr>
              <p:cNvPr id="1220" name=""/>
              <p:cNvSpPr/>
              <p:nvPr/>
            </p:nvSpPr>
            <p:spPr>
              <a:xfrm>
                <a:off x="4621320" y="838080"/>
                <a:ext cx="11016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1" name=""/>
              <p:cNvGrpSpPr/>
              <p:nvPr/>
            </p:nvGrpSpPr>
            <p:grpSpPr>
              <a:xfrm>
                <a:off x="4621320" y="838080"/>
                <a:ext cx="1101600" cy="304920"/>
                <a:chOff x="4621320" y="838080"/>
                <a:chExt cx="1101600" cy="30492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4646520" y="838080"/>
                  <a:ext cx="105084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4621320" y="838080"/>
                  <a:ext cx="110160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4" name=""/>
            <p:cNvGrpSpPr/>
            <p:nvPr/>
          </p:nvGrpSpPr>
          <p:grpSpPr>
            <a:xfrm>
              <a:off x="3657600" y="1143000"/>
              <a:ext cx="963720" cy="304560"/>
              <a:chOff x="3657600" y="1143000"/>
              <a:chExt cx="963720" cy="304560"/>
            </a:xfrm>
          </p:grpSpPr>
          <p:sp>
            <p:nvSpPr>
              <p:cNvPr id="1225" name=""/>
              <p:cNvSpPr/>
              <p:nvPr/>
            </p:nvSpPr>
            <p:spPr>
              <a:xfrm>
                <a:off x="3657600" y="1143000"/>
                <a:ext cx="96372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6" name=""/>
              <p:cNvGrpSpPr/>
              <p:nvPr/>
            </p:nvGrpSpPr>
            <p:grpSpPr>
              <a:xfrm>
                <a:off x="3657600" y="1143000"/>
                <a:ext cx="963720" cy="304560"/>
                <a:chOff x="3657600" y="1143000"/>
                <a:chExt cx="963720" cy="3045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3683160" y="1143000"/>
                  <a:ext cx="91260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3657600" y="1143000"/>
                  <a:ext cx="96372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9" name=""/>
            <p:cNvGrpSpPr/>
            <p:nvPr/>
          </p:nvGrpSpPr>
          <p:grpSpPr>
            <a:xfrm>
              <a:off x="4621320" y="1143000"/>
              <a:ext cx="1101600" cy="304560"/>
              <a:chOff x="4621320" y="1143000"/>
              <a:chExt cx="1101600" cy="304560"/>
            </a:xfrm>
          </p:grpSpPr>
          <p:sp>
            <p:nvSpPr>
              <p:cNvPr id="1230" name=""/>
              <p:cNvSpPr/>
              <p:nvPr/>
            </p:nvSpPr>
            <p:spPr>
              <a:xfrm>
                <a:off x="4621320" y="1143000"/>
                <a:ext cx="110160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1" name=""/>
              <p:cNvGrpSpPr/>
              <p:nvPr/>
            </p:nvGrpSpPr>
            <p:grpSpPr>
              <a:xfrm>
                <a:off x="4621320" y="1143000"/>
                <a:ext cx="1101600" cy="304560"/>
                <a:chOff x="4621320" y="1143000"/>
                <a:chExt cx="1101600" cy="30456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4646520" y="1143000"/>
                  <a:ext cx="105084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4621320" y="1143000"/>
                  <a:ext cx="110160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4" name=""/>
            <p:cNvGrpSpPr/>
            <p:nvPr/>
          </p:nvGrpSpPr>
          <p:grpSpPr>
            <a:xfrm>
              <a:off x="3657600" y="1447920"/>
              <a:ext cx="963720" cy="304560"/>
              <a:chOff x="3657600" y="1447920"/>
              <a:chExt cx="963720" cy="304560"/>
            </a:xfrm>
          </p:grpSpPr>
          <p:sp>
            <p:nvSpPr>
              <p:cNvPr id="1235" name=""/>
              <p:cNvSpPr/>
              <p:nvPr/>
            </p:nvSpPr>
            <p:spPr>
              <a:xfrm>
                <a:off x="3657600" y="1447920"/>
                <a:ext cx="96372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6" name=""/>
              <p:cNvGrpSpPr/>
              <p:nvPr/>
            </p:nvGrpSpPr>
            <p:grpSpPr>
              <a:xfrm>
                <a:off x="3657600" y="1447920"/>
                <a:ext cx="963720" cy="304560"/>
                <a:chOff x="3657600" y="1447920"/>
                <a:chExt cx="963720" cy="30456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3683160" y="1447920"/>
                  <a:ext cx="91260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3657600" y="1447920"/>
                  <a:ext cx="96372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9" name=""/>
            <p:cNvGrpSpPr/>
            <p:nvPr/>
          </p:nvGrpSpPr>
          <p:grpSpPr>
            <a:xfrm>
              <a:off x="4621320" y="1447920"/>
              <a:ext cx="1101600" cy="304560"/>
              <a:chOff x="4621320" y="1447920"/>
              <a:chExt cx="1101600" cy="304560"/>
            </a:xfrm>
          </p:grpSpPr>
          <p:sp>
            <p:nvSpPr>
              <p:cNvPr id="1240" name=""/>
              <p:cNvSpPr/>
              <p:nvPr/>
            </p:nvSpPr>
            <p:spPr>
              <a:xfrm>
                <a:off x="4621320" y="1447920"/>
                <a:ext cx="110160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1" name=""/>
              <p:cNvGrpSpPr/>
              <p:nvPr/>
            </p:nvGrpSpPr>
            <p:grpSpPr>
              <a:xfrm>
                <a:off x="4621320" y="1447920"/>
                <a:ext cx="1101600" cy="304560"/>
                <a:chOff x="4621320" y="1447920"/>
                <a:chExt cx="1101600" cy="30456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4646520" y="1447920"/>
                  <a:ext cx="105084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4621320" y="1447920"/>
                  <a:ext cx="110160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4" name=""/>
            <p:cNvGrpSpPr/>
            <p:nvPr/>
          </p:nvGrpSpPr>
          <p:grpSpPr>
            <a:xfrm>
              <a:off x="3657600" y="1752480"/>
              <a:ext cx="963720" cy="304920"/>
              <a:chOff x="3657600" y="1752480"/>
              <a:chExt cx="963720" cy="304920"/>
            </a:xfrm>
          </p:grpSpPr>
          <p:sp>
            <p:nvSpPr>
              <p:cNvPr id="1245" name=""/>
              <p:cNvSpPr/>
              <p:nvPr/>
            </p:nvSpPr>
            <p:spPr>
              <a:xfrm>
                <a:off x="3657600" y="1752480"/>
                <a:ext cx="96372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6" name=""/>
              <p:cNvGrpSpPr/>
              <p:nvPr/>
            </p:nvGrpSpPr>
            <p:grpSpPr>
              <a:xfrm>
                <a:off x="3657600" y="1752480"/>
                <a:ext cx="963720" cy="304920"/>
                <a:chOff x="3657600" y="1752480"/>
                <a:chExt cx="963720" cy="304920"/>
              </a:xfrm>
            </p:grpSpPr>
            <p:sp>
              <p:nvSpPr>
                <p:cNvPr id="1247" name=""/>
                <p:cNvSpPr/>
                <p:nvPr/>
              </p:nvSpPr>
              <p:spPr>
                <a:xfrm>
                  <a:off x="3683160" y="1752480"/>
                  <a:ext cx="91260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3657600" y="1752480"/>
                  <a:ext cx="96372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9" name=""/>
            <p:cNvGrpSpPr/>
            <p:nvPr/>
          </p:nvGrpSpPr>
          <p:grpSpPr>
            <a:xfrm>
              <a:off x="4621320" y="1752480"/>
              <a:ext cx="1101600" cy="304920"/>
              <a:chOff x="4621320" y="1752480"/>
              <a:chExt cx="1101600" cy="304920"/>
            </a:xfrm>
          </p:grpSpPr>
          <p:sp>
            <p:nvSpPr>
              <p:cNvPr id="1250" name=""/>
              <p:cNvSpPr/>
              <p:nvPr/>
            </p:nvSpPr>
            <p:spPr>
              <a:xfrm>
                <a:off x="4621320" y="1752480"/>
                <a:ext cx="11016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1" name=""/>
              <p:cNvGrpSpPr/>
              <p:nvPr/>
            </p:nvGrpSpPr>
            <p:grpSpPr>
              <a:xfrm>
                <a:off x="4621320" y="1752480"/>
                <a:ext cx="1101600" cy="304920"/>
                <a:chOff x="4621320" y="1752480"/>
                <a:chExt cx="1101600" cy="30492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4646520" y="1752480"/>
                  <a:ext cx="105084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4621320" y="1752480"/>
                  <a:ext cx="110160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4" name=""/>
            <p:cNvGrpSpPr/>
            <p:nvPr/>
          </p:nvGrpSpPr>
          <p:grpSpPr>
            <a:xfrm>
              <a:off x="3657600" y="2057400"/>
              <a:ext cx="963720" cy="304560"/>
              <a:chOff x="3657600" y="2057400"/>
              <a:chExt cx="963720" cy="304560"/>
            </a:xfrm>
          </p:grpSpPr>
          <p:sp>
            <p:nvSpPr>
              <p:cNvPr id="1255" name=""/>
              <p:cNvSpPr/>
              <p:nvPr/>
            </p:nvSpPr>
            <p:spPr>
              <a:xfrm>
                <a:off x="3657600" y="2057400"/>
                <a:ext cx="96372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6" name=""/>
              <p:cNvGrpSpPr/>
              <p:nvPr/>
            </p:nvGrpSpPr>
            <p:grpSpPr>
              <a:xfrm>
                <a:off x="3657600" y="2057400"/>
                <a:ext cx="963720" cy="304560"/>
                <a:chOff x="3657600" y="2057400"/>
                <a:chExt cx="963720" cy="30456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3683160" y="2057400"/>
                  <a:ext cx="91260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3657600" y="2057400"/>
                  <a:ext cx="96372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9" name=""/>
            <p:cNvGrpSpPr/>
            <p:nvPr/>
          </p:nvGrpSpPr>
          <p:grpSpPr>
            <a:xfrm>
              <a:off x="4621320" y="2057400"/>
              <a:ext cx="1101600" cy="304560"/>
              <a:chOff x="4621320" y="2057400"/>
              <a:chExt cx="1101600" cy="304560"/>
            </a:xfrm>
          </p:grpSpPr>
          <p:sp>
            <p:nvSpPr>
              <p:cNvPr id="1260" name=""/>
              <p:cNvSpPr/>
              <p:nvPr/>
            </p:nvSpPr>
            <p:spPr>
              <a:xfrm>
                <a:off x="4621320" y="2057400"/>
                <a:ext cx="110160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1" name=""/>
              <p:cNvGrpSpPr/>
              <p:nvPr/>
            </p:nvGrpSpPr>
            <p:grpSpPr>
              <a:xfrm>
                <a:off x="4621320" y="2057400"/>
                <a:ext cx="1101600" cy="304560"/>
                <a:chOff x="4621320" y="2057400"/>
                <a:chExt cx="1101600" cy="30456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4646520" y="2057400"/>
                  <a:ext cx="105084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621320" y="2057400"/>
                  <a:ext cx="110160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4" name=""/>
            <p:cNvGrpSpPr/>
            <p:nvPr/>
          </p:nvGrpSpPr>
          <p:grpSpPr>
            <a:xfrm>
              <a:off x="3657600" y="2362320"/>
              <a:ext cx="963720" cy="304560"/>
              <a:chOff x="3657600" y="2362320"/>
              <a:chExt cx="963720" cy="304560"/>
            </a:xfrm>
          </p:grpSpPr>
          <p:sp>
            <p:nvSpPr>
              <p:cNvPr id="1265" name=""/>
              <p:cNvSpPr/>
              <p:nvPr/>
            </p:nvSpPr>
            <p:spPr>
              <a:xfrm>
                <a:off x="3657600" y="2362320"/>
                <a:ext cx="96372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6" name=""/>
              <p:cNvGrpSpPr/>
              <p:nvPr/>
            </p:nvGrpSpPr>
            <p:grpSpPr>
              <a:xfrm>
                <a:off x="3657600" y="2362320"/>
                <a:ext cx="963720" cy="304560"/>
                <a:chOff x="3657600" y="2362320"/>
                <a:chExt cx="963720" cy="30456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3683160" y="2362320"/>
                  <a:ext cx="91260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3657600" y="2362320"/>
                  <a:ext cx="96372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9" name=""/>
            <p:cNvGrpSpPr/>
            <p:nvPr/>
          </p:nvGrpSpPr>
          <p:grpSpPr>
            <a:xfrm>
              <a:off x="4621320" y="2362320"/>
              <a:ext cx="1101600" cy="304560"/>
              <a:chOff x="4621320" y="2362320"/>
              <a:chExt cx="1101600" cy="304560"/>
            </a:xfrm>
          </p:grpSpPr>
          <p:sp>
            <p:nvSpPr>
              <p:cNvPr id="1270" name=""/>
              <p:cNvSpPr/>
              <p:nvPr/>
            </p:nvSpPr>
            <p:spPr>
              <a:xfrm>
                <a:off x="4621320" y="2362320"/>
                <a:ext cx="110160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1" name=""/>
              <p:cNvGrpSpPr/>
              <p:nvPr/>
            </p:nvGrpSpPr>
            <p:grpSpPr>
              <a:xfrm>
                <a:off x="4621320" y="2362320"/>
                <a:ext cx="1101600" cy="304560"/>
                <a:chOff x="4621320" y="2362320"/>
                <a:chExt cx="1101600" cy="30456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4646520" y="2362320"/>
                  <a:ext cx="105084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4621320" y="2362320"/>
                  <a:ext cx="110160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4" name=""/>
            <p:cNvGrpSpPr/>
            <p:nvPr/>
          </p:nvGrpSpPr>
          <p:grpSpPr>
            <a:xfrm>
              <a:off x="3657600" y="2666880"/>
              <a:ext cx="963720" cy="304920"/>
              <a:chOff x="3657600" y="2666880"/>
              <a:chExt cx="963720" cy="304920"/>
            </a:xfrm>
          </p:grpSpPr>
          <p:sp>
            <p:nvSpPr>
              <p:cNvPr id="1275" name=""/>
              <p:cNvSpPr/>
              <p:nvPr/>
            </p:nvSpPr>
            <p:spPr>
              <a:xfrm>
                <a:off x="3657600" y="2666880"/>
                <a:ext cx="96372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6" name=""/>
              <p:cNvGrpSpPr/>
              <p:nvPr/>
            </p:nvGrpSpPr>
            <p:grpSpPr>
              <a:xfrm>
                <a:off x="3657600" y="2666880"/>
                <a:ext cx="963720" cy="304920"/>
                <a:chOff x="3657600" y="2666880"/>
                <a:chExt cx="963720" cy="304920"/>
              </a:xfrm>
            </p:grpSpPr>
            <p:sp>
              <p:nvSpPr>
                <p:cNvPr id="1277" name=""/>
                <p:cNvSpPr/>
                <p:nvPr/>
              </p:nvSpPr>
              <p:spPr>
                <a:xfrm>
                  <a:off x="3683160" y="2666880"/>
                  <a:ext cx="91260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3657600" y="2666880"/>
                  <a:ext cx="96372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9" name=""/>
            <p:cNvGrpSpPr/>
            <p:nvPr/>
          </p:nvGrpSpPr>
          <p:grpSpPr>
            <a:xfrm>
              <a:off x="4621320" y="2666880"/>
              <a:ext cx="1101600" cy="304920"/>
              <a:chOff x="4621320" y="2666880"/>
              <a:chExt cx="1101600" cy="304920"/>
            </a:xfrm>
          </p:grpSpPr>
          <p:sp>
            <p:nvSpPr>
              <p:cNvPr id="1280" name=""/>
              <p:cNvSpPr/>
              <p:nvPr/>
            </p:nvSpPr>
            <p:spPr>
              <a:xfrm>
                <a:off x="4621320" y="2666880"/>
                <a:ext cx="11016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1" name=""/>
              <p:cNvGrpSpPr/>
              <p:nvPr/>
            </p:nvGrpSpPr>
            <p:grpSpPr>
              <a:xfrm>
                <a:off x="4621320" y="2666880"/>
                <a:ext cx="1101600" cy="304920"/>
                <a:chOff x="4621320" y="2666880"/>
                <a:chExt cx="1101600" cy="30492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4646520" y="2666880"/>
                  <a:ext cx="105084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4621320" y="2666880"/>
                  <a:ext cx="110160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cxnSp>
        <p:nvCxnSpPr>
          <p:cNvPr id="1284" name=""/>
          <p:cNvCxnSpPr>
            <a:stCxn id="1283" idx="2"/>
            <a:endCxn id="1153" idx="2"/>
          </p:cNvCxnSpPr>
          <p:nvPr/>
        </p:nvCxnSpPr>
        <p:spPr>
          <a:xfrm flipH="1" flipV="1" rot="5400000">
            <a:off x="5735160" y="1949760"/>
            <a:ext cx="457920" cy="1586520"/>
          </a:xfrm>
          <a:prstGeom prst="bentConnector3">
            <a:avLst>
              <a:gd name="adj1" fmla="val -4996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85" name=""/>
          <p:cNvSpPr/>
          <p:nvPr/>
        </p:nvSpPr>
        <p:spPr>
          <a:xfrm>
            <a:off x="6478560" y="15228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n:m-Bezieh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0" y="3500280"/>
            <a:ext cx="9143640" cy="2372040"/>
            <a:chOff x="0" y="3500280"/>
            <a:chExt cx="9143640" cy="2372040"/>
          </a:xfrm>
        </p:grpSpPr>
        <p:grpSp>
          <p:nvGrpSpPr>
            <p:cNvPr id="1287" name=""/>
            <p:cNvGrpSpPr/>
            <p:nvPr/>
          </p:nvGrpSpPr>
          <p:grpSpPr>
            <a:xfrm>
              <a:off x="0" y="3500280"/>
              <a:ext cx="512280" cy="395280"/>
              <a:chOff x="0" y="3500280"/>
              <a:chExt cx="512280" cy="395280"/>
            </a:xfrm>
          </p:grpSpPr>
          <p:sp>
            <p:nvSpPr>
              <p:cNvPr id="1288" name=""/>
              <p:cNvSpPr/>
              <p:nvPr/>
            </p:nvSpPr>
            <p:spPr>
              <a:xfrm>
                <a:off x="0" y="3500280"/>
                <a:ext cx="51228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9" name=""/>
              <p:cNvGrpSpPr/>
              <p:nvPr/>
            </p:nvGrpSpPr>
            <p:grpSpPr>
              <a:xfrm>
                <a:off x="0" y="3500280"/>
                <a:ext cx="511920" cy="395280"/>
                <a:chOff x="0" y="3500280"/>
                <a:chExt cx="511920" cy="39528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30600" y="3500280"/>
                  <a:ext cx="45036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_I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0" y="3500280"/>
                  <a:ext cx="511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2" name=""/>
            <p:cNvGrpSpPr/>
            <p:nvPr/>
          </p:nvGrpSpPr>
          <p:grpSpPr>
            <a:xfrm>
              <a:off x="512640" y="3500280"/>
              <a:ext cx="1163160" cy="395280"/>
              <a:chOff x="512640" y="3500280"/>
              <a:chExt cx="1163160" cy="395280"/>
            </a:xfrm>
          </p:grpSpPr>
          <p:sp>
            <p:nvSpPr>
              <p:cNvPr id="1293" name=""/>
              <p:cNvSpPr/>
              <p:nvPr/>
            </p:nvSpPr>
            <p:spPr>
              <a:xfrm>
                <a:off x="512640" y="3500280"/>
                <a:ext cx="116316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4" name=""/>
              <p:cNvGrpSpPr/>
              <p:nvPr/>
            </p:nvGrpSpPr>
            <p:grpSpPr>
              <a:xfrm>
                <a:off x="512640" y="3500280"/>
                <a:ext cx="1162800" cy="395280"/>
                <a:chOff x="512640" y="3500280"/>
                <a:chExt cx="1162800" cy="39528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542880" y="3500280"/>
                  <a:ext cx="110196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rna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12640" y="3500280"/>
                  <a:ext cx="11628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7" name=""/>
            <p:cNvGrpSpPr/>
            <p:nvPr/>
          </p:nvGrpSpPr>
          <p:grpSpPr>
            <a:xfrm>
              <a:off x="1676160" y="3500280"/>
              <a:ext cx="1244520" cy="395280"/>
              <a:chOff x="1676160" y="3500280"/>
              <a:chExt cx="1244520" cy="395280"/>
            </a:xfrm>
          </p:grpSpPr>
          <p:sp>
            <p:nvSpPr>
              <p:cNvPr id="1298" name=""/>
              <p:cNvSpPr/>
              <p:nvPr/>
            </p:nvSpPr>
            <p:spPr>
              <a:xfrm>
                <a:off x="1676160" y="3500280"/>
                <a:ext cx="124452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9" name=""/>
              <p:cNvGrpSpPr/>
              <p:nvPr/>
            </p:nvGrpSpPr>
            <p:grpSpPr>
              <a:xfrm>
                <a:off x="1676160" y="3500280"/>
                <a:ext cx="1244160" cy="395280"/>
                <a:chOff x="1676160" y="3500280"/>
                <a:chExt cx="1244160" cy="39528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1706400" y="3500280"/>
                  <a:ext cx="118332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achna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1676160" y="3500280"/>
                  <a:ext cx="12441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2" name=""/>
            <p:cNvGrpSpPr/>
            <p:nvPr/>
          </p:nvGrpSpPr>
          <p:grpSpPr>
            <a:xfrm>
              <a:off x="2921400" y="3500280"/>
              <a:ext cx="1160280" cy="395280"/>
              <a:chOff x="2921400" y="3500280"/>
              <a:chExt cx="1160280" cy="395280"/>
            </a:xfrm>
          </p:grpSpPr>
          <p:sp>
            <p:nvSpPr>
              <p:cNvPr id="1303" name=""/>
              <p:cNvSpPr/>
              <p:nvPr/>
            </p:nvSpPr>
            <p:spPr>
              <a:xfrm>
                <a:off x="2921400" y="3500280"/>
                <a:ext cx="116028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4" name=""/>
              <p:cNvGrpSpPr/>
              <p:nvPr/>
            </p:nvGrpSpPr>
            <p:grpSpPr>
              <a:xfrm>
                <a:off x="2921400" y="3500280"/>
                <a:ext cx="1159920" cy="395280"/>
                <a:chOff x="2921400" y="3500280"/>
                <a:chExt cx="1159920" cy="395280"/>
              </a:xfrm>
            </p:grpSpPr>
            <p:sp>
              <p:nvSpPr>
                <p:cNvPr id="1305" name=""/>
                <p:cNvSpPr/>
                <p:nvPr/>
              </p:nvSpPr>
              <p:spPr>
                <a:xfrm>
                  <a:off x="2951640" y="3500280"/>
                  <a:ext cx="109908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eburtsdatu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2921400" y="3500280"/>
                  <a:ext cx="1159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7" name=""/>
            <p:cNvGrpSpPr/>
            <p:nvPr/>
          </p:nvGrpSpPr>
          <p:grpSpPr>
            <a:xfrm>
              <a:off x="4082400" y="3500280"/>
              <a:ext cx="991800" cy="395280"/>
              <a:chOff x="4082400" y="3500280"/>
              <a:chExt cx="991800" cy="395280"/>
            </a:xfrm>
          </p:grpSpPr>
          <p:sp>
            <p:nvSpPr>
              <p:cNvPr id="1308" name=""/>
              <p:cNvSpPr/>
              <p:nvPr/>
            </p:nvSpPr>
            <p:spPr>
              <a:xfrm>
                <a:off x="4082400" y="3500280"/>
                <a:ext cx="99180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9" name=""/>
              <p:cNvGrpSpPr/>
              <p:nvPr/>
            </p:nvGrpSpPr>
            <p:grpSpPr>
              <a:xfrm>
                <a:off x="4082400" y="3500280"/>
                <a:ext cx="991440" cy="395280"/>
                <a:chOff x="4082400" y="3500280"/>
                <a:chExt cx="991440" cy="39528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4112640" y="3500280"/>
                  <a:ext cx="93060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eschlech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4082400" y="3500280"/>
                  <a:ext cx="99144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5074560" y="3500280"/>
              <a:ext cx="1159920" cy="395280"/>
              <a:chOff x="5074560" y="3500280"/>
              <a:chExt cx="1159920" cy="395280"/>
            </a:xfrm>
          </p:grpSpPr>
          <p:sp>
            <p:nvSpPr>
              <p:cNvPr id="1313" name=""/>
              <p:cNvSpPr/>
              <p:nvPr/>
            </p:nvSpPr>
            <p:spPr>
              <a:xfrm>
                <a:off x="5074560" y="3500280"/>
                <a:ext cx="115992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4" name=""/>
              <p:cNvGrpSpPr/>
              <p:nvPr/>
            </p:nvGrpSpPr>
            <p:grpSpPr>
              <a:xfrm>
                <a:off x="5074560" y="3500280"/>
                <a:ext cx="1159560" cy="395280"/>
                <a:chOff x="5074560" y="3500280"/>
                <a:chExt cx="1159560" cy="39528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5104800" y="3500280"/>
                  <a:ext cx="109908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z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5074560" y="3500280"/>
                  <a:ext cx="11595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6" name=""/>
            <p:cNvGrpSpPr/>
            <p:nvPr/>
          </p:nvGrpSpPr>
          <p:grpSpPr>
            <a:xfrm>
              <a:off x="6235200" y="3500280"/>
              <a:ext cx="1692360" cy="395280"/>
              <a:chOff x="6235200" y="3500280"/>
              <a:chExt cx="1692360" cy="395280"/>
            </a:xfrm>
          </p:grpSpPr>
          <p:sp>
            <p:nvSpPr>
              <p:cNvPr id="1317" name=""/>
              <p:cNvSpPr/>
              <p:nvPr/>
            </p:nvSpPr>
            <p:spPr>
              <a:xfrm>
                <a:off x="6235200" y="3500280"/>
                <a:ext cx="169236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8" name=""/>
              <p:cNvGrpSpPr/>
              <p:nvPr/>
            </p:nvGrpSpPr>
            <p:grpSpPr>
              <a:xfrm>
                <a:off x="6235200" y="3500280"/>
                <a:ext cx="1692000" cy="395280"/>
                <a:chOff x="6235200" y="3500280"/>
                <a:chExt cx="1692000" cy="39528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6265800" y="3500280"/>
                  <a:ext cx="163116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tras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6235200" y="3500280"/>
                  <a:ext cx="16920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1" name=""/>
            <p:cNvGrpSpPr/>
            <p:nvPr/>
          </p:nvGrpSpPr>
          <p:grpSpPr>
            <a:xfrm>
              <a:off x="7927920" y="3500280"/>
              <a:ext cx="1215720" cy="395280"/>
              <a:chOff x="7927920" y="3500280"/>
              <a:chExt cx="1215720" cy="395280"/>
            </a:xfrm>
          </p:grpSpPr>
          <p:sp>
            <p:nvSpPr>
              <p:cNvPr id="1322" name=""/>
              <p:cNvSpPr/>
              <p:nvPr/>
            </p:nvSpPr>
            <p:spPr>
              <a:xfrm>
                <a:off x="7927920" y="3500280"/>
                <a:ext cx="1215720" cy="39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3" name=""/>
              <p:cNvGrpSpPr/>
              <p:nvPr/>
            </p:nvGrpSpPr>
            <p:grpSpPr>
              <a:xfrm>
                <a:off x="7927920" y="3500280"/>
                <a:ext cx="1215720" cy="395280"/>
                <a:chOff x="7927920" y="3500280"/>
                <a:chExt cx="1215720" cy="39528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7953120" y="3500280"/>
                  <a:ext cx="1164960" cy="395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lef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7927920" y="3500280"/>
                  <a:ext cx="12157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0" y="3895560"/>
              <a:ext cx="512280" cy="395280"/>
              <a:chOff x="0" y="3895560"/>
              <a:chExt cx="512280" cy="395280"/>
            </a:xfrm>
          </p:grpSpPr>
          <p:sp>
            <p:nvSpPr>
              <p:cNvPr id="1327" name=""/>
              <p:cNvSpPr/>
              <p:nvPr/>
            </p:nvSpPr>
            <p:spPr>
              <a:xfrm>
                <a:off x="0" y="3895560"/>
                <a:ext cx="512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8" name=""/>
              <p:cNvGrpSpPr/>
              <p:nvPr/>
            </p:nvGrpSpPr>
            <p:grpSpPr>
              <a:xfrm>
                <a:off x="0" y="3895560"/>
                <a:ext cx="511920" cy="395280"/>
                <a:chOff x="0" y="3895560"/>
                <a:chExt cx="511920" cy="39528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30600" y="3895560"/>
                  <a:ext cx="4503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0" y="3895560"/>
                  <a:ext cx="511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1" name=""/>
            <p:cNvGrpSpPr/>
            <p:nvPr/>
          </p:nvGrpSpPr>
          <p:grpSpPr>
            <a:xfrm>
              <a:off x="512640" y="3895560"/>
              <a:ext cx="1163160" cy="395280"/>
              <a:chOff x="512640" y="3895560"/>
              <a:chExt cx="1163160" cy="395280"/>
            </a:xfrm>
          </p:grpSpPr>
          <p:sp>
            <p:nvSpPr>
              <p:cNvPr id="1332" name=""/>
              <p:cNvSpPr/>
              <p:nvPr/>
            </p:nvSpPr>
            <p:spPr>
              <a:xfrm>
                <a:off x="512640" y="3895560"/>
                <a:ext cx="11631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3" name=""/>
              <p:cNvGrpSpPr/>
              <p:nvPr/>
            </p:nvGrpSpPr>
            <p:grpSpPr>
              <a:xfrm>
                <a:off x="512640" y="3895560"/>
                <a:ext cx="1162800" cy="395280"/>
                <a:chOff x="512640" y="3895560"/>
                <a:chExt cx="1162800" cy="39528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542880" y="3895560"/>
                  <a:ext cx="1101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hristi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512640" y="3895560"/>
                  <a:ext cx="11628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6" name=""/>
            <p:cNvGrpSpPr/>
            <p:nvPr/>
          </p:nvGrpSpPr>
          <p:grpSpPr>
            <a:xfrm>
              <a:off x="1676160" y="3895560"/>
              <a:ext cx="1244520" cy="395280"/>
              <a:chOff x="1676160" y="3895560"/>
              <a:chExt cx="1244520" cy="395280"/>
            </a:xfrm>
          </p:grpSpPr>
          <p:sp>
            <p:nvSpPr>
              <p:cNvPr id="1337" name=""/>
              <p:cNvSpPr/>
              <p:nvPr/>
            </p:nvSpPr>
            <p:spPr>
              <a:xfrm>
                <a:off x="1676160" y="3895560"/>
                <a:ext cx="12445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8" name=""/>
              <p:cNvGrpSpPr/>
              <p:nvPr/>
            </p:nvGrpSpPr>
            <p:grpSpPr>
              <a:xfrm>
                <a:off x="1676160" y="3895560"/>
                <a:ext cx="1244160" cy="395280"/>
                <a:chOff x="1676160" y="3895560"/>
                <a:chExt cx="1244160" cy="39528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1706400" y="3895560"/>
                  <a:ext cx="118332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eidric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1676160" y="3895560"/>
                  <a:ext cx="12441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1" name=""/>
            <p:cNvGrpSpPr/>
            <p:nvPr/>
          </p:nvGrpSpPr>
          <p:grpSpPr>
            <a:xfrm>
              <a:off x="2921400" y="3895560"/>
              <a:ext cx="1160280" cy="395280"/>
              <a:chOff x="2921400" y="3895560"/>
              <a:chExt cx="1160280" cy="395280"/>
            </a:xfrm>
          </p:grpSpPr>
          <p:sp>
            <p:nvSpPr>
              <p:cNvPr id="1342" name=""/>
              <p:cNvSpPr/>
              <p:nvPr/>
            </p:nvSpPr>
            <p:spPr>
              <a:xfrm>
                <a:off x="2921400" y="3895560"/>
                <a:ext cx="1160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2921400" y="3895560"/>
                <a:ext cx="1159920" cy="395280"/>
                <a:chOff x="2921400" y="3895560"/>
                <a:chExt cx="1159920" cy="3952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2951640" y="389556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.11.19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921400" y="3895560"/>
                  <a:ext cx="1159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6" name=""/>
            <p:cNvGrpSpPr/>
            <p:nvPr/>
          </p:nvGrpSpPr>
          <p:grpSpPr>
            <a:xfrm>
              <a:off x="4082400" y="3895560"/>
              <a:ext cx="991800" cy="395280"/>
              <a:chOff x="4082400" y="3895560"/>
              <a:chExt cx="991800" cy="395280"/>
            </a:xfrm>
          </p:grpSpPr>
          <p:sp>
            <p:nvSpPr>
              <p:cNvPr id="1347" name=""/>
              <p:cNvSpPr/>
              <p:nvPr/>
            </p:nvSpPr>
            <p:spPr>
              <a:xfrm>
                <a:off x="4082400" y="3895560"/>
                <a:ext cx="99180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8" name=""/>
              <p:cNvGrpSpPr/>
              <p:nvPr/>
            </p:nvGrpSpPr>
            <p:grpSpPr>
              <a:xfrm>
                <a:off x="4082400" y="3895560"/>
                <a:ext cx="991440" cy="395280"/>
                <a:chOff x="4082400" y="3895560"/>
                <a:chExt cx="991440" cy="39528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4112640" y="3895560"/>
                  <a:ext cx="93060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4082400" y="3895560"/>
                  <a:ext cx="99144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51" name=""/>
            <p:cNvGrpSpPr/>
            <p:nvPr/>
          </p:nvGrpSpPr>
          <p:grpSpPr>
            <a:xfrm>
              <a:off x="5074560" y="3895560"/>
              <a:ext cx="1159920" cy="395280"/>
              <a:chOff x="5074560" y="3895560"/>
              <a:chExt cx="1159920" cy="395280"/>
            </a:xfrm>
          </p:grpSpPr>
          <p:sp>
            <p:nvSpPr>
              <p:cNvPr id="1352" name=""/>
              <p:cNvSpPr/>
              <p:nvPr/>
            </p:nvSpPr>
            <p:spPr>
              <a:xfrm>
                <a:off x="5074560" y="3895560"/>
                <a:ext cx="11599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3" name=""/>
              <p:cNvGrpSpPr/>
              <p:nvPr/>
            </p:nvGrpSpPr>
            <p:grpSpPr>
              <a:xfrm>
                <a:off x="5074560" y="3895560"/>
                <a:ext cx="1159560" cy="395280"/>
                <a:chOff x="5074560" y="3895560"/>
                <a:chExt cx="1159560" cy="39528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5104800" y="389556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05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5074560" y="3895560"/>
                  <a:ext cx="11595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56" name=""/>
            <p:cNvGrpSpPr/>
            <p:nvPr/>
          </p:nvGrpSpPr>
          <p:grpSpPr>
            <a:xfrm>
              <a:off x="6235200" y="3895560"/>
              <a:ext cx="1692360" cy="395280"/>
              <a:chOff x="6235200" y="3895560"/>
              <a:chExt cx="1692360" cy="395280"/>
            </a:xfrm>
          </p:grpSpPr>
          <p:sp>
            <p:nvSpPr>
              <p:cNvPr id="1357" name=""/>
              <p:cNvSpPr/>
              <p:nvPr/>
            </p:nvSpPr>
            <p:spPr>
              <a:xfrm>
                <a:off x="6235200" y="3895560"/>
                <a:ext cx="16923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8" name=""/>
              <p:cNvGrpSpPr/>
              <p:nvPr/>
            </p:nvGrpSpPr>
            <p:grpSpPr>
              <a:xfrm>
                <a:off x="6235200" y="3895560"/>
                <a:ext cx="1692000" cy="395280"/>
                <a:chOff x="6235200" y="3895560"/>
                <a:chExt cx="1692000" cy="39528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6265800" y="3895560"/>
                  <a:ext cx="16311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xxx-Straße 6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6235200" y="3895560"/>
                  <a:ext cx="16920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1" name=""/>
            <p:cNvGrpSpPr/>
            <p:nvPr/>
          </p:nvGrpSpPr>
          <p:grpSpPr>
            <a:xfrm>
              <a:off x="7927920" y="3895560"/>
              <a:ext cx="1215720" cy="395280"/>
              <a:chOff x="7927920" y="3895560"/>
              <a:chExt cx="1215720" cy="395280"/>
            </a:xfrm>
          </p:grpSpPr>
          <p:sp>
            <p:nvSpPr>
              <p:cNvPr id="1362" name=""/>
              <p:cNvSpPr/>
              <p:nvPr/>
            </p:nvSpPr>
            <p:spPr>
              <a:xfrm>
                <a:off x="7927920" y="3895560"/>
                <a:ext cx="12157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3" name=""/>
              <p:cNvGrpSpPr/>
              <p:nvPr/>
            </p:nvGrpSpPr>
            <p:grpSpPr>
              <a:xfrm>
                <a:off x="7927920" y="3895560"/>
                <a:ext cx="1215720" cy="395280"/>
                <a:chOff x="7927920" y="3895560"/>
                <a:chExt cx="1215720" cy="39528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7953120" y="3895560"/>
                  <a:ext cx="1164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9131/999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7927920" y="3895560"/>
                  <a:ext cx="12157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6" name=""/>
            <p:cNvGrpSpPr/>
            <p:nvPr/>
          </p:nvGrpSpPr>
          <p:grpSpPr>
            <a:xfrm>
              <a:off x="0" y="4290840"/>
              <a:ext cx="512280" cy="395640"/>
              <a:chOff x="0" y="4290840"/>
              <a:chExt cx="512280" cy="395640"/>
            </a:xfrm>
          </p:grpSpPr>
          <p:sp>
            <p:nvSpPr>
              <p:cNvPr id="1367" name=""/>
              <p:cNvSpPr/>
              <p:nvPr/>
            </p:nvSpPr>
            <p:spPr>
              <a:xfrm>
                <a:off x="0" y="4290840"/>
                <a:ext cx="51228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8" name=""/>
              <p:cNvGrpSpPr/>
              <p:nvPr/>
            </p:nvGrpSpPr>
            <p:grpSpPr>
              <a:xfrm>
                <a:off x="0" y="4290840"/>
                <a:ext cx="511920" cy="395640"/>
                <a:chOff x="0" y="4290840"/>
                <a:chExt cx="511920" cy="39564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30600" y="4290840"/>
                  <a:ext cx="45036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0" y="4290840"/>
                  <a:ext cx="51192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1" name=""/>
            <p:cNvGrpSpPr/>
            <p:nvPr/>
          </p:nvGrpSpPr>
          <p:grpSpPr>
            <a:xfrm>
              <a:off x="512640" y="4290840"/>
              <a:ext cx="1163160" cy="395640"/>
              <a:chOff x="512640" y="4290840"/>
              <a:chExt cx="1163160" cy="395640"/>
            </a:xfrm>
          </p:grpSpPr>
          <p:sp>
            <p:nvSpPr>
              <p:cNvPr id="1372" name=""/>
              <p:cNvSpPr/>
              <p:nvPr/>
            </p:nvSpPr>
            <p:spPr>
              <a:xfrm>
                <a:off x="512640" y="4290840"/>
                <a:ext cx="116316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3" name=""/>
              <p:cNvGrpSpPr/>
              <p:nvPr/>
            </p:nvGrpSpPr>
            <p:grpSpPr>
              <a:xfrm>
                <a:off x="512640" y="4290840"/>
                <a:ext cx="1162800" cy="395640"/>
                <a:chOff x="512640" y="4290840"/>
                <a:chExt cx="1162800" cy="39564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542880" y="4290840"/>
                  <a:ext cx="110196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ber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512640" y="4290840"/>
                  <a:ext cx="116280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6" name=""/>
            <p:cNvGrpSpPr/>
            <p:nvPr/>
          </p:nvGrpSpPr>
          <p:grpSpPr>
            <a:xfrm>
              <a:off x="1676160" y="4290840"/>
              <a:ext cx="1244520" cy="395640"/>
              <a:chOff x="1676160" y="4290840"/>
              <a:chExt cx="1244520" cy="395640"/>
            </a:xfrm>
          </p:grpSpPr>
          <p:sp>
            <p:nvSpPr>
              <p:cNvPr id="1377" name=""/>
              <p:cNvSpPr/>
              <p:nvPr/>
            </p:nvSpPr>
            <p:spPr>
              <a:xfrm>
                <a:off x="1676160" y="4290840"/>
                <a:ext cx="124452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8" name=""/>
              <p:cNvGrpSpPr/>
              <p:nvPr/>
            </p:nvGrpSpPr>
            <p:grpSpPr>
              <a:xfrm>
                <a:off x="1676160" y="4290840"/>
                <a:ext cx="1244160" cy="395640"/>
                <a:chOff x="1676160" y="4290840"/>
                <a:chExt cx="1244160" cy="395640"/>
              </a:xfrm>
            </p:grpSpPr>
            <p:sp>
              <p:nvSpPr>
                <p:cNvPr id="1379" name=""/>
                <p:cNvSpPr/>
                <p:nvPr/>
              </p:nvSpPr>
              <p:spPr>
                <a:xfrm>
                  <a:off x="1706400" y="4290840"/>
                  <a:ext cx="118332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i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1676160" y="4290840"/>
                  <a:ext cx="124416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1" name=""/>
            <p:cNvGrpSpPr/>
            <p:nvPr/>
          </p:nvGrpSpPr>
          <p:grpSpPr>
            <a:xfrm>
              <a:off x="2921400" y="4290840"/>
              <a:ext cx="1160280" cy="395640"/>
              <a:chOff x="2921400" y="4290840"/>
              <a:chExt cx="1160280" cy="395640"/>
            </a:xfrm>
          </p:grpSpPr>
          <p:sp>
            <p:nvSpPr>
              <p:cNvPr id="1382" name=""/>
              <p:cNvSpPr/>
              <p:nvPr/>
            </p:nvSpPr>
            <p:spPr>
              <a:xfrm>
                <a:off x="2921400" y="4290840"/>
                <a:ext cx="116028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3" name=""/>
              <p:cNvGrpSpPr/>
              <p:nvPr/>
            </p:nvGrpSpPr>
            <p:grpSpPr>
              <a:xfrm>
                <a:off x="2921400" y="4290840"/>
                <a:ext cx="1159920" cy="395640"/>
                <a:chOff x="2921400" y="4290840"/>
                <a:chExt cx="1159920" cy="39564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2951640" y="4290840"/>
                  <a:ext cx="109908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8.03.187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2921400" y="4290840"/>
                  <a:ext cx="115992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6" name=""/>
            <p:cNvGrpSpPr/>
            <p:nvPr/>
          </p:nvGrpSpPr>
          <p:grpSpPr>
            <a:xfrm>
              <a:off x="4082400" y="4290840"/>
              <a:ext cx="991800" cy="395640"/>
              <a:chOff x="4082400" y="4290840"/>
              <a:chExt cx="991800" cy="395640"/>
            </a:xfrm>
          </p:grpSpPr>
          <p:sp>
            <p:nvSpPr>
              <p:cNvPr id="1387" name=""/>
              <p:cNvSpPr/>
              <p:nvPr/>
            </p:nvSpPr>
            <p:spPr>
              <a:xfrm>
                <a:off x="4082400" y="4290840"/>
                <a:ext cx="99180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8" name=""/>
              <p:cNvGrpSpPr/>
              <p:nvPr/>
            </p:nvGrpSpPr>
            <p:grpSpPr>
              <a:xfrm>
                <a:off x="4082400" y="4290840"/>
                <a:ext cx="991440" cy="395640"/>
                <a:chOff x="4082400" y="4290840"/>
                <a:chExt cx="991440" cy="39564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4112640" y="4290840"/>
                  <a:ext cx="93060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4082400" y="4290840"/>
                  <a:ext cx="99144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1" name=""/>
            <p:cNvGrpSpPr/>
            <p:nvPr/>
          </p:nvGrpSpPr>
          <p:grpSpPr>
            <a:xfrm>
              <a:off x="5074560" y="4290840"/>
              <a:ext cx="1159920" cy="395640"/>
              <a:chOff x="5074560" y="4290840"/>
              <a:chExt cx="1159920" cy="395640"/>
            </a:xfrm>
          </p:grpSpPr>
          <p:sp>
            <p:nvSpPr>
              <p:cNvPr id="1392" name=""/>
              <p:cNvSpPr/>
              <p:nvPr/>
            </p:nvSpPr>
            <p:spPr>
              <a:xfrm>
                <a:off x="5074560" y="4290840"/>
                <a:ext cx="115992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3" name=""/>
              <p:cNvGrpSpPr/>
              <p:nvPr/>
            </p:nvGrpSpPr>
            <p:grpSpPr>
              <a:xfrm>
                <a:off x="5074560" y="4290840"/>
                <a:ext cx="1159560" cy="395640"/>
                <a:chOff x="5074560" y="4290840"/>
                <a:chExt cx="1159560" cy="395640"/>
              </a:xfrm>
            </p:grpSpPr>
            <p:sp>
              <p:nvSpPr>
                <p:cNvPr id="1394" name=""/>
                <p:cNvSpPr/>
                <p:nvPr/>
              </p:nvSpPr>
              <p:spPr>
                <a:xfrm>
                  <a:off x="5104800" y="4290840"/>
                  <a:ext cx="109908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3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5074560" y="4290840"/>
                  <a:ext cx="115956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6" name=""/>
            <p:cNvGrpSpPr/>
            <p:nvPr/>
          </p:nvGrpSpPr>
          <p:grpSpPr>
            <a:xfrm>
              <a:off x="6235200" y="4290840"/>
              <a:ext cx="1692360" cy="395640"/>
              <a:chOff x="6235200" y="4290840"/>
              <a:chExt cx="1692360" cy="395640"/>
            </a:xfrm>
          </p:grpSpPr>
          <p:sp>
            <p:nvSpPr>
              <p:cNvPr id="1397" name=""/>
              <p:cNvSpPr/>
              <p:nvPr/>
            </p:nvSpPr>
            <p:spPr>
              <a:xfrm>
                <a:off x="6235200" y="4290840"/>
                <a:ext cx="169236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8" name=""/>
              <p:cNvGrpSpPr/>
              <p:nvPr/>
            </p:nvGrpSpPr>
            <p:grpSpPr>
              <a:xfrm>
                <a:off x="6235200" y="4290840"/>
                <a:ext cx="1692000" cy="395640"/>
                <a:chOff x="6235200" y="4290840"/>
                <a:chExt cx="1692000" cy="39564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6265800" y="4290840"/>
                  <a:ext cx="163116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instraße 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6235200" y="4290840"/>
                  <a:ext cx="169200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1" name=""/>
            <p:cNvGrpSpPr/>
            <p:nvPr/>
          </p:nvGrpSpPr>
          <p:grpSpPr>
            <a:xfrm>
              <a:off x="7927920" y="4290840"/>
              <a:ext cx="1215720" cy="395640"/>
              <a:chOff x="7927920" y="4290840"/>
              <a:chExt cx="1215720" cy="395640"/>
            </a:xfrm>
          </p:grpSpPr>
          <p:sp>
            <p:nvSpPr>
              <p:cNvPr id="1402" name=""/>
              <p:cNvSpPr/>
              <p:nvPr/>
            </p:nvSpPr>
            <p:spPr>
              <a:xfrm>
                <a:off x="7927920" y="4290840"/>
                <a:ext cx="121572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3" name=""/>
              <p:cNvGrpSpPr/>
              <p:nvPr/>
            </p:nvGrpSpPr>
            <p:grpSpPr>
              <a:xfrm>
                <a:off x="7927920" y="4290840"/>
                <a:ext cx="1215720" cy="395640"/>
                <a:chOff x="7927920" y="4290840"/>
                <a:chExt cx="1215720" cy="39564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7953120" y="4290840"/>
                  <a:ext cx="1164960" cy="39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9181/1234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7927920" y="4290840"/>
                  <a:ext cx="1215720" cy="39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6" name=""/>
            <p:cNvGrpSpPr/>
            <p:nvPr/>
          </p:nvGrpSpPr>
          <p:grpSpPr>
            <a:xfrm>
              <a:off x="0" y="4686480"/>
              <a:ext cx="512280" cy="395280"/>
              <a:chOff x="0" y="4686480"/>
              <a:chExt cx="512280" cy="395280"/>
            </a:xfrm>
          </p:grpSpPr>
          <p:sp>
            <p:nvSpPr>
              <p:cNvPr id="1407" name=""/>
              <p:cNvSpPr/>
              <p:nvPr/>
            </p:nvSpPr>
            <p:spPr>
              <a:xfrm>
                <a:off x="0" y="4686480"/>
                <a:ext cx="512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8" name=""/>
              <p:cNvGrpSpPr/>
              <p:nvPr/>
            </p:nvGrpSpPr>
            <p:grpSpPr>
              <a:xfrm>
                <a:off x="0" y="4686480"/>
                <a:ext cx="511920" cy="395280"/>
                <a:chOff x="0" y="4686480"/>
                <a:chExt cx="511920" cy="39528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30600" y="4686480"/>
                  <a:ext cx="4503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0" y="4686480"/>
                  <a:ext cx="511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1" name=""/>
            <p:cNvGrpSpPr/>
            <p:nvPr/>
          </p:nvGrpSpPr>
          <p:grpSpPr>
            <a:xfrm>
              <a:off x="512640" y="4686480"/>
              <a:ext cx="1163160" cy="395280"/>
              <a:chOff x="512640" y="4686480"/>
              <a:chExt cx="1163160" cy="395280"/>
            </a:xfrm>
          </p:grpSpPr>
          <p:sp>
            <p:nvSpPr>
              <p:cNvPr id="1412" name=""/>
              <p:cNvSpPr/>
              <p:nvPr/>
            </p:nvSpPr>
            <p:spPr>
              <a:xfrm>
                <a:off x="512640" y="4686480"/>
                <a:ext cx="11631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3" name=""/>
              <p:cNvGrpSpPr/>
              <p:nvPr/>
            </p:nvGrpSpPr>
            <p:grpSpPr>
              <a:xfrm>
                <a:off x="512640" y="4686480"/>
                <a:ext cx="1162800" cy="395280"/>
                <a:chOff x="512640" y="4686480"/>
                <a:chExt cx="1162800" cy="395280"/>
              </a:xfrm>
            </p:grpSpPr>
            <p:sp>
              <p:nvSpPr>
                <p:cNvPr id="1414" name=""/>
                <p:cNvSpPr/>
                <p:nvPr/>
              </p:nvSpPr>
              <p:spPr>
                <a:xfrm>
                  <a:off x="542880" y="4686480"/>
                  <a:ext cx="1101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eid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12640" y="4686480"/>
                  <a:ext cx="11628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6" name=""/>
            <p:cNvGrpSpPr/>
            <p:nvPr/>
          </p:nvGrpSpPr>
          <p:grpSpPr>
            <a:xfrm>
              <a:off x="1676160" y="4686480"/>
              <a:ext cx="1244520" cy="395280"/>
              <a:chOff x="1676160" y="4686480"/>
              <a:chExt cx="1244520" cy="395280"/>
            </a:xfrm>
          </p:grpSpPr>
          <p:sp>
            <p:nvSpPr>
              <p:cNvPr id="1417" name=""/>
              <p:cNvSpPr/>
              <p:nvPr/>
            </p:nvSpPr>
            <p:spPr>
              <a:xfrm>
                <a:off x="1676160" y="4686480"/>
                <a:ext cx="12445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8" name=""/>
              <p:cNvGrpSpPr/>
              <p:nvPr/>
            </p:nvGrpSpPr>
            <p:grpSpPr>
              <a:xfrm>
                <a:off x="1676160" y="4686480"/>
                <a:ext cx="1244160" cy="395280"/>
                <a:chOff x="1676160" y="4686480"/>
                <a:chExt cx="1244160" cy="395280"/>
              </a:xfrm>
            </p:grpSpPr>
            <p:sp>
              <p:nvSpPr>
                <p:cNvPr id="1419" name=""/>
                <p:cNvSpPr/>
                <p:nvPr/>
              </p:nvSpPr>
              <p:spPr>
                <a:xfrm>
                  <a:off x="1706400" y="4686480"/>
                  <a:ext cx="118332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ofman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1676160" y="4686480"/>
                  <a:ext cx="12441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2921400" y="4686480"/>
              <a:ext cx="1160280" cy="395280"/>
              <a:chOff x="2921400" y="4686480"/>
              <a:chExt cx="1160280" cy="395280"/>
            </a:xfrm>
          </p:grpSpPr>
          <p:sp>
            <p:nvSpPr>
              <p:cNvPr id="1422" name=""/>
              <p:cNvSpPr/>
              <p:nvPr/>
            </p:nvSpPr>
            <p:spPr>
              <a:xfrm>
                <a:off x="2921400" y="4686480"/>
                <a:ext cx="1160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3" name=""/>
              <p:cNvGrpSpPr/>
              <p:nvPr/>
            </p:nvGrpSpPr>
            <p:grpSpPr>
              <a:xfrm>
                <a:off x="2921400" y="4686480"/>
                <a:ext cx="1159920" cy="395280"/>
                <a:chOff x="2921400" y="4686480"/>
                <a:chExt cx="1159920" cy="39528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2951640" y="468648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.01.196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2921400" y="4686480"/>
                  <a:ext cx="1159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6" name=""/>
            <p:cNvGrpSpPr/>
            <p:nvPr/>
          </p:nvGrpSpPr>
          <p:grpSpPr>
            <a:xfrm>
              <a:off x="4082400" y="4686480"/>
              <a:ext cx="991800" cy="395280"/>
              <a:chOff x="4082400" y="4686480"/>
              <a:chExt cx="991800" cy="395280"/>
            </a:xfrm>
          </p:grpSpPr>
          <p:sp>
            <p:nvSpPr>
              <p:cNvPr id="1427" name=""/>
              <p:cNvSpPr/>
              <p:nvPr/>
            </p:nvSpPr>
            <p:spPr>
              <a:xfrm>
                <a:off x="4082400" y="4686480"/>
                <a:ext cx="99180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8" name=""/>
              <p:cNvGrpSpPr/>
              <p:nvPr/>
            </p:nvGrpSpPr>
            <p:grpSpPr>
              <a:xfrm>
                <a:off x="4082400" y="4686480"/>
                <a:ext cx="991440" cy="395280"/>
                <a:chOff x="4082400" y="4686480"/>
                <a:chExt cx="991440" cy="39528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4112640" y="4686480"/>
                  <a:ext cx="93060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4082400" y="4686480"/>
                  <a:ext cx="99144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1" name=""/>
            <p:cNvGrpSpPr/>
            <p:nvPr/>
          </p:nvGrpSpPr>
          <p:grpSpPr>
            <a:xfrm>
              <a:off x="5074560" y="4686480"/>
              <a:ext cx="1159920" cy="395280"/>
              <a:chOff x="5074560" y="4686480"/>
              <a:chExt cx="1159920" cy="395280"/>
            </a:xfrm>
          </p:grpSpPr>
          <p:sp>
            <p:nvSpPr>
              <p:cNvPr id="1432" name=""/>
              <p:cNvSpPr/>
              <p:nvPr/>
            </p:nvSpPr>
            <p:spPr>
              <a:xfrm>
                <a:off x="5074560" y="4686480"/>
                <a:ext cx="11599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3" name=""/>
              <p:cNvGrpSpPr/>
              <p:nvPr/>
            </p:nvGrpSpPr>
            <p:grpSpPr>
              <a:xfrm>
                <a:off x="5074560" y="4686480"/>
                <a:ext cx="1159560" cy="395280"/>
                <a:chOff x="5074560" y="4686480"/>
                <a:chExt cx="1159560" cy="39528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5104800" y="468648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3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5074560" y="4686480"/>
                  <a:ext cx="11595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6" name=""/>
            <p:cNvGrpSpPr/>
            <p:nvPr/>
          </p:nvGrpSpPr>
          <p:grpSpPr>
            <a:xfrm>
              <a:off x="6235200" y="4686480"/>
              <a:ext cx="1692360" cy="395280"/>
              <a:chOff x="6235200" y="4686480"/>
              <a:chExt cx="1692360" cy="395280"/>
            </a:xfrm>
          </p:grpSpPr>
          <p:sp>
            <p:nvSpPr>
              <p:cNvPr id="1437" name=""/>
              <p:cNvSpPr/>
              <p:nvPr/>
            </p:nvSpPr>
            <p:spPr>
              <a:xfrm>
                <a:off x="6235200" y="4686480"/>
                <a:ext cx="16923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8" name=""/>
              <p:cNvGrpSpPr/>
              <p:nvPr/>
            </p:nvGrpSpPr>
            <p:grpSpPr>
              <a:xfrm>
                <a:off x="6235200" y="4686480"/>
                <a:ext cx="1692000" cy="395280"/>
                <a:chOff x="6235200" y="4686480"/>
                <a:chExt cx="1692000" cy="39528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6265800" y="4686480"/>
                  <a:ext cx="16311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ofmannstraße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6235200" y="4686480"/>
                  <a:ext cx="16920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41" name=""/>
            <p:cNvGrpSpPr/>
            <p:nvPr/>
          </p:nvGrpSpPr>
          <p:grpSpPr>
            <a:xfrm>
              <a:off x="7927920" y="4686480"/>
              <a:ext cx="1215720" cy="395280"/>
              <a:chOff x="7927920" y="4686480"/>
              <a:chExt cx="1215720" cy="395280"/>
            </a:xfrm>
          </p:grpSpPr>
          <p:sp>
            <p:nvSpPr>
              <p:cNvPr id="1442" name=""/>
              <p:cNvSpPr/>
              <p:nvPr/>
            </p:nvSpPr>
            <p:spPr>
              <a:xfrm>
                <a:off x="7927920" y="4686480"/>
                <a:ext cx="12157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3" name=""/>
              <p:cNvGrpSpPr/>
              <p:nvPr/>
            </p:nvGrpSpPr>
            <p:grpSpPr>
              <a:xfrm>
                <a:off x="7927920" y="4686480"/>
                <a:ext cx="1215720" cy="395280"/>
                <a:chOff x="7927920" y="4686480"/>
                <a:chExt cx="1215720" cy="395280"/>
              </a:xfrm>
            </p:grpSpPr>
            <p:sp>
              <p:nvSpPr>
                <p:cNvPr id="1444" name=""/>
                <p:cNvSpPr/>
                <p:nvPr/>
              </p:nvSpPr>
              <p:spPr>
                <a:xfrm>
                  <a:off x="7953120" y="4686480"/>
                  <a:ext cx="1164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7927920" y="4686480"/>
                  <a:ext cx="12157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46" name=""/>
            <p:cNvGrpSpPr/>
            <p:nvPr/>
          </p:nvGrpSpPr>
          <p:grpSpPr>
            <a:xfrm>
              <a:off x="0" y="5081760"/>
              <a:ext cx="512280" cy="395280"/>
              <a:chOff x="0" y="5081760"/>
              <a:chExt cx="512280" cy="395280"/>
            </a:xfrm>
          </p:grpSpPr>
          <p:sp>
            <p:nvSpPr>
              <p:cNvPr id="1447" name=""/>
              <p:cNvSpPr/>
              <p:nvPr/>
            </p:nvSpPr>
            <p:spPr>
              <a:xfrm>
                <a:off x="0" y="5081760"/>
                <a:ext cx="512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8" name=""/>
              <p:cNvGrpSpPr/>
              <p:nvPr/>
            </p:nvGrpSpPr>
            <p:grpSpPr>
              <a:xfrm>
                <a:off x="0" y="5081760"/>
                <a:ext cx="511920" cy="395280"/>
                <a:chOff x="0" y="5081760"/>
                <a:chExt cx="511920" cy="395280"/>
              </a:xfrm>
            </p:grpSpPr>
            <p:sp>
              <p:nvSpPr>
                <p:cNvPr id="1449" name=""/>
                <p:cNvSpPr/>
                <p:nvPr/>
              </p:nvSpPr>
              <p:spPr>
                <a:xfrm>
                  <a:off x="30600" y="5081760"/>
                  <a:ext cx="4503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0" y="5081760"/>
                  <a:ext cx="511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1" name=""/>
            <p:cNvGrpSpPr/>
            <p:nvPr/>
          </p:nvGrpSpPr>
          <p:grpSpPr>
            <a:xfrm>
              <a:off x="512640" y="5081760"/>
              <a:ext cx="1163160" cy="395280"/>
              <a:chOff x="512640" y="5081760"/>
              <a:chExt cx="1163160" cy="395280"/>
            </a:xfrm>
          </p:grpSpPr>
          <p:sp>
            <p:nvSpPr>
              <p:cNvPr id="1452" name=""/>
              <p:cNvSpPr/>
              <p:nvPr/>
            </p:nvSpPr>
            <p:spPr>
              <a:xfrm>
                <a:off x="512640" y="5081760"/>
                <a:ext cx="11631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3" name=""/>
              <p:cNvGrpSpPr/>
              <p:nvPr/>
            </p:nvGrpSpPr>
            <p:grpSpPr>
              <a:xfrm>
                <a:off x="512640" y="5081760"/>
                <a:ext cx="1162800" cy="395280"/>
                <a:chOff x="512640" y="5081760"/>
                <a:chExt cx="1162800" cy="39528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542880" y="5081760"/>
                  <a:ext cx="1101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512640" y="5081760"/>
                  <a:ext cx="11628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6" name=""/>
            <p:cNvGrpSpPr/>
            <p:nvPr/>
          </p:nvGrpSpPr>
          <p:grpSpPr>
            <a:xfrm>
              <a:off x="1676160" y="5081760"/>
              <a:ext cx="1244520" cy="395280"/>
              <a:chOff x="1676160" y="5081760"/>
              <a:chExt cx="1244520" cy="395280"/>
            </a:xfrm>
          </p:grpSpPr>
          <p:sp>
            <p:nvSpPr>
              <p:cNvPr id="1457" name=""/>
              <p:cNvSpPr/>
              <p:nvPr/>
            </p:nvSpPr>
            <p:spPr>
              <a:xfrm>
                <a:off x="1676160" y="5081760"/>
                <a:ext cx="12445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8" name=""/>
              <p:cNvGrpSpPr/>
              <p:nvPr/>
            </p:nvGrpSpPr>
            <p:grpSpPr>
              <a:xfrm>
                <a:off x="1676160" y="5081760"/>
                <a:ext cx="1244160" cy="395280"/>
                <a:chOff x="1676160" y="5081760"/>
                <a:chExt cx="1244160" cy="395280"/>
              </a:xfrm>
            </p:grpSpPr>
            <p:sp>
              <p:nvSpPr>
                <p:cNvPr id="1459" name=""/>
                <p:cNvSpPr/>
                <p:nvPr/>
              </p:nvSpPr>
              <p:spPr>
                <a:xfrm>
                  <a:off x="1706400" y="5081760"/>
                  <a:ext cx="118332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ollman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1676160" y="5081760"/>
                  <a:ext cx="12441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1" name=""/>
            <p:cNvGrpSpPr/>
            <p:nvPr/>
          </p:nvGrpSpPr>
          <p:grpSpPr>
            <a:xfrm>
              <a:off x="2921400" y="5081760"/>
              <a:ext cx="1160280" cy="395280"/>
              <a:chOff x="2921400" y="5081760"/>
              <a:chExt cx="1160280" cy="395280"/>
            </a:xfrm>
          </p:grpSpPr>
          <p:sp>
            <p:nvSpPr>
              <p:cNvPr id="1462" name=""/>
              <p:cNvSpPr/>
              <p:nvPr/>
            </p:nvSpPr>
            <p:spPr>
              <a:xfrm>
                <a:off x="2921400" y="5081760"/>
                <a:ext cx="1160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3" name=""/>
              <p:cNvGrpSpPr/>
              <p:nvPr/>
            </p:nvGrpSpPr>
            <p:grpSpPr>
              <a:xfrm>
                <a:off x="2921400" y="5081760"/>
                <a:ext cx="1159920" cy="395280"/>
                <a:chOff x="2921400" y="5081760"/>
                <a:chExt cx="1159920" cy="39528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2951640" y="508176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3.05.19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2921400" y="5081760"/>
                  <a:ext cx="1159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6" name=""/>
            <p:cNvGrpSpPr/>
            <p:nvPr/>
          </p:nvGrpSpPr>
          <p:grpSpPr>
            <a:xfrm>
              <a:off x="4082400" y="5081760"/>
              <a:ext cx="991800" cy="395280"/>
              <a:chOff x="4082400" y="5081760"/>
              <a:chExt cx="991800" cy="395280"/>
            </a:xfrm>
          </p:grpSpPr>
          <p:sp>
            <p:nvSpPr>
              <p:cNvPr id="1467" name=""/>
              <p:cNvSpPr/>
              <p:nvPr/>
            </p:nvSpPr>
            <p:spPr>
              <a:xfrm>
                <a:off x="4082400" y="5081760"/>
                <a:ext cx="99180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082400" y="5081760"/>
                <a:ext cx="991440" cy="395280"/>
                <a:chOff x="4082400" y="5081760"/>
                <a:chExt cx="991440" cy="39528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4112640" y="5081760"/>
                  <a:ext cx="93060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4082400" y="5081760"/>
                  <a:ext cx="99144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1" name=""/>
            <p:cNvGrpSpPr/>
            <p:nvPr/>
          </p:nvGrpSpPr>
          <p:grpSpPr>
            <a:xfrm>
              <a:off x="5074560" y="5081760"/>
              <a:ext cx="1159920" cy="395280"/>
              <a:chOff x="5074560" y="5081760"/>
              <a:chExt cx="1159920" cy="395280"/>
            </a:xfrm>
          </p:grpSpPr>
          <p:sp>
            <p:nvSpPr>
              <p:cNvPr id="1472" name=""/>
              <p:cNvSpPr/>
              <p:nvPr/>
            </p:nvSpPr>
            <p:spPr>
              <a:xfrm>
                <a:off x="5074560" y="5081760"/>
                <a:ext cx="11599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3" name=""/>
              <p:cNvGrpSpPr/>
              <p:nvPr/>
            </p:nvGrpSpPr>
            <p:grpSpPr>
              <a:xfrm>
                <a:off x="5074560" y="5081760"/>
                <a:ext cx="1159560" cy="395280"/>
                <a:chOff x="5074560" y="5081760"/>
                <a:chExt cx="1159560" cy="39528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5104800" y="508176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3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5074560" y="5081760"/>
                  <a:ext cx="11595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6" name=""/>
            <p:cNvGrpSpPr/>
            <p:nvPr/>
          </p:nvGrpSpPr>
          <p:grpSpPr>
            <a:xfrm>
              <a:off x="6235200" y="5081760"/>
              <a:ext cx="1692360" cy="395280"/>
              <a:chOff x="6235200" y="5081760"/>
              <a:chExt cx="1692360" cy="395280"/>
            </a:xfrm>
          </p:grpSpPr>
          <p:sp>
            <p:nvSpPr>
              <p:cNvPr id="1477" name=""/>
              <p:cNvSpPr/>
              <p:nvPr/>
            </p:nvSpPr>
            <p:spPr>
              <a:xfrm>
                <a:off x="6235200" y="5081760"/>
                <a:ext cx="16923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8" name=""/>
              <p:cNvGrpSpPr/>
              <p:nvPr/>
            </p:nvGrpSpPr>
            <p:grpSpPr>
              <a:xfrm>
                <a:off x="6235200" y="5081760"/>
                <a:ext cx="1692000" cy="395280"/>
                <a:chOff x="6235200" y="5081760"/>
                <a:chExt cx="1692000" cy="39528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6265800" y="5081760"/>
                  <a:ext cx="16311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olfsteinstr. 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235200" y="5081760"/>
                  <a:ext cx="16920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1" name=""/>
            <p:cNvGrpSpPr/>
            <p:nvPr/>
          </p:nvGrpSpPr>
          <p:grpSpPr>
            <a:xfrm>
              <a:off x="7927920" y="5081760"/>
              <a:ext cx="1215720" cy="395280"/>
              <a:chOff x="7927920" y="5081760"/>
              <a:chExt cx="1215720" cy="395280"/>
            </a:xfrm>
          </p:grpSpPr>
          <p:sp>
            <p:nvSpPr>
              <p:cNvPr id="1482" name=""/>
              <p:cNvSpPr/>
              <p:nvPr/>
            </p:nvSpPr>
            <p:spPr>
              <a:xfrm>
                <a:off x="7927920" y="5081760"/>
                <a:ext cx="12157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3" name=""/>
              <p:cNvGrpSpPr/>
              <p:nvPr/>
            </p:nvGrpSpPr>
            <p:grpSpPr>
              <a:xfrm>
                <a:off x="7927920" y="5081760"/>
                <a:ext cx="1215720" cy="395280"/>
                <a:chOff x="7927920" y="5081760"/>
                <a:chExt cx="1215720" cy="395280"/>
              </a:xfrm>
            </p:grpSpPr>
            <p:sp>
              <p:nvSpPr>
                <p:cNvPr id="1484" name=""/>
                <p:cNvSpPr/>
                <p:nvPr/>
              </p:nvSpPr>
              <p:spPr>
                <a:xfrm>
                  <a:off x="7953120" y="5081760"/>
                  <a:ext cx="1164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7927920" y="5081760"/>
                  <a:ext cx="12157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6" name=""/>
            <p:cNvGrpSpPr/>
            <p:nvPr/>
          </p:nvGrpSpPr>
          <p:grpSpPr>
            <a:xfrm>
              <a:off x="0" y="5477040"/>
              <a:ext cx="512280" cy="395280"/>
              <a:chOff x="0" y="5477040"/>
              <a:chExt cx="512280" cy="395280"/>
            </a:xfrm>
          </p:grpSpPr>
          <p:sp>
            <p:nvSpPr>
              <p:cNvPr id="1487" name=""/>
              <p:cNvSpPr/>
              <p:nvPr/>
            </p:nvSpPr>
            <p:spPr>
              <a:xfrm>
                <a:off x="0" y="5477040"/>
                <a:ext cx="512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8" name=""/>
              <p:cNvGrpSpPr/>
              <p:nvPr/>
            </p:nvGrpSpPr>
            <p:grpSpPr>
              <a:xfrm>
                <a:off x="0" y="5477040"/>
                <a:ext cx="511920" cy="395280"/>
                <a:chOff x="0" y="5477040"/>
                <a:chExt cx="511920" cy="3952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30600" y="5477040"/>
                  <a:ext cx="4503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0" y="5477040"/>
                  <a:ext cx="511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91" name=""/>
            <p:cNvGrpSpPr/>
            <p:nvPr/>
          </p:nvGrpSpPr>
          <p:grpSpPr>
            <a:xfrm>
              <a:off x="512640" y="5477040"/>
              <a:ext cx="1163160" cy="395280"/>
              <a:chOff x="512640" y="5477040"/>
              <a:chExt cx="1163160" cy="395280"/>
            </a:xfrm>
          </p:grpSpPr>
          <p:sp>
            <p:nvSpPr>
              <p:cNvPr id="1492" name=""/>
              <p:cNvSpPr/>
              <p:nvPr/>
            </p:nvSpPr>
            <p:spPr>
              <a:xfrm>
                <a:off x="512640" y="5477040"/>
                <a:ext cx="11631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3" name=""/>
              <p:cNvGrpSpPr/>
              <p:nvPr/>
            </p:nvGrpSpPr>
            <p:grpSpPr>
              <a:xfrm>
                <a:off x="512640" y="5477040"/>
                <a:ext cx="1162800" cy="395280"/>
                <a:chOff x="512640" y="5477040"/>
                <a:chExt cx="1162800" cy="39528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542880" y="5477040"/>
                  <a:ext cx="1101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fr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512640" y="5477040"/>
                  <a:ext cx="11628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96" name=""/>
            <p:cNvGrpSpPr/>
            <p:nvPr/>
          </p:nvGrpSpPr>
          <p:grpSpPr>
            <a:xfrm>
              <a:off x="1676160" y="5477040"/>
              <a:ext cx="1244520" cy="395280"/>
              <a:chOff x="1676160" y="5477040"/>
              <a:chExt cx="1244520" cy="395280"/>
            </a:xfrm>
          </p:grpSpPr>
          <p:sp>
            <p:nvSpPr>
              <p:cNvPr id="1497" name=""/>
              <p:cNvSpPr/>
              <p:nvPr/>
            </p:nvSpPr>
            <p:spPr>
              <a:xfrm>
                <a:off x="1676160" y="5477040"/>
                <a:ext cx="12445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8" name=""/>
              <p:cNvGrpSpPr/>
              <p:nvPr/>
            </p:nvGrpSpPr>
            <p:grpSpPr>
              <a:xfrm>
                <a:off x="1676160" y="5477040"/>
                <a:ext cx="1244160" cy="395280"/>
                <a:chOff x="1676160" y="5477040"/>
                <a:chExt cx="1244160" cy="395280"/>
              </a:xfrm>
            </p:grpSpPr>
            <p:sp>
              <p:nvSpPr>
                <p:cNvPr id="1499" name=""/>
                <p:cNvSpPr/>
                <p:nvPr/>
              </p:nvSpPr>
              <p:spPr>
                <a:xfrm>
                  <a:off x="1706400" y="5477040"/>
                  <a:ext cx="118332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chmid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1676160" y="5477040"/>
                  <a:ext cx="12441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01" name=""/>
            <p:cNvGrpSpPr/>
            <p:nvPr/>
          </p:nvGrpSpPr>
          <p:grpSpPr>
            <a:xfrm>
              <a:off x="2921400" y="5477040"/>
              <a:ext cx="1160280" cy="395280"/>
              <a:chOff x="2921400" y="5477040"/>
              <a:chExt cx="1160280" cy="395280"/>
            </a:xfrm>
          </p:grpSpPr>
          <p:sp>
            <p:nvSpPr>
              <p:cNvPr id="1502" name=""/>
              <p:cNvSpPr/>
              <p:nvPr/>
            </p:nvSpPr>
            <p:spPr>
              <a:xfrm>
                <a:off x="2921400" y="5477040"/>
                <a:ext cx="116028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3" name=""/>
              <p:cNvGrpSpPr/>
              <p:nvPr/>
            </p:nvGrpSpPr>
            <p:grpSpPr>
              <a:xfrm>
                <a:off x="2921400" y="5477040"/>
                <a:ext cx="1159920" cy="395280"/>
                <a:chOff x="2921400" y="5477040"/>
                <a:chExt cx="1159920" cy="395280"/>
              </a:xfrm>
            </p:grpSpPr>
            <p:sp>
              <p:nvSpPr>
                <p:cNvPr id="1504" name=""/>
                <p:cNvSpPr/>
                <p:nvPr/>
              </p:nvSpPr>
              <p:spPr>
                <a:xfrm>
                  <a:off x="2951640" y="547704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8.08.18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2921400" y="5477040"/>
                  <a:ext cx="11599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06" name=""/>
            <p:cNvGrpSpPr/>
            <p:nvPr/>
          </p:nvGrpSpPr>
          <p:grpSpPr>
            <a:xfrm>
              <a:off x="4082400" y="5477040"/>
              <a:ext cx="991800" cy="395280"/>
              <a:chOff x="4082400" y="5477040"/>
              <a:chExt cx="991800" cy="395280"/>
            </a:xfrm>
          </p:grpSpPr>
          <p:sp>
            <p:nvSpPr>
              <p:cNvPr id="1507" name=""/>
              <p:cNvSpPr/>
              <p:nvPr/>
            </p:nvSpPr>
            <p:spPr>
              <a:xfrm>
                <a:off x="4082400" y="5477040"/>
                <a:ext cx="99180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8" name=""/>
              <p:cNvGrpSpPr/>
              <p:nvPr/>
            </p:nvGrpSpPr>
            <p:grpSpPr>
              <a:xfrm>
                <a:off x="4082400" y="5477040"/>
                <a:ext cx="991440" cy="395280"/>
                <a:chOff x="4082400" y="5477040"/>
                <a:chExt cx="991440" cy="39528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4112640" y="5477040"/>
                  <a:ext cx="93060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4082400" y="5477040"/>
                  <a:ext cx="99144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1" name=""/>
            <p:cNvGrpSpPr/>
            <p:nvPr/>
          </p:nvGrpSpPr>
          <p:grpSpPr>
            <a:xfrm>
              <a:off x="5074560" y="5477040"/>
              <a:ext cx="1159920" cy="395280"/>
              <a:chOff x="5074560" y="5477040"/>
              <a:chExt cx="1159920" cy="395280"/>
            </a:xfrm>
          </p:grpSpPr>
          <p:sp>
            <p:nvSpPr>
              <p:cNvPr id="1512" name=""/>
              <p:cNvSpPr/>
              <p:nvPr/>
            </p:nvSpPr>
            <p:spPr>
              <a:xfrm>
                <a:off x="5074560" y="5477040"/>
                <a:ext cx="11599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3" name=""/>
              <p:cNvGrpSpPr/>
              <p:nvPr/>
            </p:nvGrpSpPr>
            <p:grpSpPr>
              <a:xfrm>
                <a:off x="5074560" y="5477040"/>
                <a:ext cx="1159560" cy="395280"/>
                <a:chOff x="5074560" y="5477040"/>
                <a:chExt cx="1159560" cy="395280"/>
              </a:xfrm>
            </p:grpSpPr>
            <p:sp>
              <p:nvSpPr>
                <p:cNvPr id="1514" name=""/>
                <p:cNvSpPr/>
                <p:nvPr/>
              </p:nvSpPr>
              <p:spPr>
                <a:xfrm>
                  <a:off x="5104800" y="5477040"/>
                  <a:ext cx="109908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3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5074560" y="5477040"/>
                  <a:ext cx="115956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6" name=""/>
            <p:cNvGrpSpPr/>
            <p:nvPr/>
          </p:nvGrpSpPr>
          <p:grpSpPr>
            <a:xfrm>
              <a:off x="6235200" y="5477040"/>
              <a:ext cx="1692360" cy="395280"/>
              <a:chOff x="6235200" y="5477040"/>
              <a:chExt cx="1692360" cy="395280"/>
            </a:xfrm>
          </p:grpSpPr>
          <p:sp>
            <p:nvSpPr>
              <p:cNvPr id="1517" name=""/>
              <p:cNvSpPr/>
              <p:nvPr/>
            </p:nvSpPr>
            <p:spPr>
              <a:xfrm>
                <a:off x="6235200" y="5477040"/>
                <a:ext cx="169236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8" name=""/>
              <p:cNvGrpSpPr/>
              <p:nvPr/>
            </p:nvGrpSpPr>
            <p:grpSpPr>
              <a:xfrm>
                <a:off x="6235200" y="5477040"/>
                <a:ext cx="1692000" cy="395280"/>
                <a:chOff x="6235200" y="5477040"/>
                <a:chExt cx="1692000" cy="395280"/>
              </a:xfrm>
            </p:grpSpPr>
            <p:sp>
              <p:nvSpPr>
                <p:cNvPr id="1519" name=""/>
                <p:cNvSpPr/>
                <p:nvPr/>
              </p:nvSpPr>
              <p:spPr>
                <a:xfrm>
                  <a:off x="6265800" y="5477040"/>
                  <a:ext cx="16311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üllerweg 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6235200" y="5477040"/>
                  <a:ext cx="169200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1" name=""/>
            <p:cNvGrpSpPr/>
            <p:nvPr/>
          </p:nvGrpSpPr>
          <p:grpSpPr>
            <a:xfrm>
              <a:off x="7927920" y="5477040"/>
              <a:ext cx="1215720" cy="395280"/>
              <a:chOff x="7927920" y="5477040"/>
              <a:chExt cx="1215720" cy="395280"/>
            </a:xfrm>
          </p:grpSpPr>
          <p:sp>
            <p:nvSpPr>
              <p:cNvPr id="1522" name=""/>
              <p:cNvSpPr/>
              <p:nvPr/>
            </p:nvSpPr>
            <p:spPr>
              <a:xfrm>
                <a:off x="7927920" y="5477040"/>
                <a:ext cx="1215720" cy="3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3" name=""/>
              <p:cNvGrpSpPr/>
              <p:nvPr/>
            </p:nvGrpSpPr>
            <p:grpSpPr>
              <a:xfrm>
                <a:off x="7927920" y="5477040"/>
                <a:ext cx="1215720" cy="395280"/>
                <a:chOff x="7927920" y="5477040"/>
                <a:chExt cx="1215720" cy="39528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7953120" y="5477040"/>
                  <a:ext cx="1164960" cy="395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7927920" y="5477040"/>
                  <a:ext cx="1215720" cy="39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26" name=""/>
          <p:cNvGrpSpPr/>
          <p:nvPr/>
        </p:nvGrpSpPr>
        <p:grpSpPr>
          <a:xfrm>
            <a:off x="3657600" y="533520"/>
            <a:ext cx="2065320" cy="2438280"/>
            <a:chOff x="3657600" y="533520"/>
            <a:chExt cx="2065320" cy="2438280"/>
          </a:xfrm>
        </p:grpSpPr>
        <p:grpSp>
          <p:nvGrpSpPr>
            <p:cNvPr id="1527" name=""/>
            <p:cNvGrpSpPr/>
            <p:nvPr/>
          </p:nvGrpSpPr>
          <p:grpSpPr>
            <a:xfrm>
              <a:off x="3657600" y="533520"/>
              <a:ext cx="963720" cy="304560"/>
              <a:chOff x="3657600" y="533520"/>
              <a:chExt cx="963720" cy="304560"/>
            </a:xfrm>
          </p:grpSpPr>
          <p:sp>
            <p:nvSpPr>
              <p:cNvPr id="1528" name=""/>
              <p:cNvSpPr/>
              <p:nvPr/>
            </p:nvSpPr>
            <p:spPr>
              <a:xfrm>
                <a:off x="3657600" y="533520"/>
                <a:ext cx="963720" cy="304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9" name=""/>
              <p:cNvGrpSpPr/>
              <p:nvPr/>
            </p:nvGrpSpPr>
            <p:grpSpPr>
              <a:xfrm>
                <a:off x="3657600" y="533520"/>
                <a:ext cx="963720" cy="304560"/>
                <a:chOff x="3657600" y="533520"/>
                <a:chExt cx="963720" cy="304560"/>
              </a:xfrm>
            </p:grpSpPr>
            <p:sp>
              <p:nvSpPr>
                <p:cNvPr id="1530" name=""/>
                <p:cNvSpPr/>
                <p:nvPr/>
              </p:nvSpPr>
              <p:spPr>
                <a:xfrm>
                  <a:off x="3683160" y="533520"/>
                  <a:ext cx="912600" cy="304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itgli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3657600" y="533520"/>
                  <a:ext cx="96372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2" name=""/>
            <p:cNvGrpSpPr/>
            <p:nvPr/>
          </p:nvGrpSpPr>
          <p:grpSpPr>
            <a:xfrm>
              <a:off x="4621320" y="533520"/>
              <a:ext cx="1101600" cy="304560"/>
              <a:chOff x="4621320" y="533520"/>
              <a:chExt cx="1101600" cy="304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4621320" y="533520"/>
                <a:ext cx="1101600" cy="304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4" name=""/>
              <p:cNvGrpSpPr/>
              <p:nvPr/>
            </p:nvGrpSpPr>
            <p:grpSpPr>
              <a:xfrm>
                <a:off x="4621320" y="533520"/>
                <a:ext cx="1101600" cy="304560"/>
                <a:chOff x="4621320" y="533520"/>
                <a:chExt cx="1101600" cy="304560"/>
              </a:xfrm>
            </p:grpSpPr>
            <p:sp>
              <p:nvSpPr>
                <p:cNvPr id="1535" name=""/>
                <p:cNvSpPr/>
                <p:nvPr/>
              </p:nvSpPr>
              <p:spPr>
                <a:xfrm>
                  <a:off x="4646520" y="533520"/>
                  <a:ext cx="1050840" cy="304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portar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4621320" y="533520"/>
                  <a:ext cx="110160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7" name=""/>
            <p:cNvGrpSpPr/>
            <p:nvPr/>
          </p:nvGrpSpPr>
          <p:grpSpPr>
            <a:xfrm>
              <a:off x="3657600" y="838080"/>
              <a:ext cx="963720" cy="304920"/>
              <a:chOff x="3657600" y="838080"/>
              <a:chExt cx="963720" cy="304920"/>
            </a:xfrm>
          </p:grpSpPr>
          <p:sp>
            <p:nvSpPr>
              <p:cNvPr id="1538" name=""/>
              <p:cNvSpPr/>
              <p:nvPr/>
            </p:nvSpPr>
            <p:spPr>
              <a:xfrm>
                <a:off x="3657600" y="838080"/>
                <a:ext cx="96372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9" name=""/>
              <p:cNvGrpSpPr/>
              <p:nvPr/>
            </p:nvGrpSpPr>
            <p:grpSpPr>
              <a:xfrm>
                <a:off x="3657600" y="838080"/>
                <a:ext cx="963720" cy="304920"/>
                <a:chOff x="3657600" y="838080"/>
                <a:chExt cx="963720" cy="304920"/>
              </a:xfrm>
            </p:grpSpPr>
            <p:sp>
              <p:nvSpPr>
                <p:cNvPr id="1540" name=""/>
                <p:cNvSpPr/>
                <p:nvPr/>
              </p:nvSpPr>
              <p:spPr>
                <a:xfrm>
                  <a:off x="3683160" y="838080"/>
                  <a:ext cx="91260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3657600" y="838080"/>
                  <a:ext cx="96372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42" name=""/>
            <p:cNvGrpSpPr/>
            <p:nvPr/>
          </p:nvGrpSpPr>
          <p:grpSpPr>
            <a:xfrm>
              <a:off x="4621320" y="838080"/>
              <a:ext cx="1101600" cy="304920"/>
              <a:chOff x="4621320" y="838080"/>
              <a:chExt cx="1101600" cy="304920"/>
            </a:xfrm>
          </p:grpSpPr>
          <p:sp>
            <p:nvSpPr>
              <p:cNvPr id="1543" name=""/>
              <p:cNvSpPr/>
              <p:nvPr/>
            </p:nvSpPr>
            <p:spPr>
              <a:xfrm>
                <a:off x="4621320" y="838080"/>
                <a:ext cx="11016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4" name=""/>
              <p:cNvGrpSpPr/>
              <p:nvPr/>
            </p:nvGrpSpPr>
            <p:grpSpPr>
              <a:xfrm>
                <a:off x="4621320" y="838080"/>
                <a:ext cx="1101600" cy="304920"/>
                <a:chOff x="4621320" y="838080"/>
                <a:chExt cx="1101600" cy="30492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4646520" y="838080"/>
                  <a:ext cx="105084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ußbal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4621320" y="838080"/>
                  <a:ext cx="110160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47" name=""/>
            <p:cNvGrpSpPr/>
            <p:nvPr/>
          </p:nvGrpSpPr>
          <p:grpSpPr>
            <a:xfrm>
              <a:off x="3657600" y="1143000"/>
              <a:ext cx="963720" cy="304560"/>
              <a:chOff x="3657600" y="1143000"/>
              <a:chExt cx="963720" cy="304560"/>
            </a:xfrm>
          </p:grpSpPr>
          <p:sp>
            <p:nvSpPr>
              <p:cNvPr id="1548" name=""/>
              <p:cNvSpPr/>
              <p:nvPr/>
            </p:nvSpPr>
            <p:spPr>
              <a:xfrm>
                <a:off x="3657600" y="1143000"/>
                <a:ext cx="96372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9" name=""/>
              <p:cNvGrpSpPr/>
              <p:nvPr/>
            </p:nvGrpSpPr>
            <p:grpSpPr>
              <a:xfrm>
                <a:off x="3657600" y="1143000"/>
                <a:ext cx="963720" cy="304560"/>
                <a:chOff x="3657600" y="1143000"/>
                <a:chExt cx="963720" cy="304560"/>
              </a:xfrm>
            </p:grpSpPr>
            <p:sp>
              <p:nvSpPr>
                <p:cNvPr id="1550" name=""/>
                <p:cNvSpPr/>
                <p:nvPr/>
              </p:nvSpPr>
              <p:spPr>
                <a:xfrm>
                  <a:off x="3683160" y="1143000"/>
                  <a:ext cx="91260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3657600" y="1143000"/>
                  <a:ext cx="96372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52" name=""/>
            <p:cNvGrpSpPr/>
            <p:nvPr/>
          </p:nvGrpSpPr>
          <p:grpSpPr>
            <a:xfrm>
              <a:off x="4621320" y="1143000"/>
              <a:ext cx="1101600" cy="304560"/>
              <a:chOff x="4621320" y="1143000"/>
              <a:chExt cx="1101600" cy="304560"/>
            </a:xfrm>
          </p:grpSpPr>
          <p:sp>
            <p:nvSpPr>
              <p:cNvPr id="1553" name=""/>
              <p:cNvSpPr/>
              <p:nvPr/>
            </p:nvSpPr>
            <p:spPr>
              <a:xfrm>
                <a:off x="4621320" y="1143000"/>
                <a:ext cx="110160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4" name=""/>
              <p:cNvGrpSpPr/>
              <p:nvPr/>
            </p:nvGrpSpPr>
            <p:grpSpPr>
              <a:xfrm>
                <a:off x="4621320" y="1143000"/>
                <a:ext cx="1101600" cy="304560"/>
                <a:chOff x="4621320" y="1143000"/>
                <a:chExt cx="1101600" cy="30456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4646520" y="1143000"/>
                  <a:ext cx="105084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ymnasti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4621320" y="1143000"/>
                  <a:ext cx="110160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57" name=""/>
            <p:cNvGrpSpPr/>
            <p:nvPr/>
          </p:nvGrpSpPr>
          <p:grpSpPr>
            <a:xfrm>
              <a:off x="3657600" y="1447920"/>
              <a:ext cx="963720" cy="304560"/>
              <a:chOff x="3657600" y="1447920"/>
              <a:chExt cx="963720" cy="304560"/>
            </a:xfrm>
          </p:grpSpPr>
          <p:sp>
            <p:nvSpPr>
              <p:cNvPr id="1558" name=""/>
              <p:cNvSpPr/>
              <p:nvPr/>
            </p:nvSpPr>
            <p:spPr>
              <a:xfrm>
                <a:off x="3657600" y="1447920"/>
                <a:ext cx="96372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9" name=""/>
              <p:cNvGrpSpPr/>
              <p:nvPr/>
            </p:nvGrpSpPr>
            <p:grpSpPr>
              <a:xfrm>
                <a:off x="3657600" y="1447920"/>
                <a:ext cx="963720" cy="304560"/>
                <a:chOff x="3657600" y="1447920"/>
                <a:chExt cx="963720" cy="304560"/>
              </a:xfrm>
            </p:grpSpPr>
            <p:sp>
              <p:nvSpPr>
                <p:cNvPr id="1560" name=""/>
                <p:cNvSpPr/>
                <p:nvPr/>
              </p:nvSpPr>
              <p:spPr>
                <a:xfrm>
                  <a:off x="3683160" y="1447920"/>
                  <a:ext cx="91260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3657600" y="1447920"/>
                  <a:ext cx="96372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2" name=""/>
            <p:cNvGrpSpPr/>
            <p:nvPr/>
          </p:nvGrpSpPr>
          <p:grpSpPr>
            <a:xfrm>
              <a:off x="4621320" y="1447920"/>
              <a:ext cx="1101600" cy="304560"/>
              <a:chOff x="4621320" y="1447920"/>
              <a:chExt cx="1101600" cy="304560"/>
            </a:xfrm>
          </p:grpSpPr>
          <p:sp>
            <p:nvSpPr>
              <p:cNvPr id="1563" name=""/>
              <p:cNvSpPr/>
              <p:nvPr/>
            </p:nvSpPr>
            <p:spPr>
              <a:xfrm>
                <a:off x="4621320" y="1447920"/>
                <a:ext cx="110160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4" name=""/>
              <p:cNvGrpSpPr/>
              <p:nvPr/>
            </p:nvGrpSpPr>
            <p:grpSpPr>
              <a:xfrm>
                <a:off x="4621320" y="1447920"/>
                <a:ext cx="1101600" cy="304560"/>
                <a:chOff x="4621320" y="1447920"/>
                <a:chExt cx="1101600" cy="304560"/>
              </a:xfrm>
            </p:grpSpPr>
            <p:sp>
              <p:nvSpPr>
                <p:cNvPr id="1565" name=""/>
                <p:cNvSpPr/>
                <p:nvPr/>
              </p:nvSpPr>
              <p:spPr>
                <a:xfrm>
                  <a:off x="4646520" y="1447920"/>
                  <a:ext cx="105084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olf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4621320" y="1447920"/>
                  <a:ext cx="110160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7" name=""/>
            <p:cNvGrpSpPr/>
            <p:nvPr/>
          </p:nvGrpSpPr>
          <p:grpSpPr>
            <a:xfrm>
              <a:off x="3657600" y="1752480"/>
              <a:ext cx="963720" cy="304920"/>
              <a:chOff x="3657600" y="1752480"/>
              <a:chExt cx="963720" cy="304920"/>
            </a:xfrm>
          </p:grpSpPr>
          <p:sp>
            <p:nvSpPr>
              <p:cNvPr id="1568" name=""/>
              <p:cNvSpPr/>
              <p:nvPr/>
            </p:nvSpPr>
            <p:spPr>
              <a:xfrm>
                <a:off x="3657600" y="1752480"/>
                <a:ext cx="96372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9" name=""/>
              <p:cNvGrpSpPr/>
              <p:nvPr/>
            </p:nvGrpSpPr>
            <p:grpSpPr>
              <a:xfrm>
                <a:off x="3657600" y="1752480"/>
                <a:ext cx="963720" cy="304920"/>
                <a:chOff x="3657600" y="1752480"/>
                <a:chExt cx="963720" cy="30492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3683160" y="1752480"/>
                  <a:ext cx="91260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3657600" y="1752480"/>
                  <a:ext cx="96372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2" name=""/>
            <p:cNvGrpSpPr/>
            <p:nvPr/>
          </p:nvGrpSpPr>
          <p:grpSpPr>
            <a:xfrm>
              <a:off x="4621320" y="1752480"/>
              <a:ext cx="1101600" cy="304920"/>
              <a:chOff x="4621320" y="1752480"/>
              <a:chExt cx="1101600" cy="304920"/>
            </a:xfrm>
          </p:grpSpPr>
          <p:sp>
            <p:nvSpPr>
              <p:cNvPr id="1573" name=""/>
              <p:cNvSpPr/>
              <p:nvPr/>
            </p:nvSpPr>
            <p:spPr>
              <a:xfrm>
                <a:off x="4621320" y="1752480"/>
                <a:ext cx="11016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4621320" y="1752480"/>
                <a:ext cx="1101600" cy="304920"/>
                <a:chOff x="4621320" y="1752480"/>
                <a:chExt cx="1101600" cy="30492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4646520" y="1752480"/>
                  <a:ext cx="105084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ymnasti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4621320" y="1752480"/>
                  <a:ext cx="110160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7" name=""/>
            <p:cNvGrpSpPr/>
            <p:nvPr/>
          </p:nvGrpSpPr>
          <p:grpSpPr>
            <a:xfrm>
              <a:off x="3657600" y="2057400"/>
              <a:ext cx="963720" cy="304560"/>
              <a:chOff x="3657600" y="2057400"/>
              <a:chExt cx="963720" cy="304560"/>
            </a:xfrm>
          </p:grpSpPr>
          <p:sp>
            <p:nvSpPr>
              <p:cNvPr id="1578" name=""/>
              <p:cNvSpPr/>
              <p:nvPr/>
            </p:nvSpPr>
            <p:spPr>
              <a:xfrm>
                <a:off x="3657600" y="2057400"/>
                <a:ext cx="96372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9" name=""/>
              <p:cNvGrpSpPr/>
              <p:nvPr/>
            </p:nvGrpSpPr>
            <p:grpSpPr>
              <a:xfrm>
                <a:off x="3657600" y="2057400"/>
                <a:ext cx="963720" cy="304560"/>
                <a:chOff x="3657600" y="2057400"/>
                <a:chExt cx="963720" cy="304560"/>
              </a:xfrm>
            </p:grpSpPr>
            <p:sp>
              <p:nvSpPr>
                <p:cNvPr id="1580" name=""/>
                <p:cNvSpPr/>
                <p:nvPr/>
              </p:nvSpPr>
              <p:spPr>
                <a:xfrm>
                  <a:off x="3683160" y="2057400"/>
                  <a:ext cx="91260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3657600" y="2057400"/>
                  <a:ext cx="96372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82" name=""/>
            <p:cNvGrpSpPr/>
            <p:nvPr/>
          </p:nvGrpSpPr>
          <p:grpSpPr>
            <a:xfrm>
              <a:off x="4621320" y="2057400"/>
              <a:ext cx="1101600" cy="304560"/>
              <a:chOff x="4621320" y="2057400"/>
              <a:chExt cx="1101600" cy="304560"/>
            </a:xfrm>
          </p:grpSpPr>
          <p:sp>
            <p:nvSpPr>
              <p:cNvPr id="1583" name=""/>
              <p:cNvSpPr/>
              <p:nvPr/>
            </p:nvSpPr>
            <p:spPr>
              <a:xfrm>
                <a:off x="4621320" y="2057400"/>
                <a:ext cx="110160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4" name=""/>
              <p:cNvGrpSpPr/>
              <p:nvPr/>
            </p:nvGrpSpPr>
            <p:grpSpPr>
              <a:xfrm>
                <a:off x="4621320" y="2057400"/>
                <a:ext cx="1101600" cy="304560"/>
                <a:chOff x="4621320" y="2057400"/>
                <a:chExt cx="1101600" cy="30456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4646520" y="2057400"/>
                  <a:ext cx="105084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olf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4621320" y="2057400"/>
                  <a:ext cx="110160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87" name=""/>
            <p:cNvGrpSpPr/>
            <p:nvPr/>
          </p:nvGrpSpPr>
          <p:grpSpPr>
            <a:xfrm>
              <a:off x="3657600" y="2362320"/>
              <a:ext cx="963720" cy="304560"/>
              <a:chOff x="3657600" y="2362320"/>
              <a:chExt cx="963720" cy="304560"/>
            </a:xfrm>
          </p:grpSpPr>
          <p:sp>
            <p:nvSpPr>
              <p:cNvPr id="1588" name=""/>
              <p:cNvSpPr/>
              <p:nvPr/>
            </p:nvSpPr>
            <p:spPr>
              <a:xfrm>
                <a:off x="3657600" y="2362320"/>
                <a:ext cx="96372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9" name=""/>
              <p:cNvGrpSpPr/>
              <p:nvPr/>
            </p:nvGrpSpPr>
            <p:grpSpPr>
              <a:xfrm>
                <a:off x="3657600" y="2362320"/>
                <a:ext cx="963720" cy="304560"/>
                <a:chOff x="3657600" y="2362320"/>
                <a:chExt cx="963720" cy="304560"/>
              </a:xfrm>
            </p:grpSpPr>
            <p:sp>
              <p:nvSpPr>
                <p:cNvPr id="1590" name=""/>
                <p:cNvSpPr/>
                <p:nvPr/>
              </p:nvSpPr>
              <p:spPr>
                <a:xfrm>
                  <a:off x="3683160" y="2362320"/>
                  <a:ext cx="91260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3657600" y="2362320"/>
                  <a:ext cx="96372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2" name=""/>
            <p:cNvGrpSpPr/>
            <p:nvPr/>
          </p:nvGrpSpPr>
          <p:grpSpPr>
            <a:xfrm>
              <a:off x="4621320" y="2362320"/>
              <a:ext cx="1101600" cy="304560"/>
              <a:chOff x="4621320" y="2362320"/>
              <a:chExt cx="1101600" cy="304560"/>
            </a:xfrm>
          </p:grpSpPr>
          <p:sp>
            <p:nvSpPr>
              <p:cNvPr id="1593" name=""/>
              <p:cNvSpPr/>
              <p:nvPr/>
            </p:nvSpPr>
            <p:spPr>
              <a:xfrm>
                <a:off x="4621320" y="2362320"/>
                <a:ext cx="110160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4" name=""/>
              <p:cNvGrpSpPr/>
              <p:nvPr/>
            </p:nvGrpSpPr>
            <p:grpSpPr>
              <a:xfrm>
                <a:off x="4621320" y="2362320"/>
                <a:ext cx="1101600" cy="304560"/>
                <a:chOff x="4621320" y="2362320"/>
                <a:chExt cx="1101600" cy="30456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4646520" y="2362320"/>
                  <a:ext cx="1050840" cy="304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ymnasti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4621320" y="2362320"/>
                  <a:ext cx="1101600" cy="30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7" name=""/>
            <p:cNvGrpSpPr/>
            <p:nvPr/>
          </p:nvGrpSpPr>
          <p:grpSpPr>
            <a:xfrm>
              <a:off x="3657600" y="2666880"/>
              <a:ext cx="963720" cy="304920"/>
              <a:chOff x="3657600" y="2666880"/>
              <a:chExt cx="963720" cy="304920"/>
            </a:xfrm>
          </p:grpSpPr>
          <p:sp>
            <p:nvSpPr>
              <p:cNvPr id="1598" name=""/>
              <p:cNvSpPr/>
              <p:nvPr/>
            </p:nvSpPr>
            <p:spPr>
              <a:xfrm>
                <a:off x="3657600" y="2666880"/>
                <a:ext cx="96372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9" name=""/>
              <p:cNvGrpSpPr/>
              <p:nvPr/>
            </p:nvGrpSpPr>
            <p:grpSpPr>
              <a:xfrm>
                <a:off x="3657600" y="2666880"/>
                <a:ext cx="963720" cy="304920"/>
                <a:chOff x="3657600" y="2666880"/>
                <a:chExt cx="963720" cy="304920"/>
              </a:xfrm>
            </p:grpSpPr>
            <p:sp>
              <p:nvSpPr>
                <p:cNvPr id="1600" name=""/>
                <p:cNvSpPr/>
                <p:nvPr/>
              </p:nvSpPr>
              <p:spPr>
                <a:xfrm>
                  <a:off x="3683160" y="2666880"/>
                  <a:ext cx="91260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3657600" y="2666880"/>
                  <a:ext cx="96372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2" name=""/>
            <p:cNvGrpSpPr/>
            <p:nvPr/>
          </p:nvGrpSpPr>
          <p:grpSpPr>
            <a:xfrm>
              <a:off x="4621320" y="2666880"/>
              <a:ext cx="1101600" cy="304920"/>
              <a:chOff x="4621320" y="2666880"/>
              <a:chExt cx="1101600" cy="304920"/>
            </a:xfrm>
          </p:grpSpPr>
          <p:sp>
            <p:nvSpPr>
              <p:cNvPr id="1603" name=""/>
              <p:cNvSpPr/>
              <p:nvPr/>
            </p:nvSpPr>
            <p:spPr>
              <a:xfrm>
                <a:off x="4621320" y="2666880"/>
                <a:ext cx="11016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4" name=""/>
              <p:cNvGrpSpPr/>
              <p:nvPr/>
            </p:nvGrpSpPr>
            <p:grpSpPr>
              <a:xfrm>
                <a:off x="4621320" y="2666880"/>
                <a:ext cx="1101600" cy="304920"/>
                <a:chOff x="4621320" y="2666880"/>
                <a:chExt cx="1101600" cy="304920"/>
              </a:xfrm>
            </p:grpSpPr>
            <p:sp>
              <p:nvSpPr>
                <p:cNvPr id="1605" name=""/>
                <p:cNvSpPr/>
                <p:nvPr/>
              </p:nvSpPr>
              <p:spPr>
                <a:xfrm>
                  <a:off x="4646520" y="2666880"/>
                  <a:ext cx="105084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ymnasti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4621320" y="2666880"/>
                  <a:ext cx="1101600" cy="30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9:12:28Z</dcterms:created>
  <dc:creator/>
  <dc:description/>
  <dc:language>en-US</dc:language>
  <cp:lastModifiedBy>Scheungrab</cp:lastModifiedBy>
  <dcterms:modified xsi:type="dcterms:W3CDTF">2007-01-08T16:56:03Z</dcterms:modified>
  <cp:revision>11</cp:revision>
  <dc:subject/>
  <dc:title/>
</cp:coreProperties>
</file>